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41EF-2816-484B-9C7F-4892CFE2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8329-2974-47BC-A6BE-26E2A1F3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FC9A-6730-45CC-9EBC-31CBD3FF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19C5-9F98-48FF-BC3F-10B6F668F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3318-6559-4DCD-B807-BBA99E00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51DA-1F30-4C88-8E36-B935548D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D525-0E57-4185-AE82-A003E1E8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B1B4-1A46-4AA0-9DF0-BF772C06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4D67-0B7E-4EB0-A518-F8E6DB6F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6110-38D2-472C-868B-FE8E94D7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940C-79A2-4863-A7CB-FC590F79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E02E-C41F-47F1-9584-19597E5A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DAB6-521C-4229-896A-E053EDB28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7240" y="2214720"/>
            <a:ext cx="304920" cy="607680"/>
          </a:xfrm>
          <a:custGeom>
            <a:avLst/>
            <a:gdLst/>
            <a:ahLst/>
            <a:rect l="l" t="t" r="r" b="b"/>
            <a:pathLst>
              <a:path w="844" h="1687">
                <a:moveTo>
                  <a:pt x="2183" y="6573"/>
                </a:moveTo>
                <a:cubicBezTo>
                  <a:pt x="2183" y="6618"/>
                  <a:pt x="2205" y="6632"/>
                  <a:pt x="2208" y="6672"/>
                </a:cubicBezTo>
                <a:cubicBezTo>
                  <a:pt x="2213" y="6742"/>
                  <a:pt x="2163" y="6798"/>
                  <a:pt x="2183" y="6871"/>
                </a:cubicBezTo>
                <a:cubicBezTo>
                  <a:pt x="2207" y="6956"/>
                  <a:pt x="2208" y="7028"/>
                  <a:pt x="2208" y="7119"/>
                </a:cubicBezTo>
                <a:cubicBezTo>
                  <a:pt x="2208" y="7317"/>
                  <a:pt x="2227" y="7526"/>
                  <a:pt x="2183" y="7714"/>
                </a:cubicBezTo>
                <a:cubicBezTo>
                  <a:pt x="2169" y="7773"/>
                  <a:pt x="2158" y="7724"/>
                  <a:pt x="2158" y="7689"/>
                </a:cubicBezTo>
              </a:path>
              <a:path w="844" h="1687">
                <a:moveTo>
                  <a:pt x="1910" y="6152"/>
                </a:moveTo>
                <a:cubicBezTo>
                  <a:pt x="2037" y="6165"/>
                  <a:pt x="2066" y="6182"/>
                  <a:pt x="2183" y="6226"/>
                </a:cubicBezTo>
                <a:cubicBezTo>
                  <a:pt x="2286" y="6265"/>
                  <a:pt x="2373" y="6327"/>
                  <a:pt x="2456" y="6400"/>
                </a:cubicBezTo>
                <a:cubicBezTo>
                  <a:pt x="2580" y="6509"/>
                  <a:pt x="2682" y="6637"/>
                  <a:pt x="2729" y="6796"/>
                </a:cubicBezTo>
                <a:cubicBezTo>
                  <a:pt x="2762" y="6907"/>
                  <a:pt x="2770" y="7054"/>
                  <a:pt x="2753" y="7169"/>
                </a:cubicBezTo>
                <a:cubicBezTo>
                  <a:pt x="2735" y="7291"/>
                  <a:pt x="2668" y="7413"/>
                  <a:pt x="2604" y="7516"/>
                </a:cubicBezTo>
                <a:cubicBezTo>
                  <a:pt x="2556" y="7593"/>
                  <a:pt x="2511" y="7693"/>
                  <a:pt x="2456" y="7764"/>
                </a:cubicBezTo>
                <a:cubicBezTo>
                  <a:pt x="2445" y="7778"/>
                  <a:pt x="2381" y="7845"/>
                  <a:pt x="2381" y="7838"/>
                </a:cubicBezTo>
                <a:cubicBezTo>
                  <a:pt x="2406" y="7838"/>
                  <a:pt x="2414" y="7838"/>
                  <a:pt x="2406" y="781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47840" y="2152800"/>
            <a:ext cx="2938320" cy="642960"/>
          </a:xfrm>
          <a:custGeom>
            <a:avLst/>
            <a:gdLst/>
            <a:ahLst/>
            <a:rect l="l" t="t" r="r" b="b"/>
            <a:pathLst>
              <a:path w="8161" h="1787">
                <a:moveTo>
                  <a:pt x="4018" y="6251"/>
                </a:moveTo>
                <a:cubicBezTo>
                  <a:pt x="4074" y="6251"/>
                  <a:pt x="4213" y="6220"/>
                  <a:pt x="4242" y="6276"/>
                </a:cubicBezTo>
                <a:cubicBezTo>
                  <a:pt x="4266" y="6323"/>
                  <a:pt x="4230" y="6361"/>
                  <a:pt x="4192" y="6375"/>
                </a:cubicBezTo>
                <a:cubicBezTo>
                  <a:pt x="4158" y="6387"/>
                  <a:pt x="4126" y="6413"/>
                  <a:pt x="4093" y="6424"/>
                </a:cubicBezTo>
                <a:cubicBezTo>
                  <a:pt x="4049" y="6438"/>
                  <a:pt x="4030" y="6424"/>
                  <a:pt x="4093" y="6424"/>
                </a:cubicBezTo>
                <a:cubicBezTo>
                  <a:pt x="4156" y="6424"/>
                  <a:pt x="4191" y="6421"/>
                  <a:pt x="4242" y="6449"/>
                </a:cubicBezTo>
                <a:cubicBezTo>
                  <a:pt x="4286" y="6473"/>
                  <a:pt x="4352" y="6477"/>
                  <a:pt x="4316" y="6548"/>
                </a:cubicBezTo>
                <a:cubicBezTo>
                  <a:pt x="4295" y="6590"/>
                  <a:pt x="4282" y="6606"/>
                  <a:pt x="4242" y="6623"/>
                </a:cubicBezTo>
                <a:cubicBezTo>
                  <a:pt x="4211" y="6637"/>
                  <a:pt x="4147" y="6666"/>
                  <a:pt x="4118" y="6672"/>
                </a:cubicBezTo>
                <a:cubicBezTo>
                  <a:pt x="4076" y="6672"/>
                  <a:pt x="4068" y="6672"/>
                  <a:pt x="4043" y="6672"/>
                </a:cubicBezTo>
              </a:path>
              <a:path w="8161" h="1787">
                <a:moveTo>
                  <a:pt x="3746" y="6697"/>
                </a:moveTo>
                <a:cubicBezTo>
                  <a:pt x="3778" y="6726"/>
                  <a:pt x="3820" y="6729"/>
                  <a:pt x="3845" y="6772"/>
                </a:cubicBezTo>
                <a:cubicBezTo>
                  <a:pt x="3870" y="6813"/>
                  <a:pt x="3894" y="6893"/>
                  <a:pt x="3919" y="6945"/>
                </a:cubicBezTo>
                <a:cubicBezTo>
                  <a:pt x="3955" y="7019"/>
                  <a:pt x="3989" y="7092"/>
                  <a:pt x="4018" y="7169"/>
                </a:cubicBezTo>
                <a:cubicBezTo>
                  <a:pt x="4054" y="7263"/>
                  <a:pt x="4074" y="7347"/>
                  <a:pt x="4093" y="7441"/>
                </a:cubicBezTo>
                <a:cubicBezTo>
                  <a:pt x="4108" y="7514"/>
                  <a:pt x="4122" y="7593"/>
                  <a:pt x="4142" y="7665"/>
                </a:cubicBezTo>
                <a:cubicBezTo>
                  <a:pt x="4153" y="7705"/>
                  <a:pt x="4172" y="7797"/>
                  <a:pt x="4192" y="7739"/>
                </a:cubicBezTo>
                <a:cubicBezTo>
                  <a:pt x="4209" y="7687"/>
                  <a:pt x="4223" y="7645"/>
                  <a:pt x="4242" y="7590"/>
                </a:cubicBezTo>
                <a:cubicBezTo>
                  <a:pt x="4267" y="7516"/>
                  <a:pt x="4296" y="7422"/>
                  <a:pt x="4316" y="7342"/>
                </a:cubicBezTo>
                <a:cubicBezTo>
                  <a:pt x="4340" y="7245"/>
                  <a:pt x="4361" y="7143"/>
                  <a:pt x="4390" y="7045"/>
                </a:cubicBezTo>
                <a:cubicBezTo>
                  <a:pt x="4415" y="6960"/>
                  <a:pt x="4449" y="6858"/>
                  <a:pt x="4465" y="6772"/>
                </a:cubicBezTo>
                <a:cubicBezTo>
                  <a:pt x="4485" y="6662"/>
                  <a:pt x="4512" y="6555"/>
                  <a:pt x="4539" y="6449"/>
                </a:cubicBezTo>
                <a:cubicBezTo>
                  <a:pt x="4554" y="6389"/>
                  <a:pt x="4581" y="6311"/>
                  <a:pt x="4589" y="6251"/>
                </a:cubicBezTo>
                <a:cubicBezTo>
                  <a:pt x="4596" y="6200"/>
                  <a:pt x="4599" y="6170"/>
                  <a:pt x="4614" y="6127"/>
                </a:cubicBezTo>
                <a:cubicBezTo>
                  <a:pt x="4618" y="6114"/>
                  <a:pt x="4638" y="6060"/>
                  <a:pt x="4663" y="6052"/>
                </a:cubicBezTo>
                <a:cubicBezTo>
                  <a:pt x="4893" y="5975"/>
                  <a:pt x="5265" y="6051"/>
                  <a:pt x="5507" y="6028"/>
                </a:cubicBezTo>
                <a:cubicBezTo>
                  <a:pt x="5655" y="6014"/>
                  <a:pt x="5808" y="6018"/>
                  <a:pt x="5953" y="6003"/>
                </a:cubicBezTo>
                <a:cubicBezTo>
                  <a:pt x="6002" y="5998"/>
                  <a:pt x="6169" y="5973"/>
                  <a:pt x="6201" y="5978"/>
                </a:cubicBezTo>
                <a:cubicBezTo>
                  <a:pt x="6229" y="5978"/>
                  <a:pt x="6235" y="5980"/>
                  <a:pt x="6201" y="6003"/>
                </a:cubicBezTo>
              </a:path>
              <a:path w="8161" h="1787">
                <a:moveTo>
                  <a:pt x="4936" y="6921"/>
                </a:moveTo>
                <a:cubicBezTo>
                  <a:pt x="4972" y="6934"/>
                  <a:pt x="4994" y="6943"/>
                  <a:pt x="5035" y="6945"/>
                </a:cubicBezTo>
                <a:cubicBezTo>
                  <a:pt x="5094" y="6948"/>
                  <a:pt x="5115" y="6923"/>
                  <a:pt x="5159" y="6896"/>
                </a:cubicBezTo>
                <a:cubicBezTo>
                  <a:pt x="5228" y="6855"/>
                  <a:pt x="5237" y="6834"/>
                  <a:pt x="5283" y="6772"/>
                </a:cubicBezTo>
                <a:cubicBezTo>
                  <a:pt x="5319" y="6724"/>
                  <a:pt x="5347" y="6682"/>
                  <a:pt x="5358" y="6623"/>
                </a:cubicBezTo>
                <a:cubicBezTo>
                  <a:pt x="5367" y="6575"/>
                  <a:pt x="5363" y="6533"/>
                  <a:pt x="5333" y="6499"/>
                </a:cubicBezTo>
                <a:cubicBezTo>
                  <a:pt x="5276" y="6433"/>
                  <a:pt x="5262" y="6407"/>
                  <a:pt x="5184" y="6449"/>
                </a:cubicBezTo>
                <a:cubicBezTo>
                  <a:pt x="5152" y="6466"/>
                  <a:pt x="5080" y="6520"/>
                  <a:pt x="5060" y="6548"/>
                </a:cubicBezTo>
                <a:cubicBezTo>
                  <a:pt x="5027" y="6593"/>
                  <a:pt x="4983" y="6673"/>
                  <a:pt x="4961" y="6722"/>
                </a:cubicBezTo>
                <a:cubicBezTo>
                  <a:pt x="4913" y="6827"/>
                  <a:pt x="4881" y="6939"/>
                  <a:pt x="4837" y="7045"/>
                </a:cubicBezTo>
                <a:cubicBezTo>
                  <a:pt x="4810" y="7111"/>
                  <a:pt x="4794" y="7219"/>
                  <a:pt x="4812" y="7293"/>
                </a:cubicBezTo>
                <a:cubicBezTo>
                  <a:pt x="4825" y="7345"/>
                  <a:pt x="4894" y="7413"/>
                  <a:pt x="4936" y="7441"/>
                </a:cubicBezTo>
                <a:cubicBezTo>
                  <a:pt x="5021" y="7497"/>
                  <a:pt x="5094" y="7472"/>
                  <a:pt x="5184" y="7491"/>
                </a:cubicBezTo>
                <a:cubicBezTo>
                  <a:pt x="5285" y="7512"/>
                  <a:pt x="5311" y="7496"/>
                  <a:pt x="5407" y="7491"/>
                </a:cubicBezTo>
                <a:cubicBezTo>
                  <a:pt x="5440" y="7489"/>
                  <a:pt x="5451" y="7454"/>
                  <a:pt x="5482" y="7466"/>
                </a:cubicBezTo>
                <a:cubicBezTo>
                  <a:pt x="5482" y="7474"/>
                  <a:pt x="5482" y="7483"/>
                  <a:pt x="5482" y="7491"/>
                </a:cubicBezTo>
              </a:path>
              <a:path w="8161" h="1787">
                <a:moveTo>
                  <a:pt x="6598" y="6722"/>
                </a:moveTo>
                <a:cubicBezTo>
                  <a:pt x="6604" y="6699"/>
                  <a:pt x="6640" y="6650"/>
                  <a:pt x="6648" y="6648"/>
                </a:cubicBezTo>
                <a:cubicBezTo>
                  <a:pt x="6692" y="6636"/>
                  <a:pt x="6725" y="6623"/>
                  <a:pt x="6772" y="6623"/>
                </a:cubicBezTo>
                <a:cubicBezTo>
                  <a:pt x="6849" y="6623"/>
                  <a:pt x="6903" y="6637"/>
                  <a:pt x="6970" y="6672"/>
                </a:cubicBezTo>
                <a:cubicBezTo>
                  <a:pt x="7023" y="6700"/>
                  <a:pt x="7087" y="6728"/>
                  <a:pt x="7144" y="6747"/>
                </a:cubicBezTo>
                <a:cubicBezTo>
                  <a:pt x="7196" y="6764"/>
                  <a:pt x="7236" y="6772"/>
                  <a:pt x="7293" y="6772"/>
                </a:cubicBezTo>
                <a:cubicBezTo>
                  <a:pt x="7350" y="6772"/>
                  <a:pt x="7371" y="6763"/>
                  <a:pt x="7417" y="6747"/>
                </a:cubicBezTo>
                <a:cubicBezTo>
                  <a:pt x="7441" y="6747"/>
                  <a:pt x="7449" y="6747"/>
                  <a:pt x="7441" y="6722"/>
                </a:cubicBezTo>
              </a:path>
              <a:path w="8161" h="1787">
                <a:moveTo>
                  <a:pt x="6598" y="7069"/>
                </a:moveTo>
                <a:cubicBezTo>
                  <a:pt x="6641" y="7027"/>
                  <a:pt x="6649" y="7037"/>
                  <a:pt x="6697" y="7020"/>
                </a:cubicBezTo>
                <a:cubicBezTo>
                  <a:pt x="6741" y="7004"/>
                  <a:pt x="6793" y="7004"/>
                  <a:pt x="6846" y="7020"/>
                </a:cubicBezTo>
                <a:cubicBezTo>
                  <a:pt x="6904" y="7037"/>
                  <a:pt x="6973" y="7068"/>
                  <a:pt x="7020" y="7094"/>
                </a:cubicBezTo>
                <a:cubicBezTo>
                  <a:pt x="7073" y="7123"/>
                  <a:pt x="7135" y="7154"/>
                  <a:pt x="7193" y="7169"/>
                </a:cubicBezTo>
                <a:cubicBezTo>
                  <a:pt x="7219" y="7176"/>
                  <a:pt x="7261" y="7210"/>
                  <a:pt x="7293" y="7193"/>
                </a:cubicBezTo>
                <a:cubicBezTo>
                  <a:pt x="7331" y="7173"/>
                  <a:pt x="7322" y="7169"/>
                  <a:pt x="7367" y="7169"/>
                </a:cubicBezTo>
              </a:path>
              <a:path w="8161" h="1787">
                <a:moveTo>
                  <a:pt x="7987" y="6176"/>
                </a:moveTo>
                <a:cubicBezTo>
                  <a:pt x="7987" y="6242"/>
                  <a:pt x="7966" y="6286"/>
                  <a:pt x="7962" y="6350"/>
                </a:cubicBezTo>
                <a:cubicBezTo>
                  <a:pt x="7957" y="6432"/>
                  <a:pt x="7983" y="6493"/>
                  <a:pt x="7987" y="6573"/>
                </a:cubicBezTo>
                <a:cubicBezTo>
                  <a:pt x="7992" y="6688"/>
                  <a:pt x="7962" y="6804"/>
                  <a:pt x="7962" y="6921"/>
                </a:cubicBezTo>
                <a:cubicBezTo>
                  <a:pt x="7962" y="7020"/>
                  <a:pt x="7951" y="7099"/>
                  <a:pt x="7938" y="7193"/>
                </a:cubicBezTo>
                <a:cubicBezTo>
                  <a:pt x="7925" y="7290"/>
                  <a:pt x="7942" y="7380"/>
                  <a:pt x="7913" y="7466"/>
                </a:cubicBezTo>
                <a:cubicBezTo>
                  <a:pt x="7913" y="7474"/>
                  <a:pt x="7913" y="7483"/>
                  <a:pt x="7913" y="7491"/>
                </a:cubicBezTo>
              </a:path>
              <a:path w="8161" h="1787">
                <a:moveTo>
                  <a:pt x="8210" y="7417"/>
                </a:moveTo>
                <a:cubicBezTo>
                  <a:pt x="8188" y="7394"/>
                  <a:pt x="8183" y="7386"/>
                  <a:pt x="8161" y="7392"/>
                </a:cubicBezTo>
              </a:path>
              <a:path w="8161" h="1787">
                <a:moveTo>
                  <a:pt x="8657" y="6251"/>
                </a:moveTo>
                <a:cubicBezTo>
                  <a:pt x="8692" y="6216"/>
                  <a:pt x="8718" y="6196"/>
                  <a:pt x="8756" y="6176"/>
                </a:cubicBezTo>
                <a:cubicBezTo>
                  <a:pt x="8778" y="6164"/>
                  <a:pt x="8905" y="6123"/>
                  <a:pt x="8930" y="6127"/>
                </a:cubicBezTo>
                <a:cubicBezTo>
                  <a:pt x="8961" y="6131"/>
                  <a:pt x="9024" y="6154"/>
                  <a:pt x="9054" y="6176"/>
                </a:cubicBezTo>
                <a:cubicBezTo>
                  <a:pt x="9090" y="6201"/>
                  <a:pt x="9088" y="6284"/>
                  <a:pt x="9079" y="6325"/>
                </a:cubicBezTo>
                <a:cubicBezTo>
                  <a:pt x="9059" y="6419"/>
                  <a:pt x="9002" y="6426"/>
                  <a:pt x="8954" y="6499"/>
                </a:cubicBezTo>
                <a:cubicBezTo>
                  <a:pt x="8922" y="6548"/>
                  <a:pt x="8897" y="6581"/>
                  <a:pt x="8855" y="6623"/>
                </a:cubicBezTo>
                <a:cubicBezTo>
                  <a:pt x="8827" y="6651"/>
                  <a:pt x="8822" y="6669"/>
                  <a:pt x="8806" y="6697"/>
                </a:cubicBezTo>
                <a:cubicBezTo>
                  <a:pt x="8832" y="6676"/>
                  <a:pt x="8869" y="6646"/>
                  <a:pt x="8905" y="6648"/>
                </a:cubicBezTo>
                <a:cubicBezTo>
                  <a:pt x="8934" y="6649"/>
                  <a:pt x="8986" y="6672"/>
                  <a:pt x="9004" y="6697"/>
                </a:cubicBezTo>
                <a:cubicBezTo>
                  <a:pt x="9040" y="6748"/>
                  <a:pt x="9069" y="6811"/>
                  <a:pt x="9079" y="6871"/>
                </a:cubicBezTo>
                <a:cubicBezTo>
                  <a:pt x="9089" y="6931"/>
                  <a:pt x="9120" y="7006"/>
                  <a:pt x="9103" y="7069"/>
                </a:cubicBezTo>
                <a:cubicBezTo>
                  <a:pt x="9082" y="7147"/>
                  <a:pt x="9067" y="7197"/>
                  <a:pt x="9029" y="7268"/>
                </a:cubicBezTo>
                <a:cubicBezTo>
                  <a:pt x="8987" y="7347"/>
                  <a:pt x="8978" y="7341"/>
                  <a:pt x="8905" y="7367"/>
                </a:cubicBezTo>
                <a:cubicBezTo>
                  <a:pt x="8844" y="7389"/>
                  <a:pt x="8794" y="7396"/>
                  <a:pt x="8731" y="7367"/>
                </a:cubicBezTo>
                <a:cubicBezTo>
                  <a:pt x="8699" y="7352"/>
                  <a:pt x="8665" y="7330"/>
                  <a:pt x="8632" y="7317"/>
                </a:cubicBezTo>
              </a:path>
              <a:path w="8161" h="1787">
                <a:moveTo>
                  <a:pt x="9971" y="6524"/>
                </a:moveTo>
                <a:cubicBezTo>
                  <a:pt x="9994" y="6546"/>
                  <a:pt x="9999" y="6554"/>
                  <a:pt x="10021" y="6548"/>
                </a:cubicBezTo>
                <a:cubicBezTo>
                  <a:pt x="9988" y="6505"/>
                  <a:pt x="10013" y="6495"/>
                  <a:pt x="9996" y="6449"/>
                </a:cubicBezTo>
                <a:cubicBezTo>
                  <a:pt x="9980" y="6406"/>
                  <a:pt x="9959" y="6363"/>
                  <a:pt x="9947" y="6325"/>
                </a:cubicBezTo>
                <a:cubicBezTo>
                  <a:pt x="9936" y="6290"/>
                  <a:pt x="9932" y="6255"/>
                  <a:pt x="9897" y="6251"/>
                </a:cubicBezTo>
                <a:cubicBezTo>
                  <a:pt x="9853" y="6246"/>
                  <a:pt x="9830" y="6248"/>
                  <a:pt x="9798" y="6276"/>
                </a:cubicBezTo>
                <a:cubicBezTo>
                  <a:pt x="9751" y="6317"/>
                  <a:pt x="9700" y="6343"/>
                  <a:pt x="9674" y="6400"/>
                </a:cubicBezTo>
                <a:cubicBezTo>
                  <a:pt x="9644" y="6466"/>
                  <a:pt x="9611" y="6554"/>
                  <a:pt x="9599" y="6623"/>
                </a:cubicBezTo>
                <a:cubicBezTo>
                  <a:pt x="9589" y="6679"/>
                  <a:pt x="9635" y="6725"/>
                  <a:pt x="9649" y="6772"/>
                </a:cubicBezTo>
                <a:cubicBezTo>
                  <a:pt x="9657" y="6799"/>
                  <a:pt x="9685" y="6809"/>
                  <a:pt x="9723" y="6796"/>
                </a:cubicBezTo>
                <a:cubicBezTo>
                  <a:pt x="9796" y="6771"/>
                  <a:pt x="9853" y="6701"/>
                  <a:pt x="9897" y="6648"/>
                </a:cubicBezTo>
                <a:cubicBezTo>
                  <a:pt x="9926" y="6614"/>
                  <a:pt x="9958" y="6563"/>
                  <a:pt x="9971" y="6524"/>
                </a:cubicBezTo>
                <a:cubicBezTo>
                  <a:pt x="9980" y="6497"/>
                  <a:pt x="9971" y="6452"/>
                  <a:pt x="9971" y="6424"/>
                </a:cubicBezTo>
                <a:cubicBezTo>
                  <a:pt x="9948" y="6456"/>
                  <a:pt x="9929" y="6515"/>
                  <a:pt x="9922" y="6548"/>
                </a:cubicBezTo>
                <a:cubicBezTo>
                  <a:pt x="9889" y="6710"/>
                  <a:pt x="9915" y="6906"/>
                  <a:pt x="9897" y="7069"/>
                </a:cubicBezTo>
                <a:cubicBezTo>
                  <a:pt x="9888" y="7146"/>
                  <a:pt x="9865" y="7299"/>
                  <a:pt x="9872" y="7367"/>
                </a:cubicBezTo>
                <a:cubicBezTo>
                  <a:pt x="9880" y="7375"/>
                  <a:pt x="9889" y="7384"/>
                  <a:pt x="9897" y="7392"/>
                </a:cubicBezTo>
                <a:cubicBezTo>
                  <a:pt x="9897" y="7337"/>
                  <a:pt x="9918" y="7318"/>
                  <a:pt x="9947" y="7268"/>
                </a:cubicBezTo>
              </a:path>
              <a:path w="8161" h="1787">
                <a:moveTo>
                  <a:pt x="10567" y="6300"/>
                </a:moveTo>
                <a:cubicBezTo>
                  <a:pt x="10648" y="6300"/>
                  <a:pt x="10714" y="6288"/>
                  <a:pt x="10790" y="6276"/>
                </a:cubicBezTo>
                <a:cubicBezTo>
                  <a:pt x="10894" y="6259"/>
                  <a:pt x="10995" y="6280"/>
                  <a:pt x="11088" y="6251"/>
                </a:cubicBezTo>
                <a:cubicBezTo>
                  <a:pt x="11120" y="6241"/>
                  <a:pt x="11089" y="6248"/>
                  <a:pt x="11038" y="6226"/>
                </a:cubicBezTo>
              </a:path>
              <a:path w="8161" h="1787">
                <a:moveTo>
                  <a:pt x="10616" y="6300"/>
                </a:moveTo>
                <a:cubicBezTo>
                  <a:pt x="10578" y="6355"/>
                  <a:pt x="10507" y="6430"/>
                  <a:pt x="10492" y="6499"/>
                </a:cubicBezTo>
                <a:cubicBezTo>
                  <a:pt x="10485" y="6529"/>
                  <a:pt x="10451" y="6616"/>
                  <a:pt x="10468" y="6648"/>
                </a:cubicBezTo>
                <a:cubicBezTo>
                  <a:pt x="10476" y="6656"/>
                  <a:pt x="10484" y="6664"/>
                  <a:pt x="10492" y="6672"/>
                </a:cubicBezTo>
                <a:cubicBezTo>
                  <a:pt x="10536" y="6661"/>
                  <a:pt x="10558" y="6632"/>
                  <a:pt x="10592" y="6598"/>
                </a:cubicBezTo>
                <a:cubicBezTo>
                  <a:pt x="10621" y="6568"/>
                  <a:pt x="10673" y="6551"/>
                  <a:pt x="10716" y="6548"/>
                </a:cubicBezTo>
                <a:cubicBezTo>
                  <a:pt x="10759" y="6545"/>
                  <a:pt x="10837" y="6533"/>
                  <a:pt x="10864" y="6573"/>
                </a:cubicBezTo>
                <a:cubicBezTo>
                  <a:pt x="10896" y="6620"/>
                  <a:pt x="10951" y="6690"/>
                  <a:pt x="10964" y="6747"/>
                </a:cubicBezTo>
                <a:cubicBezTo>
                  <a:pt x="10979" y="6813"/>
                  <a:pt x="10988" y="6875"/>
                  <a:pt x="10988" y="6945"/>
                </a:cubicBezTo>
                <a:cubicBezTo>
                  <a:pt x="10988" y="7018"/>
                  <a:pt x="10974" y="7015"/>
                  <a:pt x="10939" y="7069"/>
                </a:cubicBezTo>
                <a:cubicBezTo>
                  <a:pt x="10906" y="7120"/>
                  <a:pt x="10884" y="7139"/>
                  <a:pt x="10815" y="7144"/>
                </a:cubicBezTo>
                <a:cubicBezTo>
                  <a:pt x="10786" y="7146"/>
                  <a:pt x="10597" y="7157"/>
                  <a:pt x="10616" y="7119"/>
                </a:cubicBezTo>
                <a:cubicBezTo>
                  <a:pt x="10641" y="7094"/>
                  <a:pt x="10649" y="7086"/>
                  <a:pt x="10666" y="7069"/>
                </a:cubicBezTo>
              </a:path>
              <a:path w="8161" h="1787">
                <a:moveTo>
                  <a:pt x="11534" y="6300"/>
                </a:moveTo>
                <a:cubicBezTo>
                  <a:pt x="11556" y="6344"/>
                  <a:pt x="11535" y="6388"/>
                  <a:pt x="11509" y="6449"/>
                </a:cubicBezTo>
                <a:cubicBezTo>
                  <a:pt x="11476" y="6524"/>
                  <a:pt x="11439" y="6596"/>
                  <a:pt x="11410" y="6672"/>
                </a:cubicBezTo>
                <a:cubicBezTo>
                  <a:pt x="11377" y="6759"/>
                  <a:pt x="11350" y="6858"/>
                  <a:pt x="11336" y="6945"/>
                </a:cubicBezTo>
                <a:cubicBezTo>
                  <a:pt x="11322" y="7032"/>
                  <a:pt x="11336" y="7097"/>
                  <a:pt x="11385" y="7169"/>
                </a:cubicBezTo>
                <a:cubicBezTo>
                  <a:pt x="11425" y="7227"/>
                  <a:pt x="11469" y="7218"/>
                  <a:pt x="11534" y="7218"/>
                </a:cubicBezTo>
                <a:cubicBezTo>
                  <a:pt x="11615" y="7218"/>
                  <a:pt x="11688" y="7222"/>
                  <a:pt x="11757" y="7169"/>
                </a:cubicBezTo>
                <a:cubicBezTo>
                  <a:pt x="11801" y="7135"/>
                  <a:pt x="11891" y="7077"/>
                  <a:pt x="11906" y="7020"/>
                </a:cubicBezTo>
                <a:cubicBezTo>
                  <a:pt x="11920" y="6966"/>
                  <a:pt x="11918" y="6874"/>
                  <a:pt x="11857" y="6846"/>
                </a:cubicBezTo>
                <a:cubicBezTo>
                  <a:pt x="11807" y="6824"/>
                  <a:pt x="11721" y="6867"/>
                  <a:pt x="11683" y="6896"/>
                </a:cubicBezTo>
                <a:cubicBezTo>
                  <a:pt x="11619" y="6945"/>
                  <a:pt x="11580" y="7008"/>
                  <a:pt x="11534" y="7069"/>
                </a:cubicBezTo>
                <a:cubicBezTo>
                  <a:pt x="11493" y="7124"/>
                  <a:pt x="11526" y="7157"/>
                  <a:pt x="11509" y="7218"/>
                </a:cubicBezTo>
                <a:cubicBezTo>
                  <a:pt x="11489" y="7259"/>
                  <a:pt x="11481" y="7265"/>
                  <a:pt x="11485" y="72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9960" y="3116160"/>
            <a:ext cx="349200" cy="536760"/>
          </a:xfrm>
          <a:custGeom>
            <a:avLst/>
            <a:gdLst/>
            <a:ahLst/>
            <a:rect l="l" t="t" r="r" b="b"/>
            <a:pathLst>
              <a:path w="969" h="1489">
                <a:moveTo>
                  <a:pt x="1984" y="9277"/>
                </a:moveTo>
                <a:cubicBezTo>
                  <a:pt x="1984" y="9226"/>
                  <a:pt x="1995" y="9219"/>
                  <a:pt x="2009" y="9178"/>
                </a:cubicBezTo>
                <a:cubicBezTo>
                  <a:pt x="2014" y="9162"/>
                  <a:pt x="2032" y="9116"/>
                  <a:pt x="2059" y="9103"/>
                </a:cubicBezTo>
                <a:cubicBezTo>
                  <a:pt x="2084" y="9091"/>
                  <a:pt x="2114" y="9081"/>
                  <a:pt x="2133" y="9079"/>
                </a:cubicBezTo>
                <a:cubicBezTo>
                  <a:pt x="2178" y="9074"/>
                  <a:pt x="2230" y="9151"/>
                  <a:pt x="2257" y="9178"/>
                </a:cubicBezTo>
                <a:cubicBezTo>
                  <a:pt x="2294" y="9216"/>
                  <a:pt x="2304" y="9297"/>
                  <a:pt x="2307" y="9351"/>
                </a:cubicBezTo>
                <a:cubicBezTo>
                  <a:pt x="2312" y="9443"/>
                  <a:pt x="2294" y="9512"/>
                  <a:pt x="2282" y="9599"/>
                </a:cubicBezTo>
                <a:cubicBezTo>
                  <a:pt x="2272" y="9669"/>
                  <a:pt x="2261" y="9733"/>
                  <a:pt x="2232" y="9798"/>
                </a:cubicBezTo>
                <a:cubicBezTo>
                  <a:pt x="2209" y="9851"/>
                  <a:pt x="2159" y="9915"/>
                  <a:pt x="2108" y="9947"/>
                </a:cubicBezTo>
                <a:cubicBezTo>
                  <a:pt x="2058" y="9979"/>
                  <a:pt x="2016" y="9971"/>
                  <a:pt x="1960" y="9971"/>
                </a:cubicBezTo>
                <a:cubicBezTo>
                  <a:pt x="1922" y="9971"/>
                  <a:pt x="1904" y="9936"/>
                  <a:pt x="1885" y="9922"/>
                </a:cubicBezTo>
                <a:cubicBezTo>
                  <a:pt x="1849" y="9895"/>
                  <a:pt x="1860" y="9863"/>
                  <a:pt x="1860" y="9823"/>
                </a:cubicBezTo>
                <a:cubicBezTo>
                  <a:pt x="1860" y="9799"/>
                  <a:pt x="1886" y="9735"/>
                  <a:pt x="1910" y="9723"/>
                </a:cubicBezTo>
                <a:cubicBezTo>
                  <a:pt x="1953" y="9701"/>
                  <a:pt x="1996" y="9731"/>
                  <a:pt x="2009" y="9748"/>
                </a:cubicBezTo>
                <a:cubicBezTo>
                  <a:pt x="2039" y="9788"/>
                  <a:pt x="2057" y="9800"/>
                  <a:pt x="2084" y="9847"/>
                </a:cubicBezTo>
                <a:cubicBezTo>
                  <a:pt x="2108" y="9889"/>
                  <a:pt x="2128" y="9944"/>
                  <a:pt x="2133" y="9996"/>
                </a:cubicBezTo>
                <a:cubicBezTo>
                  <a:pt x="2133" y="10021"/>
                  <a:pt x="2133" y="10029"/>
                  <a:pt x="2133" y="10046"/>
                </a:cubicBezTo>
                <a:cubicBezTo>
                  <a:pt x="2189" y="10046"/>
                  <a:pt x="2176" y="10039"/>
                  <a:pt x="2208" y="9996"/>
                </a:cubicBezTo>
              </a:path>
              <a:path w="969" h="1489">
                <a:moveTo>
                  <a:pt x="2034" y="8657"/>
                </a:moveTo>
                <a:cubicBezTo>
                  <a:pt x="2092" y="8665"/>
                  <a:pt x="2100" y="8682"/>
                  <a:pt x="2158" y="8706"/>
                </a:cubicBezTo>
                <a:cubicBezTo>
                  <a:pt x="2220" y="8731"/>
                  <a:pt x="2250" y="8768"/>
                  <a:pt x="2307" y="8806"/>
                </a:cubicBezTo>
                <a:cubicBezTo>
                  <a:pt x="2382" y="8856"/>
                  <a:pt x="2434" y="8923"/>
                  <a:pt x="2505" y="8979"/>
                </a:cubicBezTo>
                <a:cubicBezTo>
                  <a:pt x="2585" y="9041"/>
                  <a:pt x="2680" y="9112"/>
                  <a:pt x="2729" y="9203"/>
                </a:cubicBezTo>
                <a:cubicBezTo>
                  <a:pt x="2779" y="9295"/>
                  <a:pt x="2816" y="9396"/>
                  <a:pt x="2828" y="9500"/>
                </a:cubicBezTo>
                <a:cubicBezTo>
                  <a:pt x="2838" y="9589"/>
                  <a:pt x="2824" y="9689"/>
                  <a:pt x="2803" y="9773"/>
                </a:cubicBezTo>
                <a:cubicBezTo>
                  <a:pt x="2785" y="9844"/>
                  <a:pt x="2746" y="9935"/>
                  <a:pt x="2704" y="9996"/>
                </a:cubicBezTo>
                <a:cubicBezTo>
                  <a:pt x="2672" y="10042"/>
                  <a:pt x="2603" y="10090"/>
                  <a:pt x="2580" y="10120"/>
                </a:cubicBezTo>
                <a:cubicBezTo>
                  <a:pt x="2580" y="10128"/>
                  <a:pt x="2580" y="10137"/>
                  <a:pt x="2580" y="10145"/>
                </a:cubicBezTo>
                <a:cubicBezTo>
                  <a:pt x="2553" y="10109"/>
                  <a:pt x="2528" y="10149"/>
                  <a:pt x="2555" y="100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3160800"/>
            <a:ext cx="1098720" cy="455400"/>
          </a:xfrm>
          <a:custGeom>
            <a:avLst/>
            <a:gdLst/>
            <a:ahLst/>
            <a:rect l="l" t="t" r="r" b="b"/>
            <a:pathLst>
              <a:path w="3052" h="1266">
                <a:moveTo>
                  <a:pt x="3597" y="8979"/>
                </a:moveTo>
                <a:cubicBezTo>
                  <a:pt x="3666" y="8979"/>
                  <a:pt x="3708" y="8962"/>
                  <a:pt x="3770" y="8954"/>
                </a:cubicBezTo>
                <a:cubicBezTo>
                  <a:pt x="3838" y="8945"/>
                  <a:pt x="3910" y="8941"/>
                  <a:pt x="3969" y="8930"/>
                </a:cubicBezTo>
                <a:cubicBezTo>
                  <a:pt x="4033" y="8917"/>
                  <a:pt x="4104" y="8888"/>
                  <a:pt x="4167" y="8880"/>
                </a:cubicBezTo>
                <a:cubicBezTo>
                  <a:pt x="4217" y="8873"/>
                  <a:pt x="4248" y="8862"/>
                  <a:pt x="4291" y="8855"/>
                </a:cubicBezTo>
                <a:cubicBezTo>
                  <a:pt x="4314" y="8851"/>
                  <a:pt x="4342" y="8855"/>
                  <a:pt x="4366" y="8855"/>
                </a:cubicBezTo>
                <a:cubicBezTo>
                  <a:pt x="4362" y="8891"/>
                  <a:pt x="4345" y="8929"/>
                  <a:pt x="4341" y="8954"/>
                </a:cubicBezTo>
                <a:cubicBezTo>
                  <a:pt x="4333" y="9009"/>
                  <a:pt x="4334" y="9053"/>
                  <a:pt x="4316" y="9103"/>
                </a:cubicBezTo>
                <a:cubicBezTo>
                  <a:pt x="4293" y="9168"/>
                  <a:pt x="4282" y="9215"/>
                  <a:pt x="4266" y="9277"/>
                </a:cubicBezTo>
                <a:cubicBezTo>
                  <a:pt x="4247" y="9349"/>
                  <a:pt x="4229" y="9429"/>
                  <a:pt x="4217" y="9500"/>
                </a:cubicBezTo>
                <a:cubicBezTo>
                  <a:pt x="4207" y="9562"/>
                  <a:pt x="4209" y="9639"/>
                  <a:pt x="4192" y="9699"/>
                </a:cubicBezTo>
                <a:cubicBezTo>
                  <a:pt x="4179" y="9746"/>
                  <a:pt x="4150" y="9806"/>
                  <a:pt x="4142" y="9847"/>
                </a:cubicBezTo>
                <a:cubicBezTo>
                  <a:pt x="4137" y="9871"/>
                  <a:pt x="4145" y="9898"/>
                  <a:pt x="4142" y="9922"/>
                </a:cubicBezTo>
              </a:path>
              <a:path w="3052" h="1266">
                <a:moveTo>
                  <a:pt x="4539" y="9897"/>
                </a:moveTo>
                <a:cubicBezTo>
                  <a:pt x="4514" y="9897"/>
                  <a:pt x="4506" y="9897"/>
                  <a:pt x="4514" y="9872"/>
                </a:cubicBezTo>
              </a:path>
              <a:path w="3052" h="1266">
                <a:moveTo>
                  <a:pt x="5159" y="8880"/>
                </a:moveTo>
                <a:cubicBezTo>
                  <a:pt x="5230" y="8880"/>
                  <a:pt x="5269" y="8866"/>
                  <a:pt x="5333" y="8855"/>
                </a:cubicBezTo>
                <a:cubicBezTo>
                  <a:pt x="5402" y="8843"/>
                  <a:pt x="5464" y="8846"/>
                  <a:pt x="5531" y="8830"/>
                </a:cubicBezTo>
                <a:cubicBezTo>
                  <a:pt x="5579" y="8819"/>
                  <a:pt x="5615" y="8852"/>
                  <a:pt x="5631" y="8806"/>
                </a:cubicBezTo>
              </a:path>
              <a:path w="3052" h="1266">
                <a:moveTo>
                  <a:pt x="5159" y="8954"/>
                </a:moveTo>
                <a:cubicBezTo>
                  <a:pt x="5133" y="9028"/>
                  <a:pt x="5110" y="9076"/>
                  <a:pt x="5110" y="9153"/>
                </a:cubicBezTo>
                <a:cubicBezTo>
                  <a:pt x="5110" y="9207"/>
                  <a:pt x="5090" y="9232"/>
                  <a:pt x="5085" y="9277"/>
                </a:cubicBezTo>
                <a:cubicBezTo>
                  <a:pt x="5081" y="9310"/>
                  <a:pt x="5075" y="9380"/>
                  <a:pt x="5060" y="9351"/>
                </a:cubicBezTo>
                <a:cubicBezTo>
                  <a:pt x="5050" y="9333"/>
                  <a:pt x="5116" y="9297"/>
                  <a:pt x="5135" y="9277"/>
                </a:cubicBezTo>
                <a:cubicBezTo>
                  <a:pt x="5170" y="9241"/>
                  <a:pt x="5209" y="9231"/>
                  <a:pt x="5259" y="9227"/>
                </a:cubicBezTo>
                <a:cubicBezTo>
                  <a:pt x="5315" y="9222"/>
                  <a:pt x="5365" y="9218"/>
                  <a:pt x="5407" y="9252"/>
                </a:cubicBezTo>
                <a:cubicBezTo>
                  <a:pt x="5447" y="9284"/>
                  <a:pt x="5502" y="9306"/>
                  <a:pt x="5531" y="9351"/>
                </a:cubicBezTo>
                <a:cubicBezTo>
                  <a:pt x="5567" y="9407"/>
                  <a:pt x="5595" y="9487"/>
                  <a:pt x="5606" y="9550"/>
                </a:cubicBezTo>
                <a:cubicBezTo>
                  <a:pt x="5615" y="9601"/>
                  <a:pt x="5583" y="9704"/>
                  <a:pt x="5556" y="9748"/>
                </a:cubicBezTo>
                <a:cubicBezTo>
                  <a:pt x="5530" y="9790"/>
                  <a:pt x="5449" y="9825"/>
                  <a:pt x="5407" y="9847"/>
                </a:cubicBezTo>
                <a:cubicBezTo>
                  <a:pt x="5348" y="9878"/>
                  <a:pt x="5300" y="9872"/>
                  <a:pt x="5234" y="9872"/>
                </a:cubicBezTo>
                <a:cubicBezTo>
                  <a:pt x="5168" y="9872"/>
                  <a:pt x="5162" y="9840"/>
                  <a:pt x="5110" y="9823"/>
                </a:cubicBezTo>
                <a:cubicBezTo>
                  <a:pt x="5072" y="9811"/>
                  <a:pt x="5085" y="9793"/>
                  <a:pt x="5085" y="9748"/>
                </a:cubicBezTo>
              </a:path>
              <a:path w="3052" h="1266">
                <a:moveTo>
                  <a:pt x="6102" y="8830"/>
                </a:moveTo>
                <a:cubicBezTo>
                  <a:pt x="6224" y="8830"/>
                  <a:pt x="6331" y="8822"/>
                  <a:pt x="6449" y="8806"/>
                </a:cubicBezTo>
                <a:cubicBezTo>
                  <a:pt x="6511" y="8797"/>
                  <a:pt x="6547" y="8798"/>
                  <a:pt x="6598" y="8781"/>
                </a:cubicBezTo>
                <a:cubicBezTo>
                  <a:pt x="6604" y="8779"/>
                  <a:pt x="6691" y="8781"/>
                  <a:pt x="6623" y="8781"/>
                </a:cubicBezTo>
              </a:path>
              <a:path w="3052" h="1266">
                <a:moveTo>
                  <a:pt x="6102" y="8905"/>
                </a:moveTo>
                <a:cubicBezTo>
                  <a:pt x="6086" y="8997"/>
                  <a:pt x="6077" y="9063"/>
                  <a:pt x="6077" y="9153"/>
                </a:cubicBezTo>
                <a:cubicBezTo>
                  <a:pt x="6077" y="9214"/>
                  <a:pt x="6082" y="9252"/>
                  <a:pt x="6052" y="9302"/>
                </a:cubicBezTo>
                <a:cubicBezTo>
                  <a:pt x="6071" y="9283"/>
                  <a:pt x="6108" y="9245"/>
                  <a:pt x="6152" y="9227"/>
                </a:cubicBezTo>
                <a:cubicBezTo>
                  <a:pt x="6191" y="9211"/>
                  <a:pt x="6233" y="9205"/>
                  <a:pt x="6276" y="9203"/>
                </a:cubicBezTo>
                <a:cubicBezTo>
                  <a:pt x="6324" y="9200"/>
                  <a:pt x="6357" y="9201"/>
                  <a:pt x="6400" y="9227"/>
                </a:cubicBezTo>
                <a:cubicBezTo>
                  <a:pt x="6442" y="9253"/>
                  <a:pt x="6493" y="9280"/>
                  <a:pt x="6524" y="9327"/>
                </a:cubicBezTo>
                <a:cubicBezTo>
                  <a:pt x="6564" y="9387"/>
                  <a:pt x="6609" y="9452"/>
                  <a:pt x="6623" y="9525"/>
                </a:cubicBezTo>
                <a:cubicBezTo>
                  <a:pt x="6641" y="9619"/>
                  <a:pt x="6636" y="9762"/>
                  <a:pt x="6598" y="9847"/>
                </a:cubicBezTo>
                <a:cubicBezTo>
                  <a:pt x="6574" y="9900"/>
                  <a:pt x="6540" y="9931"/>
                  <a:pt x="6499" y="9971"/>
                </a:cubicBezTo>
                <a:cubicBezTo>
                  <a:pt x="6462" y="10007"/>
                  <a:pt x="6393" y="10037"/>
                  <a:pt x="6350" y="10046"/>
                </a:cubicBezTo>
                <a:cubicBezTo>
                  <a:pt x="6282" y="10060"/>
                  <a:pt x="6196" y="10046"/>
                  <a:pt x="6127" y="1004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44960" y="3071880"/>
            <a:ext cx="403200" cy="598320"/>
          </a:xfrm>
          <a:custGeom>
            <a:avLst/>
            <a:gdLst/>
            <a:ahLst/>
            <a:rect l="l" t="t" r="r" b="b"/>
            <a:pathLst>
              <a:path w="1117" h="1663">
                <a:moveTo>
                  <a:pt x="11336" y="8979"/>
                </a:moveTo>
                <a:cubicBezTo>
                  <a:pt x="11346" y="9018"/>
                  <a:pt x="11361" y="9034"/>
                  <a:pt x="11361" y="9079"/>
                </a:cubicBezTo>
                <a:cubicBezTo>
                  <a:pt x="11361" y="9138"/>
                  <a:pt x="11321" y="9195"/>
                  <a:pt x="11311" y="9252"/>
                </a:cubicBezTo>
                <a:cubicBezTo>
                  <a:pt x="11302" y="9307"/>
                  <a:pt x="11309" y="9376"/>
                  <a:pt x="11286" y="9426"/>
                </a:cubicBezTo>
                <a:cubicBezTo>
                  <a:pt x="11266" y="9470"/>
                  <a:pt x="11241" y="9520"/>
                  <a:pt x="11237" y="9575"/>
                </a:cubicBezTo>
                <a:cubicBezTo>
                  <a:pt x="11237" y="9616"/>
                  <a:pt x="11237" y="9624"/>
                  <a:pt x="11237" y="9649"/>
                </a:cubicBezTo>
                <a:cubicBezTo>
                  <a:pt x="11274" y="9636"/>
                  <a:pt x="11258" y="9624"/>
                  <a:pt x="11311" y="9624"/>
                </a:cubicBezTo>
                <a:cubicBezTo>
                  <a:pt x="11393" y="9624"/>
                  <a:pt x="11458" y="9636"/>
                  <a:pt x="11534" y="9649"/>
                </a:cubicBezTo>
                <a:cubicBezTo>
                  <a:pt x="11633" y="9667"/>
                  <a:pt x="11741" y="9647"/>
                  <a:pt x="11832" y="9624"/>
                </a:cubicBezTo>
                <a:cubicBezTo>
                  <a:pt x="11877" y="9613"/>
                  <a:pt x="11865" y="9630"/>
                  <a:pt x="11906" y="9599"/>
                </a:cubicBezTo>
              </a:path>
              <a:path w="1117" h="1663">
                <a:moveTo>
                  <a:pt x="11757" y="8880"/>
                </a:moveTo>
                <a:cubicBezTo>
                  <a:pt x="11723" y="8927"/>
                  <a:pt x="11733" y="8968"/>
                  <a:pt x="11733" y="9029"/>
                </a:cubicBezTo>
                <a:cubicBezTo>
                  <a:pt x="11733" y="9149"/>
                  <a:pt x="11745" y="9240"/>
                  <a:pt x="11757" y="9351"/>
                </a:cubicBezTo>
                <a:cubicBezTo>
                  <a:pt x="11768" y="9450"/>
                  <a:pt x="11778" y="9551"/>
                  <a:pt x="11782" y="9649"/>
                </a:cubicBezTo>
                <a:cubicBezTo>
                  <a:pt x="11786" y="9744"/>
                  <a:pt x="11803" y="9830"/>
                  <a:pt x="11807" y="9922"/>
                </a:cubicBezTo>
                <a:cubicBezTo>
                  <a:pt x="11810" y="10005"/>
                  <a:pt x="11906" y="10108"/>
                  <a:pt x="11832" y="10145"/>
                </a:cubicBezTo>
                <a:cubicBezTo>
                  <a:pt x="11824" y="10145"/>
                  <a:pt x="11815" y="10145"/>
                  <a:pt x="11807" y="10145"/>
                </a:cubicBezTo>
              </a:path>
              <a:path w="1117" h="1663">
                <a:moveTo>
                  <a:pt x="11658" y="8533"/>
                </a:moveTo>
                <a:cubicBezTo>
                  <a:pt x="11738" y="8544"/>
                  <a:pt x="11762" y="8564"/>
                  <a:pt x="11832" y="8607"/>
                </a:cubicBezTo>
                <a:cubicBezTo>
                  <a:pt x="11951" y="8680"/>
                  <a:pt x="12043" y="8770"/>
                  <a:pt x="12129" y="8880"/>
                </a:cubicBezTo>
                <a:cubicBezTo>
                  <a:pt x="12210" y="8983"/>
                  <a:pt x="12277" y="9106"/>
                  <a:pt x="12328" y="9227"/>
                </a:cubicBezTo>
                <a:cubicBezTo>
                  <a:pt x="12370" y="9327"/>
                  <a:pt x="12370" y="9492"/>
                  <a:pt x="12353" y="9599"/>
                </a:cubicBezTo>
                <a:cubicBezTo>
                  <a:pt x="12333" y="9720"/>
                  <a:pt x="12266" y="9846"/>
                  <a:pt x="12204" y="9947"/>
                </a:cubicBezTo>
                <a:cubicBezTo>
                  <a:pt x="12164" y="10013"/>
                  <a:pt x="12124" y="10083"/>
                  <a:pt x="12080" y="10145"/>
                </a:cubicBezTo>
                <a:cubicBezTo>
                  <a:pt x="12055" y="10170"/>
                  <a:pt x="12047" y="10178"/>
                  <a:pt x="12030" y="1019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8320" y="4027320"/>
            <a:ext cx="374760" cy="696960"/>
          </a:xfrm>
          <a:custGeom>
            <a:avLst/>
            <a:gdLst/>
            <a:ahLst/>
            <a:rect l="l" t="t" r="r" b="b"/>
            <a:pathLst>
              <a:path w="1043" h="1936">
                <a:moveTo>
                  <a:pt x="1811" y="11832"/>
                </a:moveTo>
                <a:cubicBezTo>
                  <a:pt x="1811" y="11862"/>
                  <a:pt x="1826" y="11830"/>
                  <a:pt x="1860" y="11807"/>
                </a:cubicBezTo>
                <a:cubicBezTo>
                  <a:pt x="1902" y="11779"/>
                  <a:pt x="1947" y="11777"/>
                  <a:pt x="1984" y="11757"/>
                </a:cubicBezTo>
                <a:cubicBezTo>
                  <a:pt x="2018" y="11739"/>
                  <a:pt x="2062" y="11714"/>
                  <a:pt x="2108" y="11733"/>
                </a:cubicBezTo>
                <a:cubicBezTo>
                  <a:pt x="2156" y="11752"/>
                  <a:pt x="2151" y="11771"/>
                  <a:pt x="2183" y="11807"/>
                </a:cubicBezTo>
                <a:cubicBezTo>
                  <a:pt x="2212" y="11840"/>
                  <a:pt x="2226" y="11911"/>
                  <a:pt x="2208" y="11956"/>
                </a:cubicBezTo>
                <a:cubicBezTo>
                  <a:pt x="2189" y="12005"/>
                  <a:pt x="2174" y="12039"/>
                  <a:pt x="2133" y="12080"/>
                </a:cubicBezTo>
                <a:cubicBezTo>
                  <a:pt x="2113" y="12100"/>
                  <a:pt x="2044" y="12115"/>
                  <a:pt x="2034" y="12129"/>
                </a:cubicBezTo>
                <a:cubicBezTo>
                  <a:pt x="2034" y="12154"/>
                  <a:pt x="2034" y="12162"/>
                  <a:pt x="2009" y="12154"/>
                </a:cubicBezTo>
                <a:cubicBezTo>
                  <a:pt x="2022" y="12116"/>
                  <a:pt x="2039" y="12129"/>
                  <a:pt x="2084" y="12129"/>
                </a:cubicBezTo>
                <a:cubicBezTo>
                  <a:pt x="2124" y="12129"/>
                  <a:pt x="2177" y="12135"/>
                  <a:pt x="2208" y="12154"/>
                </a:cubicBezTo>
                <a:cubicBezTo>
                  <a:pt x="2252" y="12181"/>
                  <a:pt x="2316" y="12255"/>
                  <a:pt x="2332" y="12303"/>
                </a:cubicBezTo>
                <a:cubicBezTo>
                  <a:pt x="2358" y="12379"/>
                  <a:pt x="2344" y="12380"/>
                  <a:pt x="2332" y="12452"/>
                </a:cubicBezTo>
                <a:cubicBezTo>
                  <a:pt x="2319" y="12528"/>
                  <a:pt x="2304" y="12538"/>
                  <a:pt x="2232" y="12576"/>
                </a:cubicBezTo>
                <a:cubicBezTo>
                  <a:pt x="2159" y="12615"/>
                  <a:pt x="2116" y="12626"/>
                  <a:pt x="2034" y="12626"/>
                </a:cubicBezTo>
                <a:cubicBezTo>
                  <a:pt x="1954" y="12626"/>
                  <a:pt x="1880" y="12567"/>
                  <a:pt x="1811" y="12551"/>
                </a:cubicBezTo>
                <a:cubicBezTo>
                  <a:pt x="1755" y="12538"/>
                  <a:pt x="1723" y="12508"/>
                  <a:pt x="1687" y="12452"/>
                </a:cubicBezTo>
                <a:cubicBezTo>
                  <a:pt x="1646" y="12388"/>
                  <a:pt x="1662" y="12302"/>
                  <a:pt x="1662" y="12229"/>
                </a:cubicBezTo>
                <a:cubicBezTo>
                  <a:pt x="1662" y="12100"/>
                  <a:pt x="1672" y="11978"/>
                  <a:pt x="1687" y="11857"/>
                </a:cubicBezTo>
                <a:cubicBezTo>
                  <a:pt x="1687" y="11832"/>
                  <a:pt x="1687" y="11807"/>
                  <a:pt x="1687" y="11782"/>
                </a:cubicBezTo>
              </a:path>
              <a:path w="1043" h="1936">
                <a:moveTo>
                  <a:pt x="1662" y="11187"/>
                </a:moveTo>
                <a:cubicBezTo>
                  <a:pt x="1751" y="11187"/>
                  <a:pt x="1835" y="11210"/>
                  <a:pt x="1910" y="11261"/>
                </a:cubicBezTo>
                <a:cubicBezTo>
                  <a:pt x="2037" y="11347"/>
                  <a:pt x="2139" y="11463"/>
                  <a:pt x="2257" y="11559"/>
                </a:cubicBezTo>
                <a:cubicBezTo>
                  <a:pt x="2358" y="11642"/>
                  <a:pt x="2438" y="11740"/>
                  <a:pt x="2505" y="11857"/>
                </a:cubicBezTo>
                <a:cubicBezTo>
                  <a:pt x="2571" y="11972"/>
                  <a:pt x="2640" y="12102"/>
                  <a:pt x="2679" y="12229"/>
                </a:cubicBezTo>
                <a:cubicBezTo>
                  <a:pt x="2710" y="12330"/>
                  <a:pt x="2723" y="12471"/>
                  <a:pt x="2704" y="12576"/>
                </a:cubicBezTo>
                <a:cubicBezTo>
                  <a:pt x="2684" y="12685"/>
                  <a:pt x="2624" y="12792"/>
                  <a:pt x="2555" y="12874"/>
                </a:cubicBezTo>
                <a:cubicBezTo>
                  <a:pt x="2511" y="12926"/>
                  <a:pt x="2469" y="12967"/>
                  <a:pt x="2431" y="13022"/>
                </a:cubicBezTo>
                <a:cubicBezTo>
                  <a:pt x="2407" y="13056"/>
                  <a:pt x="2381" y="13088"/>
                  <a:pt x="2356" y="131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11200" y="4259160"/>
            <a:ext cx="1098720" cy="304920"/>
          </a:xfrm>
          <a:custGeom>
            <a:avLst/>
            <a:gdLst/>
            <a:ahLst/>
            <a:rect l="l" t="t" r="r" b="b"/>
            <a:pathLst>
              <a:path w="3052" h="844">
                <a:moveTo>
                  <a:pt x="3919" y="12179"/>
                </a:moveTo>
                <a:cubicBezTo>
                  <a:pt x="3929" y="12218"/>
                  <a:pt x="3932" y="12261"/>
                  <a:pt x="3944" y="12303"/>
                </a:cubicBezTo>
                <a:cubicBezTo>
                  <a:pt x="3965" y="12374"/>
                  <a:pt x="3969" y="12425"/>
                  <a:pt x="3969" y="12502"/>
                </a:cubicBezTo>
                <a:cubicBezTo>
                  <a:pt x="3969" y="12560"/>
                  <a:pt x="3969" y="12617"/>
                  <a:pt x="3969" y="12675"/>
                </a:cubicBezTo>
                <a:cubicBezTo>
                  <a:pt x="3937" y="12664"/>
                  <a:pt x="3930" y="12597"/>
                  <a:pt x="3919" y="12551"/>
                </a:cubicBezTo>
                <a:cubicBezTo>
                  <a:pt x="3892" y="12434"/>
                  <a:pt x="3929" y="12290"/>
                  <a:pt x="3944" y="12179"/>
                </a:cubicBezTo>
                <a:cubicBezTo>
                  <a:pt x="3954" y="12104"/>
                  <a:pt x="3980" y="12069"/>
                  <a:pt x="4018" y="12005"/>
                </a:cubicBezTo>
                <a:cubicBezTo>
                  <a:pt x="4054" y="11945"/>
                  <a:pt x="4070" y="11938"/>
                  <a:pt x="4118" y="11906"/>
                </a:cubicBezTo>
                <a:cubicBezTo>
                  <a:pt x="4169" y="11871"/>
                  <a:pt x="4191" y="11884"/>
                  <a:pt x="4242" y="11906"/>
                </a:cubicBezTo>
                <a:cubicBezTo>
                  <a:pt x="4310" y="11936"/>
                  <a:pt x="4346" y="11977"/>
                  <a:pt x="4390" y="12030"/>
                </a:cubicBezTo>
                <a:cubicBezTo>
                  <a:pt x="4425" y="12073"/>
                  <a:pt x="4480" y="12147"/>
                  <a:pt x="4490" y="12204"/>
                </a:cubicBezTo>
                <a:cubicBezTo>
                  <a:pt x="4503" y="12279"/>
                  <a:pt x="4515" y="12356"/>
                  <a:pt x="4539" y="12427"/>
                </a:cubicBezTo>
                <a:cubicBezTo>
                  <a:pt x="4558" y="12484"/>
                  <a:pt x="4583" y="12542"/>
                  <a:pt x="4589" y="12601"/>
                </a:cubicBezTo>
                <a:cubicBezTo>
                  <a:pt x="4590" y="12614"/>
                  <a:pt x="4621" y="12698"/>
                  <a:pt x="4638" y="12675"/>
                </a:cubicBezTo>
                <a:cubicBezTo>
                  <a:pt x="4638" y="12647"/>
                  <a:pt x="4640" y="12636"/>
                  <a:pt x="4663" y="12626"/>
                </a:cubicBezTo>
              </a:path>
              <a:path w="3052" h="844">
                <a:moveTo>
                  <a:pt x="4986" y="12080"/>
                </a:moveTo>
                <a:cubicBezTo>
                  <a:pt x="4969" y="12152"/>
                  <a:pt x="4948" y="12234"/>
                  <a:pt x="4936" y="12303"/>
                </a:cubicBezTo>
                <a:cubicBezTo>
                  <a:pt x="4923" y="12378"/>
                  <a:pt x="4950" y="12435"/>
                  <a:pt x="4961" y="12502"/>
                </a:cubicBezTo>
                <a:cubicBezTo>
                  <a:pt x="4970" y="12555"/>
                  <a:pt x="4983" y="12593"/>
                  <a:pt x="5035" y="12626"/>
                </a:cubicBezTo>
                <a:cubicBezTo>
                  <a:pt x="5072" y="12650"/>
                  <a:pt x="5140" y="12664"/>
                  <a:pt x="5184" y="12650"/>
                </a:cubicBezTo>
                <a:cubicBezTo>
                  <a:pt x="5247" y="12630"/>
                  <a:pt x="5303" y="12580"/>
                  <a:pt x="5333" y="12526"/>
                </a:cubicBezTo>
                <a:cubicBezTo>
                  <a:pt x="5372" y="12457"/>
                  <a:pt x="5407" y="12362"/>
                  <a:pt x="5383" y="12278"/>
                </a:cubicBezTo>
                <a:cubicBezTo>
                  <a:pt x="5368" y="12224"/>
                  <a:pt x="5353" y="12122"/>
                  <a:pt x="5308" y="12080"/>
                </a:cubicBezTo>
                <a:cubicBezTo>
                  <a:pt x="5251" y="12026"/>
                  <a:pt x="5220" y="12012"/>
                  <a:pt x="5159" y="11981"/>
                </a:cubicBezTo>
                <a:cubicBezTo>
                  <a:pt x="5115" y="11959"/>
                  <a:pt x="5088" y="11956"/>
                  <a:pt x="5035" y="11956"/>
                </a:cubicBezTo>
                <a:cubicBezTo>
                  <a:pt x="5000" y="11956"/>
                  <a:pt x="4965" y="11992"/>
                  <a:pt x="4986" y="12030"/>
                </a:cubicBezTo>
                <a:cubicBezTo>
                  <a:pt x="5009" y="12053"/>
                  <a:pt x="5017" y="12057"/>
                  <a:pt x="5011" y="12080"/>
                </a:cubicBezTo>
              </a:path>
              <a:path w="3052" h="844">
                <a:moveTo>
                  <a:pt x="5606" y="12154"/>
                </a:moveTo>
                <a:cubicBezTo>
                  <a:pt x="5613" y="12227"/>
                  <a:pt x="5627" y="12280"/>
                  <a:pt x="5631" y="12353"/>
                </a:cubicBezTo>
                <a:cubicBezTo>
                  <a:pt x="5634" y="12403"/>
                  <a:pt x="5631" y="12402"/>
                  <a:pt x="5631" y="12452"/>
                </a:cubicBezTo>
                <a:cubicBezTo>
                  <a:pt x="5617" y="12428"/>
                  <a:pt x="5609" y="12430"/>
                  <a:pt x="5606" y="12378"/>
                </a:cubicBezTo>
                <a:cubicBezTo>
                  <a:pt x="5602" y="12311"/>
                  <a:pt x="5623" y="12265"/>
                  <a:pt x="5631" y="12204"/>
                </a:cubicBezTo>
                <a:cubicBezTo>
                  <a:pt x="5640" y="12133"/>
                  <a:pt x="5646" y="12097"/>
                  <a:pt x="5680" y="12030"/>
                </a:cubicBezTo>
                <a:cubicBezTo>
                  <a:pt x="5687" y="12016"/>
                  <a:pt x="5748" y="11909"/>
                  <a:pt x="5755" y="11906"/>
                </a:cubicBezTo>
                <a:cubicBezTo>
                  <a:pt x="5789" y="11889"/>
                  <a:pt x="5831" y="11913"/>
                  <a:pt x="5854" y="11931"/>
                </a:cubicBezTo>
                <a:cubicBezTo>
                  <a:pt x="5898" y="11966"/>
                  <a:pt x="5909" y="12030"/>
                  <a:pt x="5928" y="12080"/>
                </a:cubicBezTo>
                <a:cubicBezTo>
                  <a:pt x="5943" y="12121"/>
                  <a:pt x="5969" y="12185"/>
                  <a:pt x="5978" y="12229"/>
                </a:cubicBezTo>
                <a:cubicBezTo>
                  <a:pt x="5990" y="12284"/>
                  <a:pt x="5992" y="12333"/>
                  <a:pt x="6028" y="12378"/>
                </a:cubicBezTo>
                <a:cubicBezTo>
                  <a:pt x="6059" y="12417"/>
                  <a:pt x="6104" y="12441"/>
                  <a:pt x="6152" y="12452"/>
                </a:cubicBezTo>
                <a:cubicBezTo>
                  <a:pt x="6188" y="12460"/>
                  <a:pt x="6250" y="12443"/>
                  <a:pt x="6276" y="12427"/>
                </a:cubicBezTo>
                <a:cubicBezTo>
                  <a:pt x="6327" y="12396"/>
                  <a:pt x="6373" y="12329"/>
                  <a:pt x="6400" y="12278"/>
                </a:cubicBezTo>
                <a:cubicBezTo>
                  <a:pt x="6439" y="12203"/>
                  <a:pt x="6460" y="12140"/>
                  <a:pt x="6474" y="12055"/>
                </a:cubicBezTo>
                <a:cubicBezTo>
                  <a:pt x="6482" y="12003"/>
                  <a:pt x="6480" y="11944"/>
                  <a:pt x="6449" y="11906"/>
                </a:cubicBezTo>
                <a:cubicBezTo>
                  <a:pt x="6423" y="11873"/>
                  <a:pt x="6400" y="11798"/>
                  <a:pt x="6350" y="11857"/>
                </a:cubicBezTo>
                <a:cubicBezTo>
                  <a:pt x="6324" y="11888"/>
                  <a:pt x="6324" y="11933"/>
                  <a:pt x="6300" y="11981"/>
                </a:cubicBezTo>
                <a:cubicBezTo>
                  <a:pt x="6271" y="12040"/>
                  <a:pt x="6269" y="12070"/>
                  <a:pt x="6300" y="12129"/>
                </a:cubicBezTo>
                <a:cubicBezTo>
                  <a:pt x="6335" y="12195"/>
                  <a:pt x="6360" y="12258"/>
                  <a:pt x="6424" y="12303"/>
                </a:cubicBezTo>
                <a:cubicBezTo>
                  <a:pt x="6468" y="12334"/>
                  <a:pt x="6543" y="12393"/>
                  <a:pt x="6598" y="12402"/>
                </a:cubicBezTo>
                <a:cubicBezTo>
                  <a:pt x="6670" y="12414"/>
                  <a:pt x="6727" y="12437"/>
                  <a:pt x="6796" y="12452"/>
                </a:cubicBezTo>
                <a:cubicBezTo>
                  <a:pt x="6853" y="12464"/>
                  <a:pt x="6888" y="12415"/>
                  <a:pt x="6945" y="12427"/>
                </a:cubicBezTo>
                <a:cubicBezTo>
                  <a:pt x="6988" y="12436"/>
                  <a:pt x="6962" y="12437"/>
                  <a:pt x="6970" y="1247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71960" y="4152960"/>
            <a:ext cx="438120" cy="776160"/>
          </a:xfrm>
          <a:custGeom>
            <a:avLst/>
            <a:gdLst/>
            <a:ahLst/>
            <a:rect l="l" t="t" r="r" b="b"/>
            <a:pathLst>
              <a:path w="1216" h="2159">
                <a:moveTo>
                  <a:pt x="11485" y="12254"/>
                </a:moveTo>
                <a:cubicBezTo>
                  <a:pt x="11548" y="12263"/>
                  <a:pt x="11588" y="12278"/>
                  <a:pt x="11658" y="12278"/>
                </a:cubicBezTo>
                <a:cubicBezTo>
                  <a:pt x="11777" y="12278"/>
                  <a:pt x="11900" y="12285"/>
                  <a:pt x="12005" y="12254"/>
                </a:cubicBezTo>
                <a:cubicBezTo>
                  <a:pt x="12013" y="12254"/>
                  <a:pt x="12022" y="12254"/>
                  <a:pt x="12030" y="12254"/>
                </a:cubicBezTo>
              </a:path>
              <a:path w="1216" h="2159">
                <a:moveTo>
                  <a:pt x="11509" y="12229"/>
                </a:moveTo>
                <a:cubicBezTo>
                  <a:pt x="11490" y="12302"/>
                  <a:pt x="11478" y="12361"/>
                  <a:pt x="11460" y="12427"/>
                </a:cubicBezTo>
                <a:cubicBezTo>
                  <a:pt x="11442" y="12493"/>
                  <a:pt x="11439" y="12515"/>
                  <a:pt x="11435" y="12576"/>
                </a:cubicBezTo>
                <a:cubicBezTo>
                  <a:pt x="11435" y="12584"/>
                  <a:pt x="11435" y="12593"/>
                  <a:pt x="11435" y="12601"/>
                </a:cubicBezTo>
                <a:cubicBezTo>
                  <a:pt x="11474" y="12578"/>
                  <a:pt x="11523" y="12558"/>
                  <a:pt x="11559" y="12526"/>
                </a:cubicBezTo>
                <a:cubicBezTo>
                  <a:pt x="11577" y="12510"/>
                  <a:pt x="11671" y="12475"/>
                  <a:pt x="11683" y="12477"/>
                </a:cubicBezTo>
                <a:cubicBezTo>
                  <a:pt x="11703" y="12481"/>
                  <a:pt x="11787" y="12514"/>
                  <a:pt x="11807" y="12526"/>
                </a:cubicBezTo>
                <a:cubicBezTo>
                  <a:pt x="11855" y="12555"/>
                  <a:pt x="11924" y="12610"/>
                  <a:pt x="11956" y="12650"/>
                </a:cubicBezTo>
                <a:cubicBezTo>
                  <a:pt x="12000" y="12705"/>
                  <a:pt x="12095" y="12878"/>
                  <a:pt x="12080" y="12948"/>
                </a:cubicBezTo>
                <a:cubicBezTo>
                  <a:pt x="12068" y="13000"/>
                  <a:pt x="12047" y="13107"/>
                  <a:pt x="12005" y="13146"/>
                </a:cubicBezTo>
                <a:cubicBezTo>
                  <a:pt x="11961" y="13187"/>
                  <a:pt x="11838" y="13237"/>
                  <a:pt x="11782" y="13246"/>
                </a:cubicBezTo>
                <a:cubicBezTo>
                  <a:pt x="11675" y="13264"/>
                  <a:pt x="11534" y="13256"/>
                  <a:pt x="11435" y="13221"/>
                </a:cubicBezTo>
                <a:cubicBezTo>
                  <a:pt x="11330" y="13184"/>
                  <a:pt x="11366" y="13197"/>
                  <a:pt x="11336" y="13097"/>
                </a:cubicBezTo>
                <a:cubicBezTo>
                  <a:pt x="11328" y="13080"/>
                  <a:pt x="11319" y="13064"/>
                  <a:pt x="11311" y="13047"/>
                </a:cubicBezTo>
              </a:path>
              <a:path w="1216" h="2159">
                <a:moveTo>
                  <a:pt x="11658" y="11534"/>
                </a:moveTo>
                <a:cubicBezTo>
                  <a:pt x="11779" y="11614"/>
                  <a:pt x="11905" y="11701"/>
                  <a:pt x="12005" y="11807"/>
                </a:cubicBezTo>
                <a:cubicBezTo>
                  <a:pt x="12104" y="11912"/>
                  <a:pt x="12198" y="12059"/>
                  <a:pt x="12278" y="12179"/>
                </a:cubicBezTo>
                <a:cubicBezTo>
                  <a:pt x="12375" y="12326"/>
                  <a:pt x="12448" y="12507"/>
                  <a:pt x="12502" y="12675"/>
                </a:cubicBezTo>
                <a:cubicBezTo>
                  <a:pt x="12554" y="12837"/>
                  <a:pt x="12522" y="12971"/>
                  <a:pt x="12477" y="13122"/>
                </a:cubicBezTo>
                <a:cubicBezTo>
                  <a:pt x="12438" y="13254"/>
                  <a:pt x="12368" y="13339"/>
                  <a:pt x="12278" y="13444"/>
                </a:cubicBezTo>
                <a:cubicBezTo>
                  <a:pt x="12198" y="13537"/>
                  <a:pt x="12105" y="13625"/>
                  <a:pt x="12005" y="1369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22920" y="2820960"/>
            <a:ext cx="1650960" cy="866880"/>
          </a:xfrm>
          <a:custGeom>
            <a:avLst/>
            <a:gdLst/>
            <a:ahLst/>
            <a:rect l="l" t="t" r="r" b="b"/>
            <a:pathLst>
              <a:path w="4589" h="2407">
                <a:moveTo>
                  <a:pt x="13395" y="8310"/>
                </a:moveTo>
                <a:cubicBezTo>
                  <a:pt x="13395" y="8543"/>
                  <a:pt x="13394" y="8776"/>
                  <a:pt x="13419" y="9004"/>
                </a:cubicBezTo>
                <a:cubicBezTo>
                  <a:pt x="13432" y="9119"/>
                  <a:pt x="13431" y="9238"/>
                  <a:pt x="13444" y="9351"/>
                </a:cubicBezTo>
                <a:cubicBezTo>
                  <a:pt x="13462" y="9509"/>
                  <a:pt x="13448" y="9667"/>
                  <a:pt x="13469" y="9823"/>
                </a:cubicBezTo>
                <a:cubicBezTo>
                  <a:pt x="13486" y="9946"/>
                  <a:pt x="13469" y="10021"/>
                  <a:pt x="13469" y="10145"/>
                </a:cubicBezTo>
                <a:cubicBezTo>
                  <a:pt x="13485" y="10103"/>
                  <a:pt x="13491" y="10096"/>
                  <a:pt x="13494" y="10046"/>
                </a:cubicBezTo>
                <a:cubicBezTo>
                  <a:pt x="13498" y="9981"/>
                  <a:pt x="13509" y="9933"/>
                  <a:pt x="13519" y="9872"/>
                </a:cubicBezTo>
                <a:cubicBezTo>
                  <a:pt x="13531" y="9802"/>
                  <a:pt x="13565" y="9740"/>
                  <a:pt x="13593" y="9674"/>
                </a:cubicBezTo>
                <a:cubicBezTo>
                  <a:pt x="13623" y="9605"/>
                  <a:pt x="13658" y="9549"/>
                  <a:pt x="13717" y="9500"/>
                </a:cubicBezTo>
                <a:cubicBezTo>
                  <a:pt x="13765" y="9461"/>
                  <a:pt x="13813" y="9449"/>
                  <a:pt x="13866" y="9426"/>
                </a:cubicBezTo>
                <a:cubicBezTo>
                  <a:pt x="13941" y="9393"/>
                  <a:pt x="13989" y="9392"/>
                  <a:pt x="14064" y="9426"/>
                </a:cubicBezTo>
                <a:cubicBezTo>
                  <a:pt x="14126" y="9454"/>
                  <a:pt x="14186" y="9483"/>
                  <a:pt x="14238" y="9525"/>
                </a:cubicBezTo>
                <a:cubicBezTo>
                  <a:pt x="14293" y="9569"/>
                  <a:pt x="14359" y="9659"/>
                  <a:pt x="14387" y="9723"/>
                </a:cubicBezTo>
                <a:cubicBezTo>
                  <a:pt x="14424" y="9807"/>
                  <a:pt x="14418" y="9870"/>
                  <a:pt x="14412" y="9947"/>
                </a:cubicBezTo>
                <a:cubicBezTo>
                  <a:pt x="14407" y="10008"/>
                  <a:pt x="14388" y="10097"/>
                  <a:pt x="14337" y="10145"/>
                </a:cubicBezTo>
                <a:cubicBezTo>
                  <a:pt x="14283" y="10195"/>
                  <a:pt x="14115" y="10227"/>
                  <a:pt x="14039" y="10220"/>
                </a:cubicBezTo>
                <a:cubicBezTo>
                  <a:pt x="13914" y="10208"/>
                  <a:pt x="13789" y="10184"/>
                  <a:pt x="13667" y="10170"/>
                </a:cubicBezTo>
                <a:cubicBezTo>
                  <a:pt x="13591" y="10161"/>
                  <a:pt x="13516" y="10143"/>
                  <a:pt x="13444" y="10120"/>
                </a:cubicBezTo>
                <a:cubicBezTo>
                  <a:pt x="13401" y="10106"/>
                  <a:pt x="13418" y="10094"/>
                  <a:pt x="13395" y="10071"/>
                </a:cubicBezTo>
              </a:path>
              <a:path w="4589" h="2407">
                <a:moveTo>
                  <a:pt x="14560" y="7938"/>
                </a:moveTo>
                <a:cubicBezTo>
                  <a:pt x="14560" y="8029"/>
                  <a:pt x="14571" y="8101"/>
                  <a:pt x="14585" y="8186"/>
                </a:cubicBezTo>
                <a:cubicBezTo>
                  <a:pt x="14598" y="8266"/>
                  <a:pt x="14606" y="8355"/>
                  <a:pt x="14610" y="8434"/>
                </a:cubicBezTo>
                <a:cubicBezTo>
                  <a:pt x="14613" y="8483"/>
                  <a:pt x="14624" y="8545"/>
                  <a:pt x="14585" y="8558"/>
                </a:cubicBezTo>
                <a:cubicBezTo>
                  <a:pt x="14585" y="8523"/>
                  <a:pt x="14590" y="8505"/>
                  <a:pt x="14610" y="8483"/>
                </a:cubicBezTo>
              </a:path>
              <a:path w="4589" h="2407">
                <a:moveTo>
                  <a:pt x="14957" y="7888"/>
                </a:moveTo>
                <a:cubicBezTo>
                  <a:pt x="14975" y="7874"/>
                  <a:pt x="15031" y="7827"/>
                  <a:pt x="15056" y="7838"/>
                </a:cubicBezTo>
                <a:cubicBezTo>
                  <a:pt x="15083" y="7850"/>
                  <a:pt x="15134" y="7873"/>
                  <a:pt x="15156" y="7888"/>
                </a:cubicBezTo>
                <a:cubicBezTo>
                  <a:pt x="15183" y="7906"/>
                  <a:pt x="15196" y="7981"/>
                  <a:pt x="15180" y="8012"/>
                </a:cubicBezTo>
                <a:cubicBezTo>
                  <a:pt x="15157" y="8054"/>
                  <a:pt x="15111" y="8066"/>
                  <a:pt x="15081" y="8086"/>
                </a:cubicBezTo>
                <a:cubicBezTo>
                  <a:pt x="15048" y="8108"/>
                  <a:pt x="15015" y="8138"/>
                  <a:pt x="15007" y="8161"/>
                </a:cubicBezTo>
                <a:cubicBezTo>
                  <a:pt x="15063" y="8161"/>
                  <a:pt x="15040" y="8141"/>
                  <a:pt x="15081" y="8136"/>
                </a:cubicBezTo>
                <a:cubicBezTo>
                  <a:pt x="15143" y="8128"/>
                  <a:pt x="15181" y="8145"/>
                  <a:pt x="15230" y="8161"/>
                </a:cubicBezTo>
                <a:cubicBezTo>
                  <a:pt x="15294" y="8182"/>
                  <a:pt x="15318" y="8215"/>
                  <a:pt x="15329" y="8285"/>
                </a:cubicBezTo>
                <a:cubicBezTo>
                  <a:pt x="15335" y="8328"/>
                  <a:pt x="15331" y="8353"/>
                  <a:pt x="15304" y="8384"/>
                </a:cubicBezTo>
                <a:cubicBezTo>
                  <a:pt x="15272" y="8421"/>
                  <a:pt x="15227" y="8430"/>
                  <a:pt x="15180" y="8434"/>
                </a:cubicBezTo>
                <a:cubicBezTo>
                  <a:pt x="15128" y="8438"/>
                  <a:pt x="15047" y="8413"/>
                  <a:pt x="15032" y="8458"/>
                </a:cubicBezTo>
              </a:path>
              <a:path w="4589" h="2407">
                <a:moveTo>
                  <a:pt x="15801" y="9103"/>
                </a:moveTo>
                <a:cubicBezTo>
                  <a:pt x="16008" y="9103"/>
                  <a:pt x="16578" y="9103"/>
                  <a:pt x="16371" y="9103"/>
                </a:cubicBezTo>
                <a:cubicBezTo>
                  <a:pt x="16363" y="9103"/>
                  <a:pt x="16354" y="9103"/>
                  <a:pt x="16346" y="9103"/>
                </a:cubicBezTo>
              </a:path>
              <a:path w="4589" h="2407">
                <a:moveTo>
                  <a:pt x="15850" y="9376"/>
                </a:moveTo>
                <a:cubicBezTo>
                  <a:pt x="15925" y="9376"/>
                  <a:pt x="15980" y="9363"/>
                  <a:pt x="16049" y="9351"/>
                </a:cubicBezTo>
                <a:cubicBezTo>
                  <a:pt x="16137" y="9336"/>
                  <a:pt x="16217" y="9362"/>
                  <a:pt x="16297" y="9376"/>
                </a:cubicBezTo>
                <a:cubicBezTo>
                  <a:pt x="16335" y="9382"/>
                  <a:pt x="16382" y="9376"/>
                  <a:pt x="16421" y="9376"/>
                </a:cubicBezTo>
              </a:path>
              <a:path w="4589" h="2407">
                <a:moveTo>
                  <a:pt x="17066" y="8756"/>
                </a:moveTo>
                <a:cubicBezTo>
                  <a:pt x="17066" y="8773"/>
                  <a:pt x="17066" y="8789"/>
                  <a:pt x="17066" y="8806"/>
                </a:cubicBezTo>
                <a:cubicBezTo>
                  <a:pt x="17070" y="8769"/>
                  <a:pt x="17072" y="8736"/>
                  <a:pt x="17090" y="8706"/>
                </a:cubicBezTo>
                <a:cubicBezTo>
                  <a:pt x="17107" y="8678"/>
                  <a:pt x="17108" y="8666"/>
                  <a:pt x="17140" y="8657"/>
                </a:cubicBezTo>
                <a:cubicBezTo>
                  <a:pt x="17183" y="8645"/>
                  <a:pt x="17219" y="8635"/>
                  <a:pt x="17264" y="8632"/>
                </a:cubicBezTo>
                <a:cubicBezTo>
                  <a:pt x="17462" y="8621"/>
                  <a:pt x="17734" y="8685"/>
                  <a:pt x="17909" y="8607"/>
                </a:cubicBezTo>
                <a:cubicBezTo>
                  <a:pt x="17967" y="8581"/>
                  <a:pt x="17929" y="8563"/>
                  <a:pt x="17959" y="8533"/>
                </a:cubicBezTo>
                <a:cubicBezTo>
                  <a:pt x="17967" y="8533"/>
                  <a:pt x="17975" y="8533"/>
                  <a:pt x="17983" y="8533"/>
                </a:cubicBezTo>
                <a:cubicBezTo>
                  <a:pt x="17972" y="8563"/>
                  <a:pt x="17955" y="8615"/>
                  <a:pt x="17959" y="8632"/>
                </a:cubicBezTo>
                <a:cubicBezTo>
                  <a:pt x="17974" y="8702"/>
                  <a:pt x="17983" y="8753"/>
                  <a:pt x="17983" y="8830"/>
                </a:cubicBezTo>
                <a:cubicBezTo>
                  <a:pt x="17983" y="9096"/>
                  <a:pt x="17989" y="9362"/>
                  <a:pt x="17959" y="9624"/>
                </a:cubicBezTo>
                <a:cubicBezTo>
                  <a:pt x="17948" y="9716"/>
                  <a:pt x="17959" y="9810"/>
                  <a:pt x="17934" y="9897"/>
                </a:cubicBezTo>
                <a:cubicBezTo>
                  <a:pt x="17911" y="9976"/>
                  <a:pt x="17896" y="10064"/>
                  <a:pt x="17884" y="10145"/>
                </a:cubicBezTo>
                <a:cubicBezTo>
                  <a:pt x="17878" y="10186"/>
                  <a:pt x="17922" y="10205"/>
                  <a:pt x="17884" y="10220"/>
                </a:cubicBezTo>
                <a:cubicBezTo>
                  <a:pt x="17876" y="10220"/>
                  <a:pt x="17867" y="10220"/>
                  <a:pt x="17859" y="1022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73760" y="4133880"/>
            <a:ext cx="1662120" cy="957240"/>
          </a:xfrm>
          <a:custGeom>
            <a:avLst/>
            <a:gdLst/>
            <a:ahLst/>
            <a:rect l="l" t="t" r="r" b="b"/>
            <a:pathLst>
              <a:path w="4615" h="2655">
                <a:moveTo>
                  <a:pt x="13866" y="11485"/>
                </a:moveTo>
                <a:cubicBezTo>
                  <a:pt x="13882" y="11516"/>
                  <a:pt x="13891" y="11515"/>
                  <a:pt x="13891" y="11584"/>
                </a:cubicBezTo>
                <a:cubicBezTo>
                  <a:pt x="13891" y="11649"/>
                  <a:pt x="13869" y="11694"/>
                  <a:pt x="13866" y="11757"/>
                </a:cubicBezTo>
                <a:cubicBezTo>
                  <a:pt x="13860" y="11885"/>
                  <a:pt x="13855" y="12005"/>
                  <a:pt x="13841" y="12129"/>
                </a:cubicBezTo>
                <a:cubicBezTo>
                  <a:pt x="13805" y="12449"/>
                  <a:pt x="13869" y="12783"/>
                  <a:pt x="13816" y="13097"/>
                </a:cubicBezTo>
                <a:cubicBezTo>
                  <a:pt x="13810" y="13132"/>
                  <a:pt x="13816" y="13186"/>
                  <a:pt x="13816" y="13221"/>
                </a:cubicBezTo>
                <a:cubicBezTo>
                  <a:pt x="13828" y="13178"/>
                  <a:pt x="13835" y="13142"/>
                  <a:pt x="13841" y="13097"/>
                </a:cubicBezTo>
              </a:path>
              <a:path w="4615" h="2655">
                <a:moveTo>
                  <a:pt x="14312" y="12576"/>
                </a:moveTo>
                <a:cubicBezTo>
                  <a:pt x="14289" y="12651"/>
                  <a:pt x="14259" y="12710"/>
                  <a:pt x="14238" y="12774"/>
                </a:cubicBezTo>
                <a:cubicBezTo>
                  <a:pt x="14210" y="12862"/>
                  <a:pt x="14195" y="12961"/>
                  <a:pt x="14238" y="13047"/>
                </a:cubicBezTo>
                <a:cubicBezTo>
                  <a:pt x="14267" y="13105"/>
                  <a:pt x="14305" y="13141"/>
                  <a:pt x="14362" y="13171"/>
                </a:cubicBezTo>
                <a:cubicBezTo>
                  <a:pt x="14423" y="13203"/>
                  <a:pt x="14488" y="13241"/>
                  <a:pt x="14560" y="13221"/>
                </a:cubicBezTo>
                <a:cubicBezTo>
                  <a:pt x="14618" y="13205"/>
                  <a:pt x="14674" y="13174"/>
                  <a:pt x="14709" y="13122"/>
                </a:cubicBezTo>
                <a:cubicBezTo>
                  <a:pt x="14751" y="13059"/>
                  <a:pt x="14779" y="12974"/>
                  <a:pt x="14759" y="12898"/>
                </a:cubicBezTo>
                <a:cubicBezTo>
                  <a:pt x="14738" y="12819"/>
                  <a:pt x="14722" y="12752"/>
                  <a:pt x="14684" y="12675"/>
                </a:cubicBezTo>
                <a:cubicBezTo>
                  <a:pt x="14658" y="12623"/>
                  <a:pt x="14624" y="12569"/>
                  <a:pt x="14585" y="12526"/>
                </a:cubicBezTo>
                <a:cubicBezTo>
                  <a:pt x="14554" y="12492"/>
                  <a:pt x="14512" y="12452"/>
                  <a:pt x="14461" y="12477"/>
                </a:cubicBezTo>
                <a:cubicBezTo>
                  <a:pt x="14422" y="12497"/>
                  <a:pt x="14401" y="12544"/>
                  <a:pt x="14387" y="12576"/>
                </a:cubicBezTo>
                <a:cubicBezTo>
                  <a:pt x="14352" y="12657"/>
                  <a:pt x="14337" y="12712"/>
                  <a:pt x="14337" y="12799"/>
                </a:cubicBezTo>
                <a:cubicBezTo>
                  <a:pt x="14337" y="12863"/>
                  <a:pt x="14340" y="12889"/>
                  <a:pt x="14362" y="12948"/>
                </a:cubicBezTo>
              </a:path>
              <a:path w="4615" h="2655">
                <a:moveTo>
                  <a:pt x="15354" y="12774"/>
                </a:moveTo>
                <a:cubicBezTo>
                  <a:pt x="15375" y="12657"/>
                  <a:pt x="15406" y="12628"/>
                  <a:pt x="15329" y="12551"/>
                </a:cubicBezTo>
                <a:cubicBezTo>
                  <a:pt x="15258" y="12480"/>
                  <a:pt x="15214" y="12494"/>
                  <a:pt x="15106" y="12526"/>
                </a:cubicBezTo>
                <a:cubicBezTo>
                  <a:pt x="15033" y="12547"/>
                  <a:pt x="14991" y="12586"/>
                  <a:pt x="14957" y="12650"/>
                </a:cubicBezTo>
                <a:cubicBezTo>
                  <a:pt x="14925" y="12711"/>
                  <a:pt x="14889" y="12777"/>
                  <a:pt x="14908" y="12849"/>
                </a:cubicBezTo>
                <a:cubicBezTo>
                  <a:pt x="14924" y="12909"/>
                  <a:pt x="14981" y="13036"/>
                  <a:pt x="15032" y="13072"/>
                </a:cubicBezTo>
                <a:cubicBezTo>
                  <a:pt x="15089" y="13113"/>
                  <a:pt x="15146" y="13115"/>
                  <a:pt x="15205" y="13097"/>
                </a:cubicBezTo>
                <a:cubicBezTo>
                  <a:pt x="15276" y="13075"/>
                  <a:pt x="15293" y="13066"/>
                  <a:pt x="15329" y="12998"/>
                </a:cubicBezTo>
                <a:cubicBezTo>
                  <a:pt x="15353" y="12953"/>
                  <a:pt x="15422" y="12873"/>
                  <a:pt x="15429" y="12824"/>
                </a:cubicBezTo>
                <a:cubicBezTo>
                  <a:pt x="15429" y="12783"/>
                  <a:pt x="15429" y="12758"/>
                  <a:pt x="15429" y="12725"/>
                </a:cubicBezTo>
                <a:cubicBezTo>
                  <a:pt x="15429" y="12766"/>
                  <a:pt x="15440" y="12759"/>
                  <a:pt x="15429" y="12799"/>
                </a:cubicBezTo>
                <a:cubicBezTo>
                  <a:pt x="15405" y="12884"/>
                  <a:pt x="15404" y="12954"/>
                  <a:pt x="15404" y="13047"/>
                </a:cubicBezTo>
                <a:cubicBezTo>
                  <a:pt x="15404" y="13249"/>
                  <a:pt x="15411" y="13446"/>
                  <a:pt x="15429" y="13643"/>
                </a:cubicBezTo>
                <a:cubicBezTo>
                  <a:pt x="15439" y="13749"/>
                  <a:pt x="15463" y="13969"/>
                  <a:pt x="15404" y="14064"/>
                </a:cubicBezTo>
                <a:cubicBezTo>
                  <a:pt x="15381" y="14101"/>
                  <a:pt x="15327" y="14155"/>
                  <a:pt x="15280" y="14139"/>
                </a:cubicBezTo>
                <a:cubicBezTo>
                  <a:pt x="15230" y="14122"/>
                  <a:pt x="15157" y="14099"/>
                  <a:pt x="15106" y="14064"/>
                </a:cubicBezTo>
                <a:cubicBezTo>
                  <a:pt x="15051" y="14026"/>
                  <a:pt x="15039" y="13950"/>
                  <a:pt x="15032" y="13891"/>
                </a:cubicBezTo>
              </a:path>
              <a:path w="4615" h="2655">
                <a:moveTo>
                  <a:pt x="15801" y="13122"/>
                </a:moveTo>
                <a:cubicBezTo>
                  <a:pt x="15801" y="13146"/>
                  <a:pt x="15801" y="13155"/>
                  <a:pt x="15801" y="13171"/>
                </a:cubicBezTo>
                <a:cubicBezTo>
                  <a:pt x="15772" y="13181"/>
                  <a:pt x="15756" y="13205"/>
                  <a:pt x="15751" y="13246"/>
                </a:cubicBezTo>
                <a:cubicBezTo>
                  <a:pt x="15751" y="13271"/>
                  <a:pt x="15751" y="13279"/>
                  <a:pt x="15751" y="13295"/>
                </a:cubicBezTo>
                <a:cubicBezTo>
                  <a:pt x="15797" y="13295"/>
                  <a:pt x="15809" y="13315"/>
                  <a:pt x="15850" y="13320"/>
                </a:cubicBezTo>
                <a:cubicBezTo>
                  <a:pt x="15892" y="13325"/>
                  <a:pt x="15911" y="13341"/>
                  <a:pt x="15949" y="13345"/>
                </a:cubicBezTo>
                <a:cubicBezTo>
                  <a:pt x="15957" y="13345"/>
                  <a:pt x="15966" y="13345"/>
                  <a:pt x="15974" y="13345"/>
                </a:cubicBezTo>
              </a:path>
              <a:path w="4615" h="2655">
                <a:moveTo>
                  <a:pt x="16024" y="13047"/>
                </a:moveTo>
                <a:cubicBezTo>
                  <a:pt x="16024" y="13216"/>
                  <a:pt x="16022" y="13383"/>
                  <a:pt x="16049" y="13543"/>
                </a:cubicBezTo>
                <a:cubicBezTo>
                  <a:pt x="16057" y="13589"/>
                  <a:pt x="16049" y="13645"/>
                  <a:pt x="16049" y="13692"/>
                </a:cubicBezTo>
              </a:path>
              <a:path w="4615" h="2655">
                <a:moveTo>
                  <a:pt x="16396" y="11633"/>
                </a:moveTo>
                <a:cubicBezTo>
                  <a:pt x="16390" y="11682"/>
                  <a:pt x="16386" y="11736"/>
                  <a:pt x="16371" y="11782"/>
                </a:cubicBezTo>
                <a:cubicBezTo>
                  <a:pt x="16349" y="11849"/>
                  <a:pt x="16325" y="11910"/>
                  <a:pt x="16321" y="11981"/>
                </a:cubicBezTo>
                <a:cubicBezTo>
                  <a:pt x="16317" y="12050"/>
                  <a:pt x="16312" y="12137"/>
                  <a:pt x="16297" y="12204"/>
                </a:cubicBezTo>
                <a:cubicBezTo>
                  <a:pt x="16271" y="12324"/>
                  <a:pt x="16282" y="12405"/>
                  <a:pt x="16297" y="12526"/>
                </a:cubicBezTo>
                <a:cubicBezTo>
                  <a:pt x="16307" y="12608"/>
                  <a:pt x="16307" y="12648"/>
                  <a:pt x="16346" y="12725"/>
                </a:cubicBezTo>
                <a:cubicBezTo>
                  <a:pt x="16386" y="12803"/>
                  <a:pt x="16403" y="12824"/>
                  <a:pt x="16470" y="12874"/>
                </a:cubicBezTo>
                <a:cubicBezTo>
                  <a:pt x="16528" y="12917"/>
                  <a:pt x="16549" y="12919"/>
                  <a:pt x="16619" y="12923"/>
                </a:cubicBezTo>
                <a:cubicBezTo>
                  <a:pt x="16693" y="12927"/>
                  <a:pt x="16717" y="12924"/>
                  <a:pt x="16768" y="12874"/>
                </a:cubicBezTo>
                <a:cubicBezTo>
                  <a:pt x="16818" y="12824"/>
                  <a:pt x="16815" y="12820"/>
                  <a:pt x="16818" y="12750"/>
                </a:cubicBezTo>
                <a:cubicBezTo>
                  <a:pt x="16821" y="12690"/>
                  <a:pt x="16810" y="12671"/>
                  <a:pt x="16793" y="12626"/>
                </a:cubicBezTo>
                <a:cubicBezTo>
                  <a:pt x="16770" y="12567"/>
                  <a:pt x="16751" y="12508"/>
                  <a:pt x="16669" y="12526"/>
                </a:cubicBezTo>
                <a:cubicBezTo>
                  <a:pt x="16606" y="12540"/>
                  <a:pt x="16592" y="12583"/>
                  <a:pt x="16570" y="12626"/>
                </a:cubicBezTo>
                <a:cubicBezTo>
                  <a:pt x="16538" y="12686"/>
                  <a:pt x="16545" y="12731"/>
                  <a:pt x="16545" y="12799"/>
                </a:cubicBezTo>
                <a:cubicBezTo>
                  <a:pt x="16545" y="12853"/>
                  <a:pt x="16560" y="12878"/>
                  <a:pt x="16570" y="12923"/>
                </a:cubicBezTo>
                <a:cubicBezTo>
                  <a:pt x="16570" y="12931"/>
                  <a:pt x="16570" y="12940"/>
                  <a:pt x="16570" y="12948"/>
                </a:cubicBezTo>
              </a:path>
              <a:path w="4615" h="2655">
                <a:moveTo>
                  <a:pt x="17016" y="11832"/>
                </a:moveTo>
                <a:cubicBezTo>
                  <a:pt x="17016" y="11930"/>
                  <a:pt x="16976" y="12156"/>
                  <a:pt x="17041" y="12229"/>
                </a:cubicBezTo>
                <a:cubicBezTo>
                  <a:pt x="17074" y="12266"/>
                  <a:pt x="17101" y="12286"/>
                  <a:pt x="17140" y="12303"/>
                </a:cubicBezTo>
                <a:cubicBezTo>
                  <a:pt x="17203" y="12330"/>
                  <a:pt x="17246" y="12328"/>
                  <a:pt x="17314" y="12328"/>
                </a:cubicBezTo>
                <a:cubicBezTo>
                  <a:pt x="17373" y="12328"/>
                  <a:pt x="17370" y="12335"/>
                  <a:pt x="17413" y="12303"/>
                </a:cubicBezTo>
              </a:path>
              <a:path w="4615" h="2655">
                <a:moveTo>
                  <a:pt x="17438" y="11584"/>
                </a:moveTo>
                <a:cubicBezTo>
                  <a:pt x="17400" y="11658"/>
                  <a:pt x="17388" y="11699"/>
                  <a:pt x="17388" y="11782"/>
                </a:cubicBezTo>
                <a:cubicBezTo>
                  <a:pt x="17388" y="12000"/>
                  <a:pt x="17389" y="12215"/>
                  <a:pt x="17413" y="12427"/>
                </a:cubicBezTo>
                <a:cubicBezTo>
                  <a:pt x="17422" y="12512"/>
                  <a:pt x="17425" y="12594"/>
                  <a:pt x="17438" y="12675"/>
                </a:cubicBezTo>
                <a:cubicBezTo>
                  <a:pt x="17447" y="12733"/>
                  <a:pt x="17459" y="12791"/>
                  <a:pt x="17462" y="12849"/>
                </a:cubicBezTo>
                <a:cubicBezTo>
                  <a:pt x="17462" y="12893"/>
                  <a:pt x="17459" y="12907"/>
                  <a:pt x="17487" y="12923"/>
                </a:cubicBezTo>
              </a:path>
              <a:path w="4615" h="2655">
                <a:moveTo>
                  <a:pt x="17859" y="12303"/>
                </a:moveTo>
                <a:cubicBezTo>
                  <a:pt x="18028" y="12303"/>
                  <a:pt x="18229" y="12329"/>
                  <a:pt x="18380" y="12278"/>
                </a:cubicBezTo>
                <a:cubicBezTo>
                  <a:pt x="18388" y="12278"/>
                  <a:pt x="18397" y="12278"/>
                  <a:pt x="18405" y="12278"/>
                </a:cubicBezTo>
              </a:path>
              <a:path w="4615" h="2655">
                <a:moveTo>
                  <a:pt x="17959" y="12576"/>
                </a:moveTo>
                <a:cubicBezTo>
                  <a:pt x="18060" y="12610"/>
                  <a:pt x="18155" y="12634"/>
                  <a:pt x="18256" y="12650"/>
                </a:cubicBezTo>
                <a:cubicBezTo>
                  <a:pt x="18313" y="12659"/>
                  <a:pt x="18387" y="12627"/>
                  <a:pt x="18430" y="1260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86720" y="4205160"/>
            <a:ext cx="223560" cy="455760"/>
          </a:xfrm>
          <a:custGeom>
            <a:avLst/>
            <a:gdLst/>
            <a:ahLst/>
            <a:rect l="l" t="t" r="r" b="b"/>
            <a:pathLst>
              <a:path w="621" h="1266">
                <a:moveTo>
                  <a:pt x="18852" y="11857"/>
                </a:moveTo>
                <a:cubicBezTo>
                  <a:pt x="18929" y="11744"/>
                  <a:pt x="18934" y="11743"/>
                  <a:pt x="19050" y="11708"/>
                </a:cubicBezTo>
                <a:cubicBezTo>
                  <a:pt x="19123" y="11686"/>
                  <a:pt x="19150" y="11680"/>
                  <a:pt x="19224" y="11708"/>
                </a:cubicBezTo>
                <a:cubicBezTo>
                  <a:pt x="19289" y="11733"/>
                  <a:pt x="19310" y="11762"/>
                  <a:pt x="19298" y="11832"/>
                </a:cubicBezTo>
                <a:cubicBezTo>
                  <a:pt x="19288" y="11887"/>
                  <a:pt x="19257" y="11957"/>
                  <a:pt x="19224" y="12005"/>
                </a:cubicBezTo>
                <a:cubicBezTo>
                  <a:pt x="19191" y="12053"/>
                  <a:pt x="19159" y="12107"/>
                  <a:pt x="19124" y="12154"/>
                </a:cubicBezTo>
                <a:cubicBezTo>
                  <a:pt x="19100" y="12186"/>
                  <a:pt x="19069" y="12229"/>
                  <a:pt x="19050" y="12254"/>
                </a:cubicBezTo>
                <a:cubicBezTo>
                  <a:pt x="19042" y="12264"/>
                  <a:pt x="19011" y="12292"/>
                  <a:pt x="19000" y="12303"/>
                </a:cubicBezTo>
                <a:cubicBezTo>
                  <a:pt x="19085" y="12303"/>
                  <a:pt x="19178" y="12291"/>
                  <a:pt x="19248" y="12328"/>
                </a:cubicBezTo>
                <a:cubicBezTo>
                  <a:pt x="19287" y="12349"/>
                  <a:pt x="19334" y="12366"/>
                  <a:pt x="19372" y="12402"/>
                </a:cubicBezTo>
                <a:cubicBezTo>
                  <a:pt x="19431" y="12457"/>
                  <a:pt x="19459" y="12524"/>
                  <a:pt x="19472" y="12601"/>
                </a:cubicBezTo>
                <a:cubicBezTo>
                  <a:pt x="19484" y="12675"/>
                  <a:pt x="19475" y="12758"/>
                  <a:pt x="19447" y="12824"/>
                </a:cubicBezTo>
                <a:cubicBezTo>
                  <a:pt x="19418" y="12892"/>
                  <a:pt x="19422" y="12890"/>
                  <a:pt x="19372" y="12923"/>
                </a:cubicBezTo>
                <a:cubicBezTo>
                  <a:pt x="19335" y="12947"/>
                  <a:pt x="19269" y="12961"/>
                  <a:pt x="19224" y="12948"/>
                </a:cubicBezTo>
                <a:cubicBezTo>
                  <a:pt x="19179" y="12936"/>
                  <a:pt x="19153" y="12926"/>
                  <a:pt x="19100" y="12923"/>
                </a:cubicBezTo>
                <a:cubicBezTo>
                  <a:pt x="19055" y="12921"/>
                  <a:pt x="19040" y="12905"/>
                  <a:pt x="19000" y="12898"/>
                </a:cubicBezTo>
                <a:cubicBezTo>
                  <a:pt x="18984" y="12898"/>
                  <a:pt x="18967" y="12898"/>
                  <a:pt x="18951" y="128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9880" y="1652760"/>
            <a:ext cx="1714320" cy="1009440"/>
          </a:xfrm>
          <a:custGeom>
            <a:avLst/>
            <a:gdLst/>
            <a:ahLst/>
            <a:rect l="l" t="t" r="r" b="b"/>
            <a:pathLst>
              <a:path w="4763" h="2804">
                <a:moveTo>
                  <a:pt x="2356" y="4887"/>
                </a:moveTo>
                <a:cubicBezTo>
                  <a:pt x="2371" y="4912"/>
                  <a:pt x="2378" y="4908"/>
                  <a:pt x="2381" y="4961"/>
                </a:cubicBezTo>
                <a:cubicBezTo>
                  <a:pt x="2393" y="5161"/>
                  <a:pt x="2383" y="5360"/>
                  <a:pt x="2406" y="5556"/>
                </a:cubicBezTo>
                <a:cubicBezTo>
                  <a:pt x="2439" y="5841"/>
                  <a:pt x="2416" y="6173"/>
                  <a:pt x="2381" y="6449"/>
                </a:cubicBezTo>
                <a:cubicBezTo>
                  <a:pt x="2372" y="6519"/>
                  <a:pt x="2366" y="6581"/>
                  <a:pt x="2356" y="6648"/>
                </a:cubicBezTo>
                <a:cubicBezTo>
                  <a:pt x="2350" y="6688"/>
                  <a:pt x="2312" y="6728"/>
                  <a:pt x="2332" y="6697"/>
                </a:cubicBezTo>
                <a:cubicBezTo>
                  <a:pt x="2340" y="6689"/>
                  <a:pt x="2348" y="6680"/>
                  <a:pt x="2356" y="6672"/>
                </a:cubicBezTo>
              </a:path>
              <a:path w="4763" h="2804">
                <a:moveTo>
                  <a:pt x="2828" y="5928"/>
                </a:moveTo>
                <a:cubicBezTo>
                  <a:pt x="2810" y="5959"/>
                  <a:pt x="2785" y="6019"/>
                  <a:pt x="2778" y="6052"/>
                </a:cubicBezTo>
                <a:cubicBezTo>
                  <a:pt x="2754" y="6165"/>
                  <a:pt x="2753" y="6249"/>
                  <a:pt x="2753" y="6375"/>
                </a:cubicBezTo>
                <a:cubicBezTo>
                  <a:pt x="2753" y="6442"/>
                  <a:pt x="2762" y="6490"/>
                  <a:pt x="2803" y="6548"/>
                </a:cubicBezTo>
                <a:cubicBezTo>
                  <a:pt x="2826" y="6580"/>
                  <a:pt x="2864" y="6620"/>
                  <a:pt x="2902" y="6623"/>
                </a:cubicBezTo>
                <a:cubicBezTo>
                  <a:pt x="2968" y="6628"/>
                  <a:pt x="3021" y="6611"/>
                  <a:pt x="3076" y="6573"/>
                </a:cubicBezTo>
                <a:cubicBezTo>
                  <a:pt x="3153" y="6519"/>
                  <a:pt x="3245" y="6412"/>
                  <a:pt x="3274" y="6325"/>
                </a:cubicBezTo>
                <a:cubicBezTo>
                  <a:pt x="3299" y="6248"/>
                  <a:pt x="3279" y="6097"/>
                  <a:pt x="3249" y="6028"/>
                </a:cubicBezTo>
                <a:cubicBezTo>
                  <a:pt x="3226" y="5975"/>
                  <a:pt x="3188" y="5921"/>
                  <a:pt x="3150" y="5879"/>
                </a:cubicBezTo>
                <a:cubicBezTo>
                  <a:pt x="3128" y="5854"/>
                  <a:pt x="3032" y="5818"/>
                  <a:pt x="3001" y="5829"/>
                </a:cubicBezTo>
                <a:cubicBezTo>
                  <a:pt x="2966" y="5841"/>
                  <a:pt x="2931" y="5876"/>
                  <a:pt x="2902" y="5904"/>
                </a:cubicBezTo>
                <a:cubicBezTo>
                  <a:pt x="2870" y="5935"/>
                  <a:pt x="2863" y="5968"/>
                  <a:pt x="2828" y="6003"/>
                </a:cubicBezTo>
                <a:cubicBezTo>
                  <a:pt x="2789" y="6042"/>
                  <a:pt x="2803" y="6098"/>
                  <a:pt x="2803" y="6152"/>
                </a:cubicBezTo>
              </a:path>
              <a:path w="4763" h="2804">
                <a:moveTo>
                  <a:pt x="3845" y="6201"/>
                </a:moveTo>
                <a:cubicBezTo>
                  <a:pt x="3885" y="6190"/>
                  <a:pt x="3904" y="6204"/>
                  <a:pt x="3919" y="6152"/>
                </a:cubicBezTo>
                <a:cubicBezTo>
                  <a:pt x="3933" y="6104"/>
                  <a:pt x="3901" y="6086"/>
                  <a:pt x="3894" y="6052"/>
                </a:cubicBezTo>
                <a:cubicBezTo>
                  <a:pt x="3880" y="5983"/>
                  <a:pt x="3883" y="5967"/>
                  <a:pt x="3845" y="5904"/>
                </a:cubicBezTo>
                <a:cubicBezTo>
                  <a:pt x="3818" y="5860"/>
                  <a:pt x="3830" y="5858"/>
                  <a:pt x="3770" y="5854"/>
                </a:cubicBezTo>
                <a:cubicBezTo>
                  <a:pt x="3701" y="5850"/>
                  <a:pt x="3693" y="5858"/>
                  <a:pt x="3646" y="5904"/>
                </a:cubicBezTo>
                <a:cubicBezTo>
                  <a:pt x="3600" y="5949"/>
                  <a:pt x="3576" y="5994"/>
                  <a:pt x="3547" y="6052"/>
                </a:cubicBezTo>
                <a:cubicBezTo>
                  <a:pt x="3509" y="6127"/>
                  <a:pt x="3502" y="6240"/>
                  <a:pt x="3497" y="6325"/>
                </a:cubicBezTo>
                <a:cubicBezTo>
                  <a:pt x="3494" y="6378"/>
                  <a:pt x="3518" y="6454"/>
                  <a:pt x="3547" y="6499"/>
                </a:cubicBezTo>
                <a:cubicBezTo>
                  <a:pt x="3570" y="6534"/>
                  <a:pt x="3604" y="6558"/>
                  <a:pt x="3646" y="6548"/>
                </a:cubicBezTo>
                <a:cubicBezTo>
                  <a:pt x="3690" y="6538"/>
                  <a:pt x="3713" y="6508"/>
                  <a:pt x="3746" y="6474"/>
                </a:cubicBezTo>
                <a:cubicBezTo>
                  <a:pt x="3803" y="6416"/>
                  <a:pt x="3821" y="6342"/>
                  <a:pt x="3845" y="6276"/>
                </a:cubicBezTo>
                <a:cubicBezTo>
                  <a:pt x="3864" y="6223"/>
                  <a:pt x="3868" y="6172"/>
                  <a:pt x="3894" y="6127"/>
                </a:cubicBezTo>
                <a:cubicBezTo>
                  <a:pt x="3894" y="6168"/>
                  <a:pt x="3894" y="6160"/>
                  <a:pt x="3894" y="6201"/>
                </a:cubicBezTo>
                <a:cubicBezTo>
                  <a:pt x="3894" y="6276"/>
                  <a:pt x="3865" y="6385"/>
                  <a:pt x="3870" y="6449"/>
                </a:cubicBezTo>
                <a:cubicBezTo>
                  <a:pt x="3879" y="6550"/>
                  <a:pt x="3892" y="6640"/>
                  <a:pt x="3894" y="6747"/>
                </a:cubicBezTo>
                <a:cubicBezTo>
                  <a:pt x="3897" y="6904"/>
                  <a:pt x="3891" y="7043"/>
                  <a:pt x="3870" y="7193"/>
                </a:cubicBezTo>
                <a:cubicBezTo>
                  <a:pt x="3859" y="7274"/>
                  <a:pt x="3860" y="7300"/>
                  <a:pt x="3795" y="7342"/>
                </a:cubicBezTo>
                <a:cubicBezTo>
                  <a:pt x="3778" y="7353"/>
                  <a:pt x="3738" y="7386"/>
                  <a:pt x="3696" y="7392"/>
                </a:cubicBezTo>
                <a:cubicBezTo>
                  <a:pt x="3656" y="7397"/>
                  <a:pt x="3572" y="7407"/>
                  <a:pt x="3547" y="7367"/>
                </a:cubicBezTo>
                <a:cubicBezTo>
                  <a:pt x="3547" y="7359"/>
                  <a:pt x="3547" y="7350"/>
                  <a:pt x="3547" y="7342"/>
                </a:cubicBezTo>
              </a:path>
              <a:path w="4763" h="2804">
                <a:moveTo>
                  <a:pt x="4390" y="6524"/>
                </a:moveTo>
                <a:cubicBezTo>
                  <a:pt x="4390" y="6566"/>
                  <a:pt x="4369" y="6505"/>
                  <a:pt x="4366" y="6499"/>
                </a:cubicBezTo>
                <a:cubicBezTo>
                  <a:pt x="4355" y="6476"/>
                  <a:pt x="4364" y="6415"/>
                  <a:pt x="4341" y="6400"/>
                </a:cubicBezTo>
                <a:cubicBezTo>
                  <a:pt x="4333" y="6400"/>
                  <a:pt x="4324" y="6400"/>
                  <a:pt x="4316" y="6400"/>
                </a:cubicBezTo>
                <a:cubicBezTo>
                  <a:pt x="4299" y="6405"/>
                  <a:pt x="4255" y="6422"/>
                  <a:pt x="4242" y="6449"/>
                </a:cubicBezTo>
                <a:cubicBezTo>
                  <a:pt x="4217" y="6501"/>
                  <a:pt x="4192" y="6561"/>
                  <a:pt x="4192" y="6623"/>
                </a:cubicBezTo>
                <a:cubicBezTo>
                  <a:pt x="4192" y="6655"/>
                  <a:pt x="4192" y="6730"/>
                  <a:pt x="4217" y="6747"/>
                </a:cubicBezTo>
                <a:cubicBezTo>
                  <a:pt x="4237" y="6760"/>
                  <a:pt x="4311" y="6730"/>
                  <a:pt x="4316" y="6722"/>
                </a:cubicBezTo>
                <a:cubicBezTo>
                  <a:pt x="4340" y="6686"/>
                  <a:pt x="4366" y="6647"/>
                  <a:pt x="4366" y="6598"/>
                </a:cubicBezTo>
                <a:cubicBezTo>
                  <a:pt x="4366" y="6573"/>
                  <a:pt x="4366" y="6565"/>
                  <a:pt x="4390" y="6573"/>
                </a:cubicBezTo>
                <a:cubicBezTo>
                  <a:pt x="4379" y="6608"/>
                  <a:pt x="4374" y="6618"/>
                  <a:pt x="4415" y="6648"/>
                </a:cubicBezTo>
                <a:cubicBezTo>
                  <a:pt x="4435" y="6662"/>
                  <a:pt x="4510" y="6720"/>
                  <a:pt x="4514" y="6722"/>
                </a:cubicBezTo>
                <a:cubicBezTo>
                  <a:pt x="4547" y="6739"/>
                  <a:pt x="4509" y="6712"/>
                  <a:pt x="4539" y="6697"/>
                </a:cubicBezTo>
              </a:path>
              <a:path w="4763" h="2804">
                <a:moveTo>
                  <a:pt x="5383" y="5655"/>
                </a:moveTo>
                <a:cubicBezTo>
                  <a:pt x="5383" y="5713"/>
                  <a:pt x="5383" y="5722"/>
                  <a:pt x="5383" y="5755"/>
                </a:cubicBezTo>
                <a:cubicBezTo>
                  <a:pt x="5360" y="5716"/>
                  <a:pt x="5375" y="5692"/>
                  <a:pt x="5358" y="5655"/>
                </a:cubicBezTo>
                <a:cubicBezTo>
                  <a:pt x="5329" y="5594"/>
                  <a:pt x="5350" y="5554"/>
                  <a:pt x="5333" y="5482"/>
                </a:cubicBezTo>
                <a:cubicBezTo>
                  <a:pt x="5325" y="5449"/>
                  <a:pt x="5299" y="5383"/>
                  <a:pt x="5283" y="5358"/>
                </a:cubicBezTo>
                <a:cubicBezTo>
                  <a:pt x="5256" y="5315"/>
                  <a:pt x="5242" y="5310"/>
                  <a:pt x="5209" y="5283"/>
                </a:cubicBezTo>
                <a:cubicBezTo>
                  <a:pt x="5174" y="5254"/>
                  <a:pt x="5145" y="5277"/>
                  <a:pt x="5110" y="5308"/>
                </a:cubicBezTo>
                <a:cubicBezTo>
                  <a:pt x="5072" y="5342"/>
                  <a:pt x="5015" y="5392"/>
                  <a:pt x="4986" y="5432"/>
                </a:cubicBezTo>
                <a:cubicBezTo>
                  <a:pt x="4935" y="5504"/>
                  <a:pt x="4894" y="5570"/>
                  <a:pt x="4862" y="5655"/>
                </a:cubicBezTo>
                <a:cubicBezTo>
                  <a:pt x="4830" y="5740"/>
                  <a:pt x="4815" y="5839"/>
                  <a:pt x="4812" y="5928"/>
                </a:cubicBezTo>
                <a:cubicBezTo>
                  <a:pt x="4809" y="6008"/>
                  <a:pt x="4841" y="6085"/>
                  <a:pt x="4887" y="6152"/>
                </a:cubicBezTo>
                <a:cubicBezTo>
                  <a:pt x="4925" y="6207"/>
                  <a:pt x="4951" y="6198"/>
                  <a:pt x="5011" y="6201"/>
                </a:cubicBezTo>
                <a:cubicBezTo>
                  <a:pt x="5054" y="6203"/>
                  <a:pt x="5130" y="6161"/>
                  <a:pt x="5159" y="6127"/>
                </a:cubicBezTo>
                <a:cubicBezTo>
                  <a:pt x="5218" y="6058"/>
                  <a:pt x="5247" y="5987"/>
                  <a:pt x="5283" y="5904"/>
                </a:cubicBezTo>
                <a:cubicBezTo>
                  <a:pt x="5308" y="5846"/>
                  <a:pt x="5352" y="5828"/>
                  <a:pt x="5383" y="5779"/>
                </a:cubicBezTo>
                <a:cubicBezTo>
                  <a:pt x="5383" y="5751"/>
                  <a:pt x="5385" y="5741"/>
                  <a:pt x="5407" y="5730"/>
                </a:cubicBezTo>
                <a:cubicBezTo>
                  <a:pt x="5436" y="5778"/>
                  <a:pt x="5432" y="5791"/>
                  <a:pt x="5432" y="5854"/>
                </a:cubicBezTo>
                <a:cubicBezTo>
                  <a:pt x="5432" y="5923"/>
                  <a:pt x="5419" y="5991"/>
                  <a:pt x="5457" y="6052"/>
                </a:cubicBezTo>
                <a:cubicBezTo>
                  <a:pt x="5484" y="6096"/>
                  <a:pt x="5479" y="6143"/>
                  <a:pt x="5531" y="6176"/>
                </a:cubicBezTo>
                <a:cubicBezTo>
                  <a:pt x="5568" y="6200"/>
                  <a:pt x="5625" y="6228"/>
                  <a:pt x="5655" y="6251"/>
                </a:cubicBezTo>
                <a:cubicBezTo>
                  <a:pt x="5710" y="6293"/>
                  <a:pt x="5642" y="6258"/>
                  <a:pt x="5680" y="6226"/>
                </a:cubicBezTo>
                <a:cubicBezTo>
                  <a:pt x="5688" y="6226"/>
                  <a:pt x="5697" y="6226"/>
                  <a:pt x="5705" y="6226"/>
                </a:cubicBezTo>
              </a:path>
              <a:path w="4763" h="2804">
                <a:moveTo>
                  <a:pt x="5730" y="4663"/>
                </a:moveTo>
                <a:cubicBezTo>
                  <a:pt x="5774" y="4663"/>
                  <a:pt x="5779" y="4656"/>
                  <a:pt x="5804" y="4638"/>
                </a:cubicBezTo>
                <a:cubicBezTo>
                  <a:pt x="5836" y="4615"/>
                  <a:pt x="5887" y="4599"/>
                  <a:pt x="5928" y="4589"/>
                </a:cubicBezTo>
                <a:cubicBezTo>
                  <a:pt x="5958" y="4581"/>
                  <a:pt x="5997" y="4602"/>
                  <a:pt x="6003" y="4614"/>
                </a:cubicBezTo>
                <a:cubicBezTo>
                  <a:pt x="6027" y="4660"/>
                  <a:pt x="5972" y="4706"/>
                  <a:pt x="5953" y="4738"/>
                </a:cubicBezTo>
                <a:cubicBezTo>
                  <a:pt x="5917" y="4797"/>
                  <a:pt x="5902" y="4805"/>
                  <a:pt x="5854" y="4837"/>
                </a:cubicBezTo>
                <a:cubicBezTo>
                  <a:pt x="5846" y="4845"/>
                  <a:pt x="5837" y="4854"/>
                  <a:pt x="5829" y="4862"/>
                </a:cubicBezTo>
                <a:cubicBezTo>
                  <a:pt x="5869" y="4852"/>
                  <a:pt x="5888" y="4820"/>
                  <a:pt x="5904" y="4812"/>
                </a:cubicBezTo>
                <a:cubicBezTo>
                  <a:pt x="5932" y="4797"/>
                  <a:pt x="6014" y="4809"/>
                  <a:pt x="6028" y="4837"/>
                </a:cubicBezTo>
                <a:cubicBezTo>
                  <a:pt x="6049" y="4878"/>
                  <a:pt x="6052" y="4909"/>
                  <a:pt x="6052" y="4961"/>
                </a:cubicBezTo>
                <a:cubicBezTo>
                  <a:pt x="6052" y="5016"/>
                  <a:pt x="6028" y="5041"/>
                  <a:pt x="6003" y="5060"/>
                </a:cubicBezTo>
                <a:cubicBezTo>
                  <a:pt x="5972" y="5083"/>
                  <a:pt x="5942" y="5106"/>
                  <a:pt x="5904" y="5110"/>
                </a:cubicBezTo>
                <a:cubicBezTo>
                  <a:pt x="5856" y="5115"/>
                  <a:pt x="5825" y="5090"/>
                  <a:pt x="5779" y="5085"/>
                </a:cubicBezTo>
                <a:cubicBezTo>
                  <a:pt x="5770" y="5084"/>
                  <a:pt x="5689" y="5085"/>
                  <a:pt x="5755" y="5085"/>
                </a:cubicBezTo>
              </a:path>
              <a:path w="4763" h="2804">
                <a:moveTo>
                  <a:pt x="6697" y="5482"/>
                </a:moveTo>
                <a:cubicBezTo>
                  <a:pt x="6751" y="5482"/>
                  <a:pt x="6766" y="5504"/>
                  <a:pt x="6821" y="5507"/>
                </a:cubicBezTo>
                <a:cubicBezTo>
                  <a:pt x="6895" y="5510"/>
                  <a:pt x="6947" y="5531"/>
                  <a:pt x="7020" y="5531"/>
                </a:cubicBezTo>
                <a:cubicBezTo>
                  <a:pt x="7045" y="5531"/>
                  <a:pt x="7069" y="5531"/>
                  <a:pt x="7094" y="5531"/>
                </a:cubicBezTo>
              </a:path>
              <a:path w="4763" h="2804">
                <a:moveTo>
                  <a:pt x="6722" y="5705"/>
                </a:moveTo>
                <a:cubicBezTo>
                  <a:pt x="6806" y="5733"/>
                  <a:pt x="6905" y="5742"/>
                  <a:pt x="6995" y="5755"/>
                </a:cubicBezTo>
                <a:cubicBezTo>
                  <a:pt x="7036" y="5761"/>
                  <a:pt x="7056" y="5770"/>
                  <a:pt x="7094" y="577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86040" y="1724040"/>
            <a:ext cx="303120" cy="463680"/>
          </a:xfrm>
          <a:custGeom>
            <a:avLst/>
            <a:gdLst/>
            <a:ahLst/>
            <a:rect l="l" t="t" r="r" b="b"/>
            <a:pathLst>
              <a:path w="844" h="1291">
                <a:moveTo>
                  <a:pt x="7739" y="5085"/>
                </a:moveTo>
                <a:cubicBezTo>
                  <a:pt x="7756" y="5068"/>
                  <a:pt x="7772" y="5052"/>
                  <a:pt x="7789" y="5035"/>
                </a:cubicBezTo>
                <a:cubicBezTo>
                  <a:pt x="7809" y="5015"/>
                  <a:pt x="7853" y="4971"/>
                  <a:pt x="7888" y="4936"/>
                </a:cubicBezTo>
                <a:cubicBezTo>
                  <a:pt x="7929" y="4895"/>
                  <a:pt x="7979" y="4850"/>
                  <a:pt x="8037" y="4837"/>
                </a:cubicBezTo>
                <a:cubicBezTo>
                  <a:pt x="8095" y="4824"/>
                  <a:pt x="8149" y="4797"/>
                  <a:pt x="8210" y="4787"/>
                </a:cubicBezTo>
                <a:cubicBezTo>
                  <a:pt x="8274" y="4776"/>
                  <a:pt x="8307" y="4803"/>
                  <a:pt x="8359" y="4812"/>
                </a:cubicBezTo>
                <a:cubicBezTo>
                  <a:pt x="8410" y="4821"/>
                  <a:pt x="8462" y="4839"/>
                  <a:pt x="8458" y="4911"/>
                </a:cubicBezTo>
                <a:cubicBezTo>
                  <a:pt x="8456" y="4954"/>
                  <a:pt x="8429" y="4998"/>
                  <a:pt x="8409" y="5035"/>
                </a:cubicBezTo>
                <a:cubicBezTo>
                  <a:pt x="8360" y="5127"/>
                  <a:pt x="8361" y="5088"/>
                  <a:pt x="8310" y="5159"/>
                </a:cubicBezTo>
                <a:cubicBezTo>
                  <a:pt x="8268" y="5217"/>
                  <a:pt x="8166" y="5254"/>
                  <a:pt x="8111" y="5308"/>
                </a:cubicBezTo>
                <a:cubicBezTo>
                  <a:pt x="8079" y="5339"/>
                  <a:pt x="8047" y="5348"/>
                  <a:pt x="8012" y="5383"/>
                </a:cubicBezTo>
                <a:cubicBezTo>
                  <a:pt x="8029" y="5366"/>
                  <a:pt x="8059" y="5353"/>
                  <a:pt x="8086" y="5333"/>
                </a:cubicBezTo>
                <a:cubicBezTo>
                  <a:pt x="8129" y="5300"/>
                  <a:pt x="8152" y="5308"/>
                  <a:pt x="8210" y="5308"/>
                </a:cubicBezTo>
                <a:cubicBezTo>
                  <a:pt x="8263" y="5308"/>
                  <a:pt x="8290" y="5309"/>
                  <a:pt x="8334" y="5333"/>
                </a:cubicBezTo>
                <a:cubicBezTo>
                  <a:pt x="8369" y="5352"/>
                  <a:pt x="8402" y="5354"/>
                  <a:pt x="8434" y="5383"/>
                </a:cubicBezTo>
                <a:cubicBezTo>
                  <a:pt x="8475" y="5420"/>
                  <a:pt x="8512" y="5456"/>
                  <a:pt x="8533" y="5507"/>
                </a:cubicBezTo>
                <a:cubicBezTo>
                  <a:pt x="8558" y="5568"/>
                  <a:pt x="8579" y="5637"/>
                  <a:pt x="8582" y="5705"/>
                </a:cubicBezTo>
                <a:cubicBezTo>
                  <a:pt x="8585" y="5755"/>
                  <a:pt x="8560" y="5835"/>
                  <a:pt x="8533" y="5879"/>
                </a:cubicBezTo>
                <a:cubicBezTo>
                  <a:pt x="8496" y="5939"/>
                  <a:pt x="8463" y="5962"/>
                  <a:pt x="8409" y="6003"/>
                </a:cubicBezTo>
                <a:cubicBezTo>
                  <a:pt x="8376" y="6028"/>
                  <a:pt x="8281" y="6069"/>
                  <a:pt x="8235" y="6077"/>
                </a:cubicBezTo>
                <a:cubicBezTo>
                  <a:pt x="8157" y="6090"/>
                  <a:pt x="8106" y="6064"/>
                  <a:pt x="8037" y="6052"/>
                </a:cubicBezTo>
                <a:cubicBezTo>
                  <a:pt x="7986" y="6043"/>
                  <a:pt x="7955" y="6052"/>
                  <a:pt x="7913" y="6028"/>
                </a:cubicBezTo>
                <a:cubicBezTo>
                  <a:pt x="7872" y="6005"/>
                  <a:pt x="7912" y="5985"/>
                  <a:pt x="7913" y="5978"/>
                </a:cubicBezTo>
                <a:cubicBezTo>
                  <a:pt x="7920" y="5945"/>
                  <a:pt x="7954" y="5937"/>
                  <a:pt x="7913" y="597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47800" y="2982960"/>
            <a:ext cx="331560" cy="544320"/>
          </a:xfrm>
          <a:custGeom>
            <a:avLst/>
            <a:gdLst/>
            <a:ahLst/>
            <a:rect l="l" t="t" r="r" b="b"/>
            <a:pathLst>
              <a:path w="919" h="1514">
                <a:moveTo>
                  <a:pt x="2356" y="8285"/>
                </a:moveTo>
                <a:cubicBezTo>
                  <a:pt x="2398" y="8340"/>
                  <a:pt x="2363" y="8325"/>
                  <a:pt x="2356" y="8384"/>
                </a:cubicBezTo>
                <a:cubicBezTo>
                  <a:pt x="2342" y="8510"/>
                  <a:pt x="2364" y="8635"/>
                  <a:pt x="2381" y="8756"/>
                </a:cubicBezTo>
                <a:cubicBezTo>
                  <a:pt x="2402" y="8901"/>
                  <a:pt x="2391" y="9058"/>
                  <a:pt x="2406" y="9203"/>
                </a:cubicBezTo>
                <a:cubicBezTo>
                  <a:pt x="2422" y="9357"/>
                  <a:pt x="2437" y="9662"/>
                  <a:pt x="2381" y="9773"/>
                </a:cubicBezTo>
                <a:cubicBezTo>
                  <a:pt x="2381" y="9798"/>
                  <a:pt x="2381" y="9806"/>
                  <a:pt x="2381" y="9773"/>
                </a:cubicBezTo>
              </a:path>
              <a:path w="919" h="1514">
                <a:moveTo>
                  <a:pt x="2604" y="9227"/>
                </a:moveTo>
                <a:cubicBezTo>
                  <a:pt x="2604" y="9364"/>
                  <a:pt x="2606" y="9494"/>
                  <a:pt x="2629" y="9624"/>
                </a:cubicBezTo>
                <a:cubicBezTo>
                  <a:pt x="2636" y="9661"/>
                  <a:pt x="2629" y="9709"/>
                  <a:pt x="2629" y="9748"/>
                </a:cubicBezTo>
                <a:cubicBezTo>
                  <a:pt x="2629" y="9680"/>
                  <a:pt x="2620" y="9638"/>
                  <a:pt x="2604" y="9575"/>
                </a:cubicBezTo>
                <a:cubicBezTo>
                  <a:pt x="2590" y="9521"/>
                  <a:pt x="2618" y="9451"/>
                  <a:pt x="2629" y="9401"/>
                </a:cubicBezTo>
                <a:cubicBezTo>
                  <a:pt x="2643" y="9337"/>
                  <a:pt x="2674" y="9225"/>
                  <a:pt x="2729" y="9178"/>
                </a:cubicBezTo>
                <a:cubicBezTo>
                  <a:pt x="2777" y="9136"/>
                  <a:pt x="2816" y="9128"/>
                  <a:pt x="2877" y="9128"/>
                </a:cubicBezTo>
                <a:cubicBezTo>
                  <a:pt x="2942" y="9128"/>
                  <a:pt x="2987" y="9118"/>
                  <a:pt x="3026" y="9178"/>
                </a:cubicBezTo>
                <a:cubicBezTo>
                  <a:pt x="3058" y="9227"/>
                  <a:pt x="3112" y="9292"/>
                  <a:pt x="3125" y="9351"/>
                </a:cubicBezTo>
                <a:cubicBezTo>
                  <a:pt x="3151" y="9470"/>
                  <a:pt x="3087" y="9621"/>
                  <a:pt x="3150" y="9723"/>
                </a:cubicBezTo>
                <a:cubicBezTo>
                  <a:pt x="3150" y="9757"/>
                  <a:pt x="3155" y="9717"/>
                  <a:pt x="3175" y="9699"/>
                </a:cubicBezTo>
                <a:cubicBezTo>
                  <a:pt x="3208" y="9666"/>
                  <a:pt x="3241" y="9632"/>
                  <a:pt x="3274" y="95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84200" y="3232080"/>
            <a:ext cx="142920" cy="241200"/>
          </a:xfrm>
          <a:custGeom>
            <a:avLst/>
            <a:gdLst/>
            <a:ahLst/>
            <a:rect l="l" t="t" r="r" b="b"/>
            <a:pathLst>
              <a:path w="398" h="671">
                <a:moveTo>
                  <a:pt x="3845" y="9302"/>
                </a:moveTo>
                <a:cubicBezTo>
                  <a:pt x="3889" y="9335"/>
                  <a:pt x="3911" y="9327"/>
                  <a:pt x="3969" y="9327"/>
                </a:cubicBezTo>
                <a:cubicBezTo>
                  <a:pt x="4015" y="9327"/>
                  <a:pt x="4076" y="9297"/>
                  <a:pt x="4118" y="9277"/>
                </a:cubicBezTo>
                <a:cubicBezTo>
                  <a:pt x="4145" y="9264"/>
                  <a:pt x="4234" y="9214"/>
                  <a:pt x="4242" y="9178"/>
                </a:cubicBezTo>
                <a:cubicBezTo>
                  <a:pt x="4250" y="9141"/>
                  <a:pt x="4255" y="9028"/>
                  <a:pt x="4217" y="9004"/>
                </a:cubicBezTo>
                <a:cubicBezTo>
                  <a:pt x="4189" y="8987"/>
                  <a:pt x="4155" y="8979"/>
                  <a:pt x="4118" y="8979"/>
                </a:cubicBezTo>
                <a:cubicBezTo>
                  <a:pt x="4073" y="8979"/>
                  <a:pt x="4025" y="9001"/>
                  <a:pt x="3994" y="9029"/>
                </a:cubicBezTo>
                <a:cubicBezTo>
                  <a:pt x="3942" y="9075"/>
                  <a:pt x="3932" y="9147"/>
                  <a:pt x="3894" y="9203"/>
                </a:cubicBezTo>
                <a:cubicBezTo>
                  <a:pt x="3850" y="9267"/>
                  <a:pt x="3845" y="9297"/>
                  <a:pt x="3845" y="9376"/>
                </a:cubicBezTo>
                <a:cubicBezTo>
                  <a:pt x="3845" y="9450"/>
                  <a:pt x="3843" y="9492"/>
                  <a:pt x="3894" y="9550"/>
                </a:cubicBezTo>
                <a:cubicBezTo>
                  <a:pt x="3922" y="9581"/>
                  <a:pt x="4001" y="9639"/>
                  <a:pt x="4043" y="9649"/>
                </a:cubicBezTo>
                <a:cubicBezTo>
                  <a:pt x="4091" y="9660"/>
                  <a:pt x="4237" y="9665"/>
                  <a:pt x="4242" y="9624"/>
                </a:cubicBezTo>
                <a:cubicBezTo>
                  <a:pt x="4242" y="9616"/>
                  <a:pt x="4242" y="9607"/>
                  <a:pt x="4242" y="95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87680" y="2820960"/>
            <a:ext cx="661680" cy="349200"/>
          </a:xfrm>
          <a:custGeom>
            <a:avLst/>
            <a:gdLst/>
            <a:ahLst/>
            <a:rect l="l" t="t" r="r" b="b"/>
            <a:pathLst>
              <a:path w="1837" h="969">
                <a:moveTo>
                  <a:pt x="4911" y="8037"/>
                </a:moveTo>
                <a:cubicBezTo>
                  <a:pt x="4856" y="8100"/>
                  <a:pt x="4825" y="8160"/>
                  <a:pt x="4787" y="8235"/>
                </a:cubicBezTo>
                <a:cubicBezTo>
                  <a:pt x="4749" y="8310"/>
                  <a:pt x="4717" y="8373"/>
                  <a:pt x="4713" y="8458"/>
                </a:cubicBezTo>
                <a:cubicBezTo>
                  <a:pt x="4709" y="8536"/>
                  <a:pt x="4679" y="8608"/>
                  <a:pt x="4713" y="8682"/>
                </a:cubicBezTo>
                <a:cubicBezTo>
                  <a:pt x="4725" y="8709"/>
                  <a:pt x="4778" y="8796"/>
                  <a:pt x="4812" y="8806"/>
                </a:cubicBezTo>
                <a:cubicBezTo>
                  <a:pt x="4873" y="8823"/>
                  <a:pt x="4917" y="8791"/>
                  <a:pt x="4961" y="8756"/>
                </a:cubicBezTo>
              </a:path>
              <a:path w="1837" h="969">
                <a:moveTo>
                  <a:pt x="5209" y="8086"/>
                </a:moveTo>
                <a:cubicBezTo>
                  <a:pt x="5209" y="8175"/>
                  <a:pt x="5168" y="8585"/>
                  <a:pt x="5234" y="8607"/>
                </a:cubicBezTo>
              </a:path>
              <a:path w="1837" h="969">
                <a:moveTo>
                  <a:pt x="5457" y="8384"/>
                </a:moveTo>
                <a:cubicBezTo>
                  <a:pt x="5543" y="8371"/>
                  <a:pt x="5615" y="8373"/>
                  <a:pt x="5680" y="8334"/>
                </a:cubicBezTo>
              </a:path>
              <a:path w="1837" h="969">
                <a:moveTo>
                  <a:pt x="5928" y="8062"/>
                </a:moveTo>
                <a:cubicBezTo>
                  <a:pt x="5928" y="8119"/>
                  <a:pt x="5920" y="8161"/>
                  <a:pt x="5953" y="8210"/>
                </a:cubicBezTo>
                <a:cubicBezTo>
                  <a:pt x="5994" y="8271"/>
                  <a:pt x="5992" y="8322"/>
                  <a:pt x="6052" y="8384"/>
                </a:cubicBezTo>
                <a:cubicBezTo>
                  <a:pt x="6061" y="8393"/>
                  <a:pt x="6200" y="8576"/>
                  <a:pt x="6276" y="8533"/>
                </a:cubicBezTo>
                <a:cubicBezTo>
                  <a:pt x="6309" y="8514"/>
                  <a:pt x="6300" y="8489"/>
                  <a:pt x="6300" y="8458"/>
                </a:cubicBezTo>
              </a:path>
              <a:path w="1837" h="969">
                <a:moveTo>
                  <a:pt x="6226" y="8086"/>
                </a:moveTo>
                <a:cubicBezTo>
                  <a:pt x="6180" y="8152"/>
                  <a:pt x="6146" y="8220"/>
                  <a:pt x="6102" y="8285"/>
                </a:cubicBezTo>
                <a:cubicBezTo>
                  <a:pt x="6048" y="8365"/>
                  <a:pt x="6007" y="8455"/>
                  <a:pt x="5953" y="8533"/>
                </a:cubicBezTo>
                <a:cubicBezTo>
                  <a:pt x="5942" y="8548"/>
                  <a:pt x="5888" y="8619"/>
                  <a:pt x="5879" y="8607"/>
                </a:cubicBezTo>
                <a:cubicBezTo>
                  <a:pt x="5879" y="8579"/>
                  <a:pt x="5881" y="8568"/>
                  <a:pt x="5904" y="8558"/>
                </a:cubicBezTo>
              </a:path>
              <a:path w="1837" h="969">
                <a:moveTo>
                  <a:pt x="6350" y="7838"/>
                </a:moveTo>
                <a:cubicBezTo>
                  <a:pt x="6426" y="7899"/>
                  <a:pt x="6462" y="7944"/>
                  <a:pt x="6499" y="8037"/>
                </a:cubicBezTo>
                <a:cubicBezTo>
                  <a:pt x="6532" y="8120"/>
                  <a:pt x="6524" y="8198"/>
                  <a:pt x="6524" y="8285"/>
                </a:cubicBezTo>
                <a:cubicBezTo>
                  <a:pt x="6524" y="8365"/>
                  <a:pt x="6522" y="8415"/>
                  <a:pt x="6474" y="8483"/>
                </a:cubicBezTo>
                <a:cubicBezTo>
                  <a:pt x="6451" y="8516"/>
                  <a:pt x="6419" y="8553"/>
                  <a:pt x="6400" y="8582"/>
                </a:cubicBezTo>
                <a:cubicBezTo>
                  <a:pt x="6377" y="8605"/>
                  <a:pt x="6369" y="8609"/>
                  <a:pt x="6375" y="86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55920" y="3321000"/>
            <a:ext cx="125280" cy="63720"/>
          </a:xfrm>
          <a:custGeom>
            <a:avLst/>
            <a:gdLst/>
            <a:ahLst/>
            <a:rect l="l" t="t" r="r" b="b"/>
            <a:pathLst>
              <a:path w="349" h="175">
                <a:moveTo>
                  <a:pt x="6821" y="9227"/>
                </a:moveTo>
                <a:cubicBezTo>
                  <a:pt x="6929" y="9227"/>
                  <a:pt x="7036" y="9227"/>
                  <a:pt x="7144" y="9227"/>
                </a:cubicBezTo>
              </a:path>
              <a:path w="349" h="175">
                <a:moveTo>
                  <a:pt x="6896" y="9401"/>
                </a:moveTo>
                <a:cubicBezTo>
                  <a:pt x="6987" y="9401"/>
                  <a:pt x="7078" y="9401"/>
                  <a:pt x="7169" y="940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11320" y="3054240"/>
            <a:ext cx="731880" cy="517680"/>
          </a:xfrm>
          <a:custGeom>
            <a:avLst/>
            <a:gdLst/>
            <a:ahLst/>
            <a:rect l="l" t="t" r="r" b="b"/>
            <a:pathLst>
              <a:path w="2035" h="1440">
                <a:moveTo>
                  <a:pt x="8111" y="8483"/>
                </a:moveTo>
                <a:cubicBezTo>
                  <a:pt x="8123" y="8543"/>
                  <a:pt x="8153" y="8590"/>
                  <a:pt x="8136" y="8657"/>
                </a:cubicBezTo>
                <a:cubicBezTo>
                  <a:pt x="8111" y="8757"/>
                  <a:pt x="8128" y="8851"/>
                  <a:pt x="8111" y="8954"/>
                </a:cubicBezTo>
                <a:cubicBezTo>
                  <a:pt x="8091" y="9072"/>
                  <a:pt x="8086" y="9180"/>
                  <a:pt x="8086" y="9302"/>
                </a:cubicBezTo>
                <a:cubicBezTo>
                  <a:pt x="8086" y="9415"/>
                  <a:pt x="8097" y="9515"/>
                  <a:pt x="8111" y="9624"/>
                </a:cubicBezTo>
                <a:cubicBezTo>
                  <a:pt x="8120" y="9690"/>
                  <a:pt x="8119" y="9741"/>
                  <a:pt x="8136" y="9798"/>
                </a:cubicBezTo>
                <a:cubicBezTo>
                  <a:pt x="8136" y="9823"/>
                  <a:pt x="8136" y="9831"/>
                  <a:pt x="8136" y="9798"/>
                </a:cubicBezTo>
              </a:path>
              <a:path w="2035" h="1440">
                <a:moveTo>
                  <a:pt x="8434" y="9227"/>
                </a:moveTo>
                <a:cubicBezTo>
                  <a:pt x="8566" y="9227"/>
                  <a:pt x="8676" y="9238"/>
                  <a:pt x="8806" y="9252"/>
                </a:cubicBezTo>
                <a:cubicBezTo>
                  <a:pt x="8873" y="9259"/>
                  <a:pt x="8919" y="9247"/>
                  <a:pt x="8979" y="9227"/>
                </a:cubicBezTo>
              </a:path>
              <a:path w="2035" h="1440">
                <a:moveTo>
                  <a:pt x="9351" y="8905"/>
                </a:moveTo>
                <a:cubicBezTo>
                  <a:pt x="9365" y="8980"/>
                  <a:pt x="9357" y="9082"/>
                  <a:pt x="9376" y="9153"/>
                </a:cubicBezTo>
                <a:cubicBezTo>
                  <a:pt x="9401" y="9248"/>
                  <a:pt x="9432" y="9341"/>
                  <a:pt x="9475" y="9426"/>
                </a:cubicBezTo>
                <a:cubicBezTo>
                  <a:pt x="9537" y="9550"/>
                  <a:pt x="9624" y="9633"/>
                  <a:pt x="9723" y="9723"/>
                </a:cubicBezTo>
                <a:cubicBezTo>
                  <a:pt x="9796" y="9790"/>
                  <a:pt x="9861" y="9815"/>
                  <a:pt x="9947" y="9847"/>
                </a:cubicBezTo>
                <a:cubicBezTo>
                  <a:pt x="10024" y="9876"/>
                  <a:pt x="10037" y="9882"/>
                  <a:pt x="10096" y="9823"/>
                </a:cubicBezTo>
                <a:cubicBezTo>
                  <a:pt x="10124" y="9794"/>
                  <a:pt x="10132" y="9781"/>
                  <a:pt x="10120" y="9748"/>
                </a:cubicBezTo>
              </a:path>
              <a:path w="2035" h="1440">
                <a:moveTo>
                  <a:pt x="9798" y="8855"/>
                </a:moveTo>
                <a:cubicBezTo>
                  <a:pt x="9721" y="8980"/>
                  <a:pt x="9668" y="9101"/>
                  <a:pt x="9599" y="9227"/>
                </a:cubicBezTo>
                <a:cubicBezTo>
                  <a:pt x="9544" y="9327"/>
                  <a:pt x="9465" y="9407"/>
                  <a:pt x="9401" y="9500"/>
                </a:cubicBezTo>
                <a:cubicBezTo>
                  <a:pt x="9340" y="9587"/>
                  <a:pt x="9281" y="9661"/>
                  <a:pt x="9227" y="9748"/>
                </a:cubicBezTo>
                <a:cubicBezTo>
                  <a:pt x="9193" y="9804"/>
                  <a:pt x="9158" y="9862"/>
                  <a:pt x="9128" y="99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5880" y="4313160"/>
            <a:ext cx="357120" cy="446040"/>
          </a:xfrm>
          <a:custGeom>
            <a:avLst/>
            <a:gdLst/>
            <a:ahLst/>
            <a:rect l="l" t="t" r="r" b="b"/>
            <a:pathLst>
              <a:path w="993" h="1241">
                <a:moveTo>
                  <a:pt x="2803" y="12129"/>
                </a:moveTo>
                <a:cubicBezTo>
                  <a:pt x="2792" y="12051"/>
                  <a:pt x="2780" y="12069"/>
                  <a:pt x="2729" y="12030"/>
                </a:cubicBezTo>
                <a:cubicBezTo>
                  <a:pt x="2687" y="11998"/>
                  <a:pt x="2633" y="11984"/>
                  <a:pt x="2580" y="11981"/>
                </a:cubicBezTo>
                <a:cubicBezTo>
                  <a:pt x="2495" y="11976"/>
                  <a:pt x="2403" y="11993"/>
                  <a:pt x="2332" y="12005"/>
                </a:cubicBezTo>
                <a:cubicBezTo>
                  <a:pt x="2290" y="12012"/>
                  <a:pt x="2239" y="12001"/>
                  <a:pt x="2208" y="12030"/>
                </a:cubicBezTo>
                <a:cubicBezTo>
                  <a:pt x="2187" y="12050"/>
                  <a:pt x="2176" y="12121"/>
                  <a:pt x="2183" y="12154"/>
                </a:cubicBezTo>
                <a:cubicBezTo>
                  <a:pt x="2191" y="12190"/>
                  <a:pt x="2206" y="12225"/>
                  <a:pt x="2232" y="12254"/>
                </a:cubicBezTo>
                <a:cubicBezTo>
                  <a:pt x="2275" y="12301"/>
                  <a:pt x="2310" y="12365"/>
                  <a:pt x="2356" y="12402"/>
                </a:cubicBezTo>
                <a:cubicBezTo>
                  <a:pt x="2425" y="12457"/>
                  <a:pt x="2491" y="12511"/>
                  <a:pt x="2555" y="12576"/>
                </a:cubicBezTo>
                <a:cubicBezTo>
                  <a:pt x="2616" y="12638"/>
                  <a:pt x="2677" y="12726"/>
                  <a:pt x="2729" y="12799"/>
                </a:cubicBezTo>
                <a:cubicBezTo>
                  <a:pt x="2761" y="12843"/>
                  <a:pt x="2789" y="12970"/>
                  <a:pt x="2778" y="13022"/>
                </a:cubicBezTo>
                <a:cubicBezTo>
                  <a:pt x="2765" y="13084"/>
                  <a:pt x="2749" y="13126"/>
                  <a:pt x="2704" y="13171"/>
                </a:cubicBezTo>
                <a:cubicBezTo>
                  <a:pt x="2682" y="13193"/>
                  <a:pt x="2611" y="13224"/>
                  <a:pt x="2580" y="13221"/>
                </a:cubicBezTo>
                <a:cubicBezTo>
                  <a:pt x="2544" y="13217"/>
                  <a:pt x="2473" y="13182"/>
                  <a:pt x="2456" y="13146"/>
                </a:cubicBezTo>
                <a:cubicBezTo>
                  <a:pt x="2419" y="13068"/>
                  <a:pt x="2406" y="13007"/>
                  <a:pt x="2406" y="12923"/>
                </a:cubicBezTo>
                <a:cubicBezTo>
                  <a:pt x="2406" y="12860"/>
                  <a:pt x="2409" y="12807"/>
                  <a:pt x="2431" y="12750"/>
                </a:cubicBezTo>
                <a:cubicBezTo>
                  <a:pt x="2460" y="12675"/>
                  <a:pt x="2473" y="12597"/>
                  <a:pt x="2505" y="12526"/>
                </a:cubicBezTo>
                <a:cubicBezTo>
                  <a:pt x="2536" y="12457"/>
                  <a:pt x="2611" y="12370"/>
                  <a:pt x="2629" y="12303"/>
                </a:cubicBezTo>
                <a:cubicBezTo>
                  <a:pt x="2643" y="12249"/>
                  <a:pt x="2660" y="12227"/>
                  <a:pt x="2679" y="12179"/>
                </a:cubicBezTo>
                <a:cubicBezTo>
                  <a:pt x="2679" y="12171"/>
                  <a:pt x="2679" y="12162"/>
                  <a:pt x="2679" y="12154"/>
                </a:cubicBezTo>
              </a:path>
              <a:path w="993" h="1241">
                <a:moveTo>
                  <a:pt x="3150" y="13122"/>
                </a:moveTo>
                <a:cubicBezTo>
                  <a:pt x="3175" y="13122"/>
                  <a:pt x="3183" y="13122"/>
                  <a:pt x="3175" y="1309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81120" y="4044960"/>
            <a:ext cx="1401840" cy="1125360"/>
          </a:xfrm>
          <a:custGeom>
            <a:avLst/>
            <a:gdLst/>
            <a:ahLst/>
            <a:rect l="l" t="t" r="r" b="b"/>
            <a:pathLst>
              <a:path w="3896" h="3126">
                <a:moveTo>
                  <a:pt x="4390" y="11683"/>
                </a:moveTo>
                <a:cubicBezTo>
                  <a:pt x="4390" y="12129"/>
                  <a:pt x="4375" y="12580"/>
                  <a:pt x="4415" y="13022"/>
                </a:cubicBezTo>
                <a:cubicBezTo>
                  <a:pt x="4422" y="13096"/>
                  <a:pt x="4429" y="13153"/>
                  <a:pt x="4440" y="13221"/>
                </a:cubicBezTo>
                <a:cubicBezTo>
                  <a:pt x="4448" y="13272"/>
                  <a:pt x="4450" y="13270"/>
                  <a:pt x="4465" y="13295"/>
                </a:cubicBezTo>
              </a:path>
              <a:path w="3896" h="3126">
                <a:moveTo>
                  <a:pt x="4837" y="12700"/>
                </a:moveTo>
                <a:cubicBezTo>
                  <a:pt x="4817" y="12774"/>
                  <a:pt x="4812" y="12823"/>
                  <a:pt x="4812" y="12898"/>
                </a:cubicBezTo>
                <a:cubicBezTo>
                  <a:pt x="4812" y="12957"/>
                  <a:pt x="4828" y="13001"/>
                  <a:pt x="4837" y="13047"/>
                </a:cubicBezTo>
                <a:cubicBezTo>
                  <a:pt x="4846" y="13093"/>
                  <a:pt x="4859" y="13167"/>
                  <a:pt x="4911" y="13196"/>
                </a:cubicBezTo>
                <a:cubicBezTo>
                  <a:pt x="4953" y="13219"/>
                  <a:pt x="5011" y="13221"/>
                  <a:pt x="5060" y="13221"/>
                </a:cubicBezTo>
                <a:cubicBezTo>
                  <a:pt x="5125" y="13221"/>
                  <a:pt x="5156" y="13211"/>
                  <a:pt x="5209" y="13171"/>
                </a:cubicBezTo>
                <a:cubicBezTo>
                  <a:pt x="5241" y="13147"/>
                  <a:pt x="5299" y="13062"/>
                  <a:pt x="5308" y="13022"/>
                </a:cubicBezTo>
                <a:cubicBezTo>
                  <a:pt x="5328" y="12938"/>
                  <a:pt x="5321" y="12904"/>
                  <a:pt x="5308" y="12824"/>
                </a:cubicBezTo>
                <a:cubicBezTo>
                  <a:pt x="5296" y="12755"/>
                  <a:pt x="5277" y="12687"/>
                  <a:pt x="5234" y="12626"/>
                </a:cubicBezTo>
                <a:cubicBezTo>
                  <a:pt x="5185" y="12555"/>
                  <a:pt x="5154" y="12532"/>
                  <a:pt x="5085" y="12477"/>
                </a:cubicBezTo>
                <a:cubicBezTo>
                  <a:pt x="5031" y="12434"/>
                  <a:pt x="5016" y="12460"/>
                  <a:pt x="4961" y="12477"/>
                </a:cubicBezTo>
                <a:cubicBezTo>
                  <a:pt x="4901" y="12495"/>
                  <a:pt x="4900" y="12525"/>
                  <a:pt x="4862" y="12576"/>
                </a:cubicBezTo>
                <a:cubicBezTo>
                  <a:pt x="4816" y="12638"/>
                  <a:pt x="4812" y="12699"/>
                  <a:pt x="4812" y="12774"/>
                </a:cubicBezTo>
                <a:cubicBezTo>
                  <a:pt x="4812" y="12849"/>
                  <a:pt x="4854" y="12907"/>
                  <a:pt x="4887" y="12973"/>
                </a:cubicBezTo>
              </a:path>
              <a:path w="3896" h="3126">
                <a:moveTo>
                  <a:pt x="6052" y="12799"/>
                </a:moveTo>
                <a:cubicBezTo>
                  <a:pt x="6070" y="12752"/>
                  <a:pt x="6092" y="12704"/>
                  <a:pt x="6077" y="12650"/>
                </a:cubicBezTo>
                <a:cubicBezTo>
                  <a:pt x="6062" y="12597"/>
                  <a:pt x="6045" y="12581"/>
                  <a:pt x="6028" y="12551"/>
                </a:cubicBezTo>
                <a:cubicBezTo>
                  <a:pt x="6004" y="12508"/>
                  <a:pt x="5975" y="12464"/>
                  <a:pt x="5928" y="12452"/>
                </a:cubicBezTo>
                <a:cubicBezTo>
                  <a:pt x="5866" y="12436"/>
                  <a:pt x="5803" y="12459"/>
                  <a:pt x="5755" y="12477"/>
                </a:cubicBezTo>
                <a:cubicBezTo>
                  <a:pt x="5680" y="12504"/>
                  <a:pt x="5643" y="12562"/>
                  <a:pt x="5606" y="12626"/>
                </a:cubicBezTo>
                <a:cubicBezTo>
                  <a:pt x="5580" y="12671"/>
                  <a:pt x="5527" y="12774"/>
                  <a:pt x="5531" y="12824"/>
                </a:cubicBezTo>
                <a:cubicBezTo>
                  <a:pt x="5539" y="12917"/>
                  <a:pt x="5584" y="13017"/>
                  <a:pt x="5631" y="13097"/>
                </a:cubicBezTo>
                <a:cubicBezTo>
                  <a:pt x="5667" y="13158"/>
                  <a:pt x="5692" y="13175"/>
                  <a:pt x="5755" y="13196"/>
                </a:cubicBezTo>
                <a:cubicBezTo>
                  <a:pt x="5853" y="13229"/>
                  <a:pt x="5868" y="13221"/>
                  <a:pt x="5953" y="13196"/>
                </a:cubicBezTo>
                <a:cubicBezTo>
                  <a:pt x="6016" y="13177"/>
                  <a:pt x="6048" y="13101"/>
                  <a:pt x="6077" y="13047"/>
                </a:cubicBezTo>
                <a:cubicBezTo>
                  <a:pt x="6107" y="12991"/>
                  <a:pt x="6129" y="12929"/>
                  <a:pt x="6152" y="12874"/>
                </a:cubicBezTo>
                <a:cubicBezTo>
                  <a:pt x="6161" y="12853"/>
                  <a:pt x="6203" y="12742"/>
                  <a:pt x="6201" y="12725"/>
                </a:cubicBezTo>
                <a:cubicBezTo>
                  <a:pt x="6196" y="12683"/>
                  <a:pt x="6170" y="12662"/>
                  <a:pt x="6152" y="12626"/>
                </a:cubicBezTo>
                <a:cubicBezTo>
                  <a:pt x="6136" y="12661"/>
                  <a:pt x="6108" y="12706"/>
                  <a:pt x="6102" y="12750"/>
                </a:cubicBezTo>
                <a:cubicBezTo>
                  <a:pt x="6084" y="12889"/>
                  <a:pt x="6109" y="13037"/>
                  <a:pt x="6127" y="13171"/>
                </a:cubicBezTo>
                <a:cubicBezTo>
                  <a:pt x="6143" y="13286"/>
                  <a:pt x="6166" y="13401"/>
                  <a:pt x="6176" y="13519"/>
                </a:cubicBezTo>
                <a:cubicBezTo>
                  <a:pt x="6185" y="13627"/>
                  <a:pt x="6197" y="13734"/>
                  <a:pt x="6201" y="13841"/>
                </a:cubicBezTo>
                <a:cubicBezTo>
                  <a:pt x="6205" y="13963"/>
                  <a:pt x="6193" y="14071"/>
                  <a:pt x="6176" y="14188"/>
                </a:cubicBezTo>
                <a:cubicBezTo>
                  <a:pt x="6167" y="14254"/>
                  <a:pt x="6159" y="14294"/>
                  <a:pt x="6102" y="14337"/>
                </a:cubicBezTo>
                <a:cubicBezTo>
                  <a:pt x="6066" y="14364"/>
                  <a:pt x="5997" y="14372"/>
                  <a:pt x="5953" y="14362"/>
                </a:cubicBezTo>
                <a:cubicBezTo>
                  <a:pt x="5901" y="14351"/>
                  <a:pt x="5864" y="14331"/>
                  <a:pt x="5829" y="14288"/>
                </a:cubicBezTo>
                <a:cubicBezTo>
                  <a:pt x="5779" y="14227"/>
                  <a:pt x="5779" y="14191"/>
                  <a:pt x="5779" y="14114"/>
                </a:cubicBezTo>
              </a:path>
              <a:path w="3896" h="3126">
                <a:moveTo>
                  <a:pt x="6747" y="13271"/>
                </a:moveTo>
                <a:cubicBezTo>
                  <a:pt x="6747" y="13231"/>
                  <a:pt x="6757" y="13177"/>
                  <a:pt x="6722" y="13146"/>
                </a:cubicBezTo>
                <a:cubicBezTo>
                  <a:pt x="6705" y="13131"/>
                  <a:pt x="6696" y="13130"/>
                  <a:pt x="6672" y="13122"/>
                </a:cubicBezTo>
                <a:cubicBezTo>
                  <a:pt x="6626" y="13156"/>
                  <a:pt x="6593" y="13150"/>
                  <a:pt x="6548" y="13196"/>
                </a:cubicBezTo>
                <a:cubicBezTo>
                  <a:pt x="6524" y="13220"/>
                  <a:pt x="6501" y="13262"/>
                  <a:pt x="6499" y="13295"/>
                </a:cubicBezTo>
                <a:cubicBezTo>
                  <a:pt x="6494" y="13363"/>
                  <a:pt x="6502" y="13373"/>
                  <a:pt x="6548" y="13419"/>
                </a:cubicBezTo>
                <a:cubicBezTo>
                  <a:pt x="6586" y="13457"/>
                  <a:pt x="6595" y="13469"/>
                  <a:pt x="6648" y="13469"/>
                </a:cubicBezTo>
                <a:cubicBezTo>
                  <a:pt x="6691" y="13469"/>
                  <a:pt x="6697" y="13462"/>
                  <a:pt x="6722" y="13444"/>
                </a:cubicBezTo>
                <a:cubicBezTo>
                  <a:pt x="6752" y="13422"/>
                  <a:pt x="6764" y="13352"/>
                  <a:pt x="6772" y="13320"/>
                </a:cubicBezTo>
                <a:cubicBezTo>
                  <a:pt x="6798" y="13357"/>
                  <a:pt x="6802" y="13370"/>
                  <a:pt x="6821" y="13395"/>
                </a:cubicBezTo>
                <a:cubicBezTo>
                  <a:pt x="6850" y="13433"/>
                  <a:pt x="6884" y="13453"/>
                  <a:pt x="6921" y="13469"/>
                </a:cubicBezTo>
                <a:cubicBezTo>
                  <a:pt x="6985" y="13497"/>
                  <a:pt x="6971" y="13506"/>
                  <a:pt x="7020" y="13469"/>
                </a:cubicBezTo>
              </a:path>
              <a:path w="3896" h="3126">
                <a:moveTo>
                  <a:pt x="7441" y="11237"/>
                </a:moveTo>
                <a:cubicBezTo>
                  <a:pt x="7398" y="11251"/>
                  <a:pt x="7417" y="11309"/>
                  <a:pt x="7417" y="11361"/>
                </a:cubicBezTo>
                <a:cubicBezTo>
                  <a:pt x="7417" y="11490"/>
                  <a:pt x="7421" y="11611"/>
                  <a:pt x="7441" y="11733"/>
                </a:cubicBezTo>
                <a:cubicBezTo>
                  <a:pt x="7450" y="11788"/>
                  <a:pt x="7459" y="11855"/>
                  <a:pt x="7466" y="11906"/>
                </a:cubicBezTo>
                <a:cubicBezTo>
                  <a:pt x="7475" y="11977"/>
                  <a:pt x="7466" y="12057"/>
                  <a:pt x="7466" y="12129"/>
                </a:cubicBezTo>
              </a:path>
              <a:path w="3896" h="3126">
                <a:moveTo>
                  <a:pt x="7045" y="12179"/>
                </a:moveTo>
                <a:cubicBezTo>
                  <a:pt x="7214" y="12179"/>
                  <a:pt x="7376" y="12177"/>
                  <a:pt x="7541" y="12154"/>
                </a:cubicBezTo>
                <a:cubicBezTo>
                  <a:pt x="7684" y="12134"/>
                  <a:pt x="7842" y="12154"/>
                  <a:pt x="7987" y="12154"/>
                </a:cubicBezTo>
              </a:path>
              <a:path w="3896" h="3126">
                <a:moveTo>
                  <a:pt x="7838" y="12576"/>
                </a:moveTo>
                <a:cubicBezTo>
                  <a:pt x="7838" y="12621"/>
                  <a:pt x="7842" y="12634"/>
                  <a:pt x="7813" y="12650"/>
                </a:cubicBezTo>
                <a:cubicBezTo>
                  <a:pt x="7808" y="12613"/>
                  <a:pt x="7805" y="12535"/>
                  <a:pt x="7789" y="12502"/>
                </a:cubicBezTo>
                <a:cubicBezTo>
                  <a:pt x="7768" y="12460"/>
                  <a:pt x="7707" y="12427"/>
                  <a:pt x="7689" y="12402"/>
                </a:cubicBezTo>
                <a:cubicBezTo>
                  <a:pt x="7672" y="12379"/>
                  <a:pt x="7660" y="12358"/>
                  <a:pt x="7615" y="12353"/>
                </a:cubicBezTo>
                <a:cubicBezTo>
                  <a:pt x="7584" y="12350"/>
                  <a:pt x="7539" y="12382"/>
                  <a:pt x="7516" y="12402"/>
                </a:cubicBezTo>
                <a:cubicBezTo>
                  <a:pt x="7476" y="12437"/>
                  <a:pt x="7443" y="12482"/>
                  <a:pt x="7417" y="12526"/>
                </a:cubicBezTo>
                <a:cubicBezTo>
                  <a:pt x="7382" y="12585"/>
                  <a:pt x="7357" y="12633"/>
                  <a:pt x="7342" y="12700"/>
                </a:cubicBezTo>
                <a:cubicBezTo>
                  <a:pt x="7330" y="12753"/>
                  <a:pt x="7336" y="12836"/>
                  <a:pt x="7367" y="12874"/>
                </a:cubicBezTo>
                <a:cubicBezTo>
                  <a:pt x="7397" y="12911"/>
                  <a:pt x="7446" y="12968"/>
                  <a:pt x="7491" y="12973"/>
                </a:cubicBezTo>
                <a:cubicBezTo>
                  <a:pt x="7559" y="12981"/>
                  <a:pt x="7604" y="12964"/>
                  <a:pt x="7665" y="12948"/>
                </a:cubicBezTo>
                <a:cubicBezTo>
                  <a:pt x="7708" y="12937"/>
                  <a:pt x="7731" y="12907"/>
                  <a:pt x="7764" y="12874"/>
                </a:cubicBezTo>
                <a:cubicBezTo>
                  <a:pt x="7795" y="12844"/>
                  <a:pt x="7792" y="12805"/>
                  <a:pt x="7813" y="12774"/>
                </a:cubicBezTo>
                <a:cubicBezTo>
                  <a:pt x="7836" y="12752"/>
                  <a:pt x="7844" y="12747"/>
                  <a:pt x="7838" y="12725"/>
                </a:cubicBezTo>
                <a:cubicBezTo>
                  <a:pt x="7845" y="12751"/>
                  <a:pt x="7860" y="12810"/>
                  <a:pt x="7888" y="12824"/>
                </a:cubicBezTo>
                <a:cubicBezTo>
                  <a:pt x="7937" y="12848"/>
                  <a:pt x="7982" y="12872"/>
                  <a:pt x="8037" y="12898"/>
                </a:cubicBezTo>
                <a:cubicBezTo>
                  <a:pt x="8080" y="12918"/>
                  <a:pt x="8147" y="12940"/>
                  <a:pt x="8186" y="12948"/>
                </a:cubicBezTo>
                <a:cubicBezTo>
                  <a:pt x="8237" y="12958"/>
                  <a:pt x="8250" y="12949"/>
                  <a:pt x="8285" y="129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17960" y="3919680"/>
            <a:ext cx="1635120" cy="723600"/>
          </a:xfrm>
          <a:custGeom>
            <a:avLst/>
            <a:gdLst/>
            <a:ahLst/>
            <a:rect l="l" t="t" r="r" b="b"/>
            <a:pathLst>
              <a:path w="4540" h="2010">
                <a:moveTo>
                  <a:pt x="13320" y="11088"/>
                </a:moveTo>
                <a:cubicBezTo>
                  <a:pt x="13330" y="11127"/>
                  <a:pt x="13345" y="11142"/>
                  <a:pt x="13345" y="11187"/>
                </a:cubicBezTo>
                <a:cubicBezTo>
                  <a:pt x="13345" y="11299"/>
                  <a:pt x="13332" y="11401"/>
                  <a:pt x="13320" y="11509"/>
                </a:cubicBezTo>
                <a:cubicBezTo>
                  <a:pt x="13307" y="11622"/>
                  <a:pt x="13333" y="11724"/>
                  <a:pt x="13345" y="11832"/>
                </a:cubicBezTo>
                <a:cubicBezTo>
                  <a:pt x="13357" y="11937"/>
                  <a:pt x="13401" y="12025"/>
                  <a:pt x="13419" y="12129"/>
                </a:cubicBezTo>
                <a:cubicBezTo>
                  <a:pt x="13431" y="12199"/>
                  <a:pt x="13451" y="12266"/>
                  <a:pt x="13494" y="12328"/>
                </a:cubicBezTo>
                <a:cubicBezTo>
                  <a:pt x="13502" y="12336"/>
                  <a:pt x="13511" y="12345"/>
                  <a:pt x="13519" y="12353"/>
                </a:cubicBezTo>
              </a:path>
              <a:path w="4540" h="2010">
                <a:moveTo>
                  <a:pt x="14163" y="11683"/>
                </a:moveTo>
                <a:cubicBezTo>
                  <a:pt x="14126" y="11654"/>
                  <a:pt x="14112" y="11658"/>
                  <a:pt x="14064" y="11658"/>
                </a:cubicBezTo>
                <a:cubicBezTo>
                  <a:pt x="13998" y="11658"/>
                  <a:pt x="13970" y="11666"/>
                  <a:pt x="13915" y="11708"/>
                </a:cubicBezTo>
                <a:cubicBezTo>
                  <a:pt x="13866" y="11745"/>
                  <a:pt x="13827" y="11849"/>
                  <a:pt x="13816" y="11906"/>
                </a:cubicBezTo>
                <a:cubicBezTo>
                  <a:pt x="13803" y="11976"/>
                  <a:pt x="13820" y="12029"/>
                  <a:pt x="13866" y="12080"/>
                </a:cubicBezTo>
                <a:cubicBezTo>
                  <a:pt x="13917" y="12136"/>
                  <a:pt x="13992" y="12150"/>
                  <a:pt x="14064" y="12154"/>
                </a:cubicBezTo>
                <a:cubicBezTo>
                  <a:pt x="14135" y="12158"/>
                  <a:pt x="14204" y="12151"/>
                  <a:pt x="14263" y="12105"/>
                </a:cubicBezTo>
                <a:cubicBezTo>
                  <a:pt x="14321" y="12060"/>
                  <a:pt x="14360" y="11974"/>
                  <a:pt x="14387" y="11906"/>
                </a:cubicBezTo>
                <a:cubicBezTo>
                  <a:pt x="14419" y="11824"/>
                  <a:pt x="14436" y="11770"/>
                  <a:pt x="14436" y="11683"/>
                </a:cubicBezTo>
                <a:cubicBezTo>
                  <a:pt x="14436" y="11644"/>
                  <a:pt x="14411" y="11573"/>
                  <a:pt x="14362" y="11559"/>
                </a:cubicBezTo>
                <a:cubicBezTo>
                  <a:pt x="14316" y="11546"/>
                  <a:pt x="14246" y="11562"/>
                  <a:pt x="14213" y="11584"/>
                </a:cubicBezTo>
                <a:cubicBezTo>
                  <a:pt x="14205" y="11592"/>
                  <a:pt x="14196" y="11601"/>
                  <a:pt x="14188" y="11609"/>
                </a:cubicBezTo>
              </a:path>
              <a:path w="4540" h="2010">
                <a:moveTo>
                  <a:pt x="15007" y="11559"/>
                </a:moveTo>
                <a:cubicBezTo>
                  <a:pt x="14951" y="11566"/>
                  <a:pt x="14932" y="11580"/>
                  <a:pt x="14883" y="11609"/>
                </a:cubicBezTo>
                <a:cubicBezTo>
                  <a:pt x="14801" y="11657"/>
                  <a:pt x="14774" y="11687"/>
                  <a:pt x="14709" y="11757"/>
                </a:cubicBezTo>
                <a:cubicBezTo>
                  <a:pt x="14683" y="11784"/>
                  <a:pt x="14655" y="11866"/>
                  <a:pt x="14660" y="11906"/>
                </a:cubicBezTo>
                <a:cubicBezTo>
                  <a:pt x="14668" y="11914"/>
                  <a:pt x="14676" y="11923"/>
                  <a:pt x="14684" y="11931"/>
                </a:cubicBezTo>
                <a:cubicBezTo>
                  <a:pt x="14720" y="11911"/>
                  <a:pt x="14750" y="11892"/>
                  <a:pt x="14784" y="11857"/>
                </a:cubicBezTo>
                <a:cubicBezTo>
                  <a:pt x="14862" y="11779"/>
                  <a:pt x="14915" y="11659"/>
                  <a:pt x="15032" y="11633"/>
                </a:cubicBezTo>
                <a:cubicBezTo>
                  <a:pt x="15088" y="11620"/>
                  <a:pt x="15091" y="11614"/>
                  <a:pt x="15131" y="11633"/>
                </a:cubicBezTo>
                <a:cubicBezTo>
                  <a:pt x="15138" y="11717"/>
                  <a:pt x="15136" y="11777"/>
                  <a:pt x="15131" y="11857"/>
                </a:cubicBezTo>
                <a:cubicBezTo>
                  <a:pt x="15119" y="12050"/>
                  <a:pt x="15132" y="12238"/>
                  <a:pt x="15106" y="12427"/>
                </a:cubicBezTo>
                <a:cubicBezTo>
                  <a:pt x="15094" y="12513"/>
                  <a:pt x="15069" y="12561"/>
                  <a:pt x="15007" y="12626"/>
                </a:cubicBezTo>
                <a:cubicBezTo>
                  <a:pt x="14952" y="12684"/>
                  <a:pt x="14857" y="12741"/>
                  <a:pt x="14784" y="12774"/>
                </a:cubicBezTo>
                <a:cubicBezTo>
                  <a:pt x="14711" y="12807"/>
                  <a:pt x="14658" y="12830"/>
                  <a:pt x="14610" y="12874"/>
                </a:cubicBezTo>
                <a:cubicBezTo>
                  <a:pt x="14602" y="12882"/>
                  <a:pt x="14593" y="12890"/>
                  <a:pt x="14585" y="12898"/>
                </a:cubicBezTo>
              </a:path>
              <a:path w="4540" h="2010">
                <a:moveTo>
                  <a:pt x="15627" y="11757"/>
                </a:moveTo>
                <a:cubicBezTo>
                  <a:pt x="15670" y="11701"/>
                  <a:pt x="15642" y="11713"/>
                  <a:pt x="15627" y="11683"/>
                </a:cubicBezTo>
                <a:cubicBezTo>
                  <a:pt x="15618" y="11665"/>
                  <a:pt x="15591" y="11637"/>
                  <a:pt x="15553" y="11658"/>
                </a:cubicBezTo>
                <a:cubicBezTo>
                  <a:pt x="15527" y="11672"/>
                  <a:pt x="15506" y="11731"/>
                  <a:pt x="15503" y="11757"/>
                </a:cubicBezTo>
                <a:cubicBezTo>
                  <a:pt x="15500" y="11781"/>
                  <a:pt x="15503" y="11808"/>
                  <a:pt x="15503" y="11832"/>
                </a:cubicBezTo>
                <a:cubicBezTo>
                  <a:pt x="15541" y="11823"/>
                  <a:pt x="15564" y="11796"/>
                  <a:pt x="15577" y="11757"/>
                </a:cubicBezTo>
                <a:cubicBezTo>
                  <a:pt x="15586" y="11731"/>
                  <a:pt x="15598" y="11673"/>
                  <a:pt x="15627" y="11658"/>
                </a:cubicBezTo>
                <a:cubicBezTo>
                  <a:pt x="15635" y="11658"/>
                  <a:pt x="15644" y="11658"/>
                  <a:pt x="15652" y="11658"/>
                </a:cubicBezTo>
                <a:cubicBezTo>
                  <a:pt x="15652" y="11744"/>
                  <a:pt x="15622" y="11892"/>
                  <a:pt x="15677" y="11956"/>
                </a:cubicBezTo>
                <a:cubicBezTo>
                  <a:pt x="15685" y="11964"/>
                  <a:pt x="15693" y="11973"/>
                  <a:pt x="15701" y="11981"/>
                </a:cubicBezTo>
              </a:path>
              <a:path w="4540" h="2010">
                <a:moveTo>
                  <a:pt x="13072" y="10889"/>
                </a:moveTo>
                <a:cubicBezTo>
                  <a:pt x="13027" y="10934"/>
                  <a:pt x="12997" y="10978"/>
                  <a:pt x="12973" y="11038"/>
                </a:cubicBezTo>
                <a:cubicBezTo>
                  <a:pt x="12932" y="11142"/>
                  <a:pt x="12903" y="11253"/>
                  <a:pt x="12874" y="11361"/>
                </a:cubicBezTo>
                <a:cubicBezTo>
                  <a:pt x="12839" y="11491"/>
                  <a:pt x="12824" y="11599"/>
                  <a:pt x="12824" y="11733"/>
                </a:cubicBezTo>
                <a:cubicBezTo>
                  <a:pt x="12824" y="11904"/>
                  <a:pt x="12800" y="12090"/>
                  <a:pt x="12849" y="12254"/>
                </a:cubicBezTo>
                <a:cubicBezTo>
                  <a:pt x="12883" y="12367"/>
                  <a:pt x="12959" y="12433"/>
                  <a:pt x="13022" y="12526"/>
                </a:cubicBezTo>
                <a:cubicBezTo>
                  <a:pt x="13091" y="12627"/>
                  <a:pt x="13150" y="12640"/>
                  <a:pt x="13271" y="12675"/>
                </a:cubicBezTo>
              </a:path>
              <a:path w="4540" h="2010">
                <a:moveTo>
                  <a:pt x="11906" y="12154"/>
                </a:moveTo>
                <a:cubicBezTo>
                  <a:pt x="11864" y="12112"/>
                  <a:pt x="11834" y="12101"/>
                  <a:pt x="11782" y="12080"/>
                </a:cubicBezTo>
                <a:cubicBezTo>
                  <a:pt x="11706" y="12049"/>
                  <a:pt x="11697" y="12030"/>
                  <a:pt x="11609" y="12030"/>
                </a:cubicBezTo>
                <a:cubicBezTo>
                  <a:pt x="11526" y="12030"/>
                  <a:pt x="11429" y="12053"/>
                  <a:pt x="11361" y="12105"/>
                </a:cubicBezTo>
                <a:cubicBezTo>
                  <a:pt x="11292" y="12158"/>
                  <a:pt x="11242" y="12274"/>
                  <a:pt x="11212" y="12353"/>
                </a:cubicBezTo>
                <a:cubicBezTo>
                  <a:pt x="11168" y="12466"/>
                  <a:pt x="11170" y="12517"/>
                  <a:pt x="11187" y="12626"/>
                </a:cubicBezTo>
                <a:cubicBezTo>
                  <a:pt x="11200" y="12705"/>
                  <a:pt x="11204" y="12700"/>
                  <a:pt x="11286" y="12700"/>
                </a:cubicBezTo>
                <a:cubicBezTo>
                  <a:pt x="11357" y="12700"/>
                  <a:pt x="11406" y="12605"/>
                  <a:pt x="11460" y="12551"/>
                </a:cubicBezTo>
                <a:cubicBezTo>
                  <a:pt x="11531" y="12480"/>
                  <a:pt x="11580" y="12367"/>
                  <a:pt x="11633" y="12278"/>
                </a:cubicBezTo>
                <a:cubicBezTo>
                  <a:pt x="11680" y="12199"/>
                  <a:pt x="11690" y="12165"/>
                  <a:pt x="11757" y="12105"/>
                </a:cubicBezTo>
                <a:cubicBezTo>
                  <a:pt x="11780" y="12082"/>
                  <a:pt x="11784" y="12074"/>
                  <a:pt x="11807" y="12080"/>
                </a:cubicBezTo>
                <a:cubicBezTo>
                  <a:pt x="11818" y="12147"/>
                  <a:pt x="11813" y="12239"/>
                  <a:pt x="11832" y="12303"/>
                </a:cubicBezTo>
                <a:cubicBezTo>
                  <a:pt x="11864" y="12413"/>
                  <a:pt x="11889" y="12490"/>
                  <a:pt x="11956" y="12576"/>
                </a:cubicBezTo>
                <a:cubicBezTo>
                  <a:pt x="11985" y="12613"/>
                  <a:pt x="12039" y="12640"/>
                  <a:pt x="12080" y="12650"/>
                </a:cubicBezTo>
              </a:path>
              <a:path w="4540" h="2010">
                <a:moveTo>
                  <a:pt x="12105" y="11807"/>
                </a:moveTo>
                <a:cubicBezTo>
                  <a:pt x="12117" y="11758"/>
                  <a:pt x="12152" y="11750"/>
                  <a:pt x="12179" y="11708"/>
                </a:cubicBezTo>
                <a:cubicBezTo>
                  <a:pt x="12212" y="11656"/>
                  <a:pt x="12216" y="11610"/>
                  <a:pt x="12254" y="11559"/>
                </a:cubicBezTo>
                <a:cubicBezTo>
                  <a:pt x="12286" y="11516"/>
                  <a:pt x="12276" y="11455"/>
                  <a:pt x="12303" y="11410"/>
                </a:cubicBezTo>
                <a:cubicBezTo>
                  <a:pt x="12317" y="11387"/>
                  <a:pt x="12336" y="11297"/>
                  <a:pt x="12353" y="11286"/>
                </a:cubicBezTo>
                <a:cubicBezTo>
                  <a:pt x="12361" y="11286"/>
                  <a:pt x="12370" y="11286"/>
                  <a:pt x="12378" y="11286"/>
                </a:cubicBezTo>
                <a:cubicBezTo>
                  <a:pt x="12403" y="11320"/>
                  <a:pt x="12411" y="11349"/>
                  <a:pt x="12427" y="11385"/>
                </a:cubicBezTo>
                <a:cubicBezTo>
                  <a:pt x="12455" y="11451"/>
                  <a:pt x="12475" y="11515"/>
                  <a:pt x="12502" y="11584"/>
                </a:cubicBezTo>
                <a:cubicBezTo>
                  <a:pt x="12530" y="11656"/>
                  <a:pt x="12554" y="11721"/>
                  <a:pt x="12601" y="11782"/>
                </a:cubicBezTo>
                <a:cubicBezTo>
                  <a:pt x="12628" y="11817"/>
                  <a:pt x="12618" y="11821"/>
                  <a:pt x="12650" y="118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3768840"/>
            <a:ext cx="1500480" cy="581040"/>
          </a:xfrm>
          <a:custGeom>
            <a:avLst/>
            <a:gdLst/>
            <a:ahLst/>
            <a:rect l="l" t="t" r="r" b="b"/>
            <a:pathLst>
              <a:path w="4168" h="1613">
                <a:moveTo>
                  <a:pt x="16718" y="10468"/>
                </a:moveTo>
                <a:cubicBezTo>
                  <a:pt x="16702" y="10548"/>
                  <a:pt x="16705" y="10540"/>
                  <a:pt x="16718" y="10616"/>
                </a:cubicBezTo>
                <a:cubicBezTo>
                  <a:pt x="16734" y="10711"/>
                  <a:pt x="16731" y="10822"/>
                  <a:pt x="16743" y="10914"/>
                </a:cubicBezTo>
                <a:cubicBezTo>
                  <a:pt x="16753" y="10990"/>
                  <a:pt x="16718" y="11058"/>
                  <a:pt x="16718" y="11137"/>
                </a:cubicBezTo>
                <a:cubicBezTo>
                  <a:pt x="16718" y="11154"/>
                  <a:pt x="16718" y="11170"/>
                  <a:pt x="16718" y="11187"/>
                </a:cubicBezTo>
              </a:path>
              <a:path w="4168" h="1613">
                <a:moveTo>
                  <a:pt x="16297" y="11435"/>
                </a:moveTo>
                <a:cubicBezTo>
                  <a:pt x="16355" y="11435"/>
                  <a:pt x="16400" y="11451"/>
                  <a:pt x="16446" y="11460"/>
                </a:cubicBezTo>
                <a:cubicBezTo>
                  <a:pt x="16523" y="11476"/>
                  <a:pt x="16594" y="11438"/>
                  <a:pt x="16669" y="11435"/>
                </a:cubicBezTo>
                <a:cubicBezTo>
                  <a:pt x="16765" y="11431"/>
                  <a:pt x="16847" y="11396"/>
                  <a:pt x="16942" y="11385"/>
                </a:cubicBezTo>
                <a:cubicBezTo>
                  <a:pt x="17012" y="11377"/>
                  <a:pt x="17070" y="11361"/>
                  <a:pt x="17140" y="11361"/>
                </a:cubicBezTo>
                <a:cubicBezTo>
                  <a:pt x="17181" y="11361"/>
                  <a:pt x="17189" y="11361"/>
                  <a:pt x="17214" y="11361"/>
                </a:cubicBezTo>
              </a:path>
              <a:path w="4168" h="1613">
                <a:moveTo>
                  <a:pt x="16694" y="11584"/>
                </a:moveTo>
                <a:cubicBezTo>
                  <a:pt x="16657" y="11584"/>
                  <a:pt x="16621" y="11591"/>
                  <a:pt x="16594" y="11609"/>
                </a:cubicBezTo>
                <a:cubicBezTo>
                  <a:pt x="16541" y="11644"/>
                  <a:pt x="16507" y="11710"/>
                  <a:pt x="16470" y="11757"/>
                </a:cubicBezTo>
                <a:cubicBezTo>
                  <a:pt x="16429" y="11809"/>
                  <a:pt x="16421" y="11866"/>
                  <a:pt x="16421" y="11931"/>
                </a:cubicBezTo>
                <a:cubicBezTo>
                  <a:pt x="16421" y="11956"/>
                  <a:pt x="16421" y="11964"/>
                  <a:pt x="16446" y="11956"/>
                </a:cubicBezTo>
                <a:cubicBezTo>
                  <a:pt x="16489" y="11941"/>
                  <a:pt x="16481" y="11928"/>
                  <a:pt x="16520" y="11881"/>
                </a:cubicBezTo>
                <a:cubicBezTo>
                  <a:pt x="16557" y="11837"/>
                  <a:pt x="16621" y="11760"/>
                  <a:pt x="16644" y="11708"/>
                </a:cubicBezTo>
                <a:cubicBezTo>
                  <a:pt x="16644" y="11683"/>
                  <a:pt x="16644" y="11675"/>
                  <a:pt x="16669" y="11683"/>
                </a:cubicBezTo>
                <a:cubicBezTo>
                  <a:pt x="16708" y="11696"/>
                  <a:pt x="16715" y="11730"/>
                  <a:pt x="16718" y="11782"/>
                </a:cubicBezTo>
                <a:cubicBezTo>
                  <a:pt x="16722" y="11846"/>
                  <a:pt x="16760" y="11904"/>
                  <a:pt x="16768" y="11956"/>
                </a:cubicBezTo>
                <a:cubicBezTo>
                  <a:pt x="16783" y="12055"/>
                  <a:pt x="16777" y="12013"/>
                  <a:pt x="16842" y="12080"/>
                </a:cubicBezTo>
              </a:path>
              <a:path w="4168" h="1613">
                <a:moveTo>
                  <a:pt x="18058" y="11162"/>
                </a:moveTo>
                <a:cubicBezTo>
                  <a:pt x="18105" y="11197"/>
                  <a:pt x="18145" y="11187"/>
                  <a:pt x="18207" y="11187"/>
                </a:cubicBezTo>
                <a:cubicBezTo>
                  <a:pt x="18314" y="11187"/>
                  <a:pt x="18422" y="11187"/>
                  <a:pt x="18529" y="11187"/>
                </a:cubicBezTo>
              </a:path>
              <a:path w="4168" h="1613">
                <a:moveTo>
                  <a:pt x="18107" y="11485"/>
                </a:moveTo>
                <a:cubicBezTo>
                  <a:pt x="18090" y="11508"/>
                  <a:pt x="18065" y="11550"/>
                  <a:pt x="18083" y="11584"/>
                </a:cubicBezTo>
                <a:cubicBezTo>
                  <a:pt x="18120" y="11653"/>
                  <a:pt x="18154" y="11610"/>
                  <a:pt x="18207" y="11633"/>
                </a:cubicBezTo>
                <a:cubicBezTo>
                  <a:pt x="18264" y="11657"/>
                  <a:pt x="18310" y="11658"/>
                  <a:pt x="18380" y="11658"/>
                </a:cubicBezTo>
                <a:cubicBezTo>
                  <a:pt x="18479" y="11658"/>
                  <a:pt x="18496" y="11658"/>
                  <a:pt x="18554" y="11658"/>
                </a:cubicBezTo>
              </a:path>
              <a:path w="4168" h="1613">
                <a:moveTo>
                  <a:pt x="19546" y="10840"/>
                </a:moveTo>
                <a:cubicBezTo>
                  <a:pt x="19598" y="10880"/>
                  <a:pt x="19636" y="10907"/>
                  <a:pt x="19670" y="10964"/>
                </a:cubicBezTo>
                <a:cubicBezTo>
                  <a:pt x="19723" y="11051"/>
                  <a:pt x="19755" y="11157"/>
                  <a:pt x="19819" y="11237"/>
                </a:cubicBezTo>
                <a:cubicBezTo>
                  <a:pt x="19876" y="11309"/>
                  <a:pt x="19909" y="11389"/>
                  <a:pt x="19968" y="11460"/>
                </a:cubicBezTo>
                <a:cubicBezTo>
                  <a:pt x="20022" y="11525"/>
                  <a:pt x="20083" y="11582"/>
                  <a:pt x="20141" y="11633"/>
                </a:cubicBezTo>
                <a:cubicBezTo>
                  <a:pt x="20190" y="11676"/>
                  <a:pt x="20249" y="11775"/>
                  <a:pt x="20290" y="11807"/>
                </a:cubicBezTo>
                <a:cubicBezTo>
                  <a:pt x="20298" y="11807"/>
                  <a:pt x="20307" y="11807"/>
                  <a:pt x="20315" y="11807"/>
                </a:cubicBezTo>
              </a:path>
              <a:path w="4168" h="1613">
                <a:moveTo>
                  <a:pt x="20464" y="10765"/>
                </a:moveTo>
                <a:cubicBezTo>
                  <a:pt x="20430" y="10799"/>
                  <a:pt x="20367" y="10832"/>
                  <a:pt x="20340" y="10864"/>
                </a:cubicBezTo>
                <a:cubicBezTo>
                  <a:pt x="20281" y="10933"/>
                  <a:pt x="20202" y="10987"/>
                  <a:pt x="20141" y="11063"/>
                </a:cubicBezTo>
                <a:cubicBezTo>
                  <a:pt x="20071" y="11149"/>
                  <a:pt x="20010" y="11248"/>
                  <a:pt x="19943" y="11336"/>
                </a:cubicBezTo>
                <a:cubicBezTo>
                  <a:pt x="19880" y="11419"/>
                  <a:pt x="19804" y="11499"/>
                  <a:pt x="19745" y="11584"/>
                </a:cubicBezTo>
                <a:cubicBezTo>
                  <a:pt x="19705" y="11643"/>
                  <a:pt x="19664" y="11698"/>
                  <a:pt x="19621" y="11757"/>
                </a:cubicBezTo>
              </a:path>
              <a:path w="4168" h="1613">
                <a:moveTo>
                  <a:pt x="17413" y="10716"/>
                </a:moveTo>
                <a:cubicBezTo>
                  <a:pt x="17475" y="10778"/>
                  <a:pt x="17587" y="10853"/>
                  <a:pt x="17611" y="10939"/>
                </a:cubicBezTo>
                <a:cubicBezTo>
                  <a:pt x="17632" y="11014"/>
                  <a:pt x="17649" y="11106"/>
                  <a:pt x="17636" y="11187"/>
                </a:cubicBezTo>
                <a:cubicBezTo>
                  <a:pt x="17618" y="11299"/>
                  <a:pt x="17598" y="11401"/>
                  <a:pt x="17562" y="11509"/>
                </a:cubicBezTo>
                <a:cubicBezTo>
                  <a:pt x="17531" y="11601"/>
                  <a:pt x="17512" y="11694"/>
                  <a:pt x="17487" y="11782"/>
                </a:cubicBezTo>
                <a:cubicBezTo>
                  <a:pt x="17469" y="11843"/>
                  <a:pt x="17456" y="11929"/>
                  <a:pt x="17413" y="11981"/>
                </a:cubicBezTo>
                <a:cubicBezTo>
                  <a:pt x="17413" y="12027"/>
                  <a:pt x="17395" y="12047"/>
                  <a:pt x="17338" y="12055"/>
                </a:cubicBezTo>
              </a:path>
              <a:path w="4168" h="1613">
                <a:moveTo>
                  <a:pt x="19224" y="11385"/>
                </a:moveTo>
                <a:cubicBezTo>
                  <a:pt x="19188" y="11374"/>
                  <a:pt x="19194" y="11331"/>
                  <a:pt x="19149" y="11311"/>
                </a:cubicBezTo>
                <a:cubicBezTo>
                  <a:pt x="19114" y="11295"/>
                  <a:pt x="19067" y="11272"/>
                  <a:pt x="19025" y="11261"/>
                </a:cubicBezTo>
                <a:cubicBezTo>
                  <a:pt x="18952" y="11243"/>
                  <a:pt x="18910" y="11322"/>
                  <a:pt x="18876" y="11361"/>
                </a:cubicBezTo>
                <a:cubicBezTo>
                  <a:pt x="18844" y="11398"/>
                  <a:pt x="18835" y="11529"/>
                  <a:pt x="18827" y="11584"/>
                </a:cubicBezTo>
                <a:cubicBezTo>
                  <a:pt x="18820" y="11633"/>
                  <a:pt x="18844" y="11672"/>
                  <a:pt x="18876" y="11683"/>
                </a:cubicBezTo>
                <a:cubicBezTo>
                  <a:pt x="18917" y="11632"/>
                  <a:pt x="18963" y="11580"/>
                  <a:pt x="19000" y="11534"/>
                </a:cubicBezTo>
                <a:cubicBezTo>
                  <a:pt x="19043" y="11481"/>
                  <a:pt x="19085" y="11398"/>
                  <a:pt x="19149" y="11361"/>
                </a:cubicBezTo>
                <a:cubicBezTo>
                  <a:pt x="19173" y="11347"/>
                  <a:pt x="19219" y="11342"/>
                  <a:pt x="19248" y="11336"/>
                </a:cubicBezTo>
                <a:cubicBezTo>
                  <a:pt x="19259" y="11379"/>
                  <a:pt x="19289" y="11412"/>
                  <a:pt x="19298" y="11460"/>
                </a:cubicBezTo>
                <a:cubicBezTo>
                  <a:pt x="19307" y="11512"/>
                  <a:pt x="19300" y="11564"/>
                  <a:pt x="19323" y="11609"/>
                </a:cubicBezTo>
                <a:cubicBezTo>
                  <a:pt x="19346" y="11631"/>
                  <a:pt x="19354" y="11636"/>
                  <a:pt x="19348" y="11658"/>
                </a:cubicBezTo>
              </a:path>
              <a:path w="4168" h="1613">
                <a:moveTo>
                  <a:pt x="19372" y="11137"/>
                </a:moveTo>
                <a:cubicBezTo>
                  <a:pt x="19380" y="11137"/>
                  <a:pt x="19389" y="11137"/>
                  <a:pt x="19397" y="11137"/>
                </a:cubicBezTo>
                <a:cubicBezTo>
                  <a:pt x="19408" y="11103"/>
                  <a:pt x="19432" y="11107"/>
                  <a:pt x="19447" y="11063"/>
                </a:cubicBezTo>
                <a:cubicBezTo>
                  <a:pt x="19447" y="11055"/>
                  <a:pt x="19447" y="11046"/>
                  <a:pt x="19447" y="11038"/>
                </a:cubicBezTo>
                <a:cubicBezTo>
                  <a:pt x="19486" y="11025"/>
                  <a:pt x="19457" y="11026"/>
                  <a:pt x="19496" y="11013"/>
                </a:cubicBezTo>
                <a:cubicBezTo>
                  <a:pt x="19514" y="10958"/>
                  <a:pt x="19521" y="11000"/>
                  <a:pt x="19521" y="11038"/>
                </a:cubicBezTo>
                <a:cubicBezTo>
                  <a:pt x="19521" y="11089"/>
                  <a:pt x="19532" y="11096"/>
                  <a:pt x="19546" y="11137"/>
                </a:cubicBezTo>
                <a:cubicBezTo>
                  <a:pt x="19557" y="11171"/>
                  <a:pt x="19551" y="11208"/>
                  <a:pt x="19571" y="11237"/>
                </a:cubicBezTo>
                <a:cubicBezTo>
                  <a:pt x="19596" y="11261"/>
                  <a:pt x="19605" y="11269"/>
                  <a:pt x="19621" y="112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4510080"/>
            <a:ext cx="357120" cy="714240"/>
          </a:xfrm>
          <a:custGeom>
            <a:avLst/>
            <a:gdLst/>
            <a:ahLst/>
            <a:rect l="l" t="t" r="r" b="b"/>
            <a:pathLst>
              <a:path w="993" h="1986">
                <a:moveTo>
                  <a:pt x="16371" y="12576"/>
                </a:moveTo>
                <a:cubicBezTo>
                  <a:pt x="16371" y="12534"/>
                  <a:pt x="16371" y="12509"/>
                  <a:pt x="16371" y="12551"/>
                </a:cubicBezTo>
                <a:cubicBezTo>
                  <a:pt x="16340" y="12602"/>
                  <a:pt x="16325" y="12689"/>
                  <a:pt x="16321" y="12750"/>
                </a:cubicBezTo>
                <a:cubicBezTo>
                  <a:pt x="16317" y="12823"/>
                  <a:pt x="16346" y="12894"/>
                  <a:pt x="16346" y="12973"/>
                </a:cubicBezTo>
                <a:cubicBezTo>
                  <a:pt x="16346" y="13089"/>
                  <a:pt x="16346" y="13204"/>
                  <a:pt x="16346" y="13320"/>
                </a:cubicBezTo>
              </a:path>
              <a:path w="993" h="1986">
                <a:moveTo>
                  <a:pt x="15875" y="13543"/>
                </a:moveTo>
                <a:cubicBezTo>
                  <a:pt x="16092" y="13543"/>
                  <a:pt x="16311" y="13544"/>
                  <a:pt x="16520" y="13519"/>
                </a:cubicBezTo>
                <a:cubicBezTo>
                  <a:pt x="16640" y="13504"/>
                  <a:pt x="16754" y="13537"/>
                  <a:pt x="16867" y="13494"/>
                </a:cubicBezTo>
              </a:path>
              <a:path w="993" h="1986">
                <a:moveTo>
                  <a:pt x="16371" y="13940"/>
                </a:moveTo>
                <a:cubicBezTo>
                  <a:pt x="16320" y="13927"/>
                  <a:pt x="16308" y="13915"/>
                  <a:pt x="16247" y="13915"/>
                </a:cubicBezTo>
                <a:cubicBezTo>
                  <a:pt x="16201" y="13915"/>
                  <a:pt x="16183" y="13909"/>
                  <a:pt x="16148" y="13940"/>
                </a:cubicBezTo>
                <a:cubicBezTo>
                  <a:pt x="16102" y="13981"/>
                  <a:pt x="16057" y="14039"/>
                  <a:pt x="16024" y="14089"/>
                </a:cubicBezTo>
                <a:cubicBezTo>
                  <a:pt x="16000" y="14126"/>
                  <a:pt x="15961" y="14245"/>
                  <a:pt x="15974" y="14288"/>
                </a:cubicBezTo>
                <a:cubicBezTo>
                  <a:pt x="15982" y="14296"/>
                  <a:pt x="15991" y="14304"/>
                  <a:pt x="15999" y="14312"/>
                </a:cubicBezTo>
                <a:cubicBezTo>
                  <a:pt x="16043" y="14269"/>
                  <a:pt x="16114" y="14235"/>
                  <a:pt x="16148" y="14188"/>
                </a:cubicBezTo>
                <a:cubicBezTo>
                  <a:pt x="16196" y="14122"/>
                  <a:pt x="16240" y="14051"/>
                  <a:pt x="16297" y="13990"/>
                </a:cubicBezTo>
                <a:cubicBezTo>
                  <a:pt x="16344" y="13939"/>
                  <a:pt x="16351" y="13949"/>
                  <a:pt x="16396" y="13915"/>
                </a:cubicBezTo>
                <a:cubicBezTo>
                  <a:pt x="16407" y="13970"/>
                  <a:pt x="16421" y="14005"/>
                  <a:pt x="16421" y="14064"/>
                </a:cubicBezTo>
                <a:cubicBezTo>
                  <a:pt x="16421" y="14137"/>
                  <a:pt x="16424" y="14200"/>
                  <a:pt x="16446" y="14263"/>
                </a:cubicBezTo>
                <a:cubicBezTo>
                  <a:pt x="16468" y="14328"/>
                  <a:pt x="16470" y="14363"/>
                  <a:pt x="16520" y="14412"/>
                </a:cubicBezTo>
                <a:cubicBezTo>
                  <a:pt x="16551" y="14443"/>
                  <a:pt x="16560" y="14476"/>
                  <a:pt x="16594" y="145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75240" y="4554360"/>
            <a:ext cx="1359000" cy="473400"/>
          </a:xfrm>
          <a:custGeom>
            <a:avLst/>
            <a:gdLst/>
            <a:ahLst/>
            <a:rect l="l" t="t" r="r" b="b"/>
            <a:pathLst>
              <a:path w="3771" h="1316">
                <a:moveTo>
                  <a:pt x="17835" y="13072"/>
                </a:moveTo>
                <a:cubicBezTo>
                  <a:pt x="17931" y="13072"/>
                  <a:pt x="18013" y="13094"/>
                  <a:pt x="18107" y="13097"/>
                </a:cubicBezTo>
                <a:cubicBezTo>
                  <a:pt x="18187" y="13100"/>
                  <a:pt x="18217" y="13126"/>
                  <a:pt x="18281" y="13146"/>
                </a:cubicBezTo>
                <a:cubicBezTo>
                  <a:pt x="18306" y="13146"/>
                  <a:pt x="18314" y="13146"/>
                  <a:pt x="18331" y="13146"/>
                </a:cubicBezTo>
              </a:path>
              <a:path w="3771" h="1316">
                <a:moveTo>
                  <a:pt x="17711" y="13469"/>
                </a:moveTo>
                <a:cubicBezTo>
                  <a:pt x="17755" y="13503"/>
                  <a:pt x="17800" y="13514"/>
                  <a:pt x="17859" y="13519"/>
                </a:cubicBezTo>
                <a:cubicBezTo>
                  <a:pt x="17990" y="13529"/>
                  <a:pt x="18125" y="13519"/>
                  <a:pt x="18256" y="13519"/>
                </a:cubicBezTo>
              </a:path>
              <a:path w="3771" h="1316">
                <a:moveTo>
                  <a:pt x="19348" y="13246"/>
                </a:moveTo>
                <a:cubicBezTo>
                  <a:pt x="19337" y="13212"/>
                  <a:pt x="19302" y="13162"/>
                  <a:pt x="19248" y="13146"/>
                </a:cubicBezTo>
                <a:cubicBezTo>
                  <a:pt x="19141" y="13115"/>
                  <a:pt x="19005" y="13134"/>
                  <a:pt x="18951" y="13221"/>
                </a:cubicBezTo>
                <a:cubicBezTo>
                  <a:pt x="18890" y="13318"/>
                  <a:pt x="18878" y="13459"/>
                  <a:pt x="18852" y="13568"/>
                </a:cubicBezTo>
                <a:cubicBezTo>
                  <a:pt x="18839" y="13624"/>
                  <a:pt x="18797" y="13818"/>
                  <a:pt x="18852" y="13866"/>
                </a:cubicBezTo>
                <a:cubicBezTo>
                  <a:pt x="18898" y="13907"/>
                  <a:pt x="18958" y="13876"/>
                  <a:pt x="19000" y="13841"/>
                </a:cubicBezTo>
                <a:cubicBezTo>
                  <a:pt x="19084" y="13771"/>
                  <a:pt x="19139" y="13683"/>
                  <a:pt x="19199" y="13593"/>
                </a:cubicBezTo>
                <a:cubicBezTo>
                  <a:pt x="19255" y="13509"/>
                  <a:pt x="19312" y="13423"/>
                  <a:pt x="19372" y="13345"/>
                </a:cubicBezTo>
                <a:cubicBezTo>
                  <a:pt x="19399" y="13310"/>
                  <a:pt x="19433" y="13303"/>
                  <a:pt x="19472" y="13295"/>
                </a:cubicBezTo>
                <a:cubicBezTo>
                  <a:pt x="19494" y="13332"/>
                  <a:pt x="19535" y="13397"/>
                  <a:pt x="19546" y="13444"/>
                </a:cubicBezTo>
                <a:cubicBezTo>
                  <a:pt x="19563" y="13516"/>
                  <a:pt x="19556" y="13602"/>
                  <a:pt x="19596" y="13667"/>
                </a:cubicBezTo>
                <a:cubicBezTo>
                  <a:pt x="19614" y="13697"/>
                  <a:pt x="19648" y="13739"/>
                  <a:pt x="19670" y="13742"/>
                </a:cubicBezTo>
                <a:cubicBezTo>
                  <a:pt x="19678" y="13742"/>
                  <a:pt x="19687" y="13742"/>
                  <a:pt x="19695" y="13742"/>
                </a:cubicBezTo>
              </a:path>
              <a:path w="3771" h="1316">
                <a:moveTo>
                  <a:pt x="19869" y="13022"/>
                </a:moveTo>
                <a:cubicBezTo>
                  <a:pt x="19958" y="12953"/>
                  <a:pt x="19921" y="12966"/>
                  <a:pt x="19968" y="12898"/>
                </a:cubicBezTo>
                <a:cubicBezTo>
                  <a:pt x="20011" y="12835"/>
                  <a:pt x="20063" y="12780"/>
                  <a:pt x="20117" y="12725"/>
                </a:cubicBezTo>
                <a:cubicBezTo>
                  <a:pt x="20137" y="12705"/>
                  <a:pt x="20185" y="12653"/>
                  <a:pt x="20191" y="12650"/>
                </a:cubicBezTo>
                <a:cubicBezTo>
                  <a:pt x="20199" y="12650"/>
                  <a:pt x="20208" y="12650"/>
                  <a:pt x="20216" y="12650"/>
                </a:cubicBezTo>
                <a:cubicBezTo>
                  <a:pt x="20216" y="12692"/>
                  <a:pt x="20226" y="12715"/>
                  <a:pt x="20241" y="12750"/>
                </a:cubicBezTo>
                <a:cubicBezTo>
                  <a:pt x="20260" y="12795"/>
                  <a:pt x="20288" y="12858"/>
                  <a:pt x="20315" y="12898"/>
                </a:cubicBezTo>
                <a:cubicBezTo>
                  <a:pt x="20343" y="12940"/>
                  <a:pt x="20368" y="12948"/>
                  <a:pt x="20414" y="12948"/>
                </a:cubicBezTo>
              </a:path>
              <a:path w="3771" h="1316">
                <a:moveTo>
                  <a:pt x="20762" y="12799"/>
                </a:moveTo>
                <a:cubicBezTo>
                  <a:pt x="20831" y="12869"/>
                  <a:pt x="20847" y="12907"/>
                  <a:pt x="20886" y="12998"/>
                </a:cubicBezTo>
                <a:cubicBezTo>
                  <a:pt x="20925" y="13089"/>
                  <a:pt x="20963" y="13185"/>
                  <a:pt x="21010" y="13271"/>
                </a:cubicBezTo>
                <a:cubicBezTo>
                  <a:pt x="21058" y="13358"/>
                  <a:pt x="21128" y="13463"/>
                  <a:pt x="21183" y="13543"/>
                </a:cubicBezTo>
                <a:cubicBezTo>
                  <a:pt x="21209" y="13580"/>
                  <a:pt x="21287" y="13672"/>
                  <a:pt x="21332" y="13692"/>
                </a:cubicBezTo>
                <a:cubicBezTo>
                  <a:pt x="21365" y="13707"/>
                  <a:pt x="21384" y="13684"/>
                  <a:pt x="21406" y="13667"/>
                </a:cubicBezTo>
              </a:path>
              <a:path w="3771" h="1316">
                <a:moveTo>
                  <a:pt x="21481" y="12849"/>
                </a:moveTo>
                <a:cubicBezTo>
                  <a:pt x="21428" y="12864"/>
                  <a:pt x="21439" y="12846"/>
                  <a:pt x="21406" y="12898"/>
                </a:cubicBezTo>
                <a:cubicBezTo>
                  <a:pt x="21360" y="12970"/>
                  <a:pt x="21329" y="13050"/>
                  <a:pt x="21282" y="13122"/>
                </a:cubicBezTo>
                <a:cubicBezTo>
                  <a:pt x="21179" y="13280"/>
                  <a:pt x="21054" y="13430"/>
                  <a:pt x="20960" y="13593"/>
                </a:cubicBezTo>
                <a:cubicBezTo>
                  <a:pt x="20901" y="13695"/>
                  <a:pt x="20860" y="13809"/>
                  <a:pt x="20811" y="13915"/>
                </a:cubicBezTo>
                <a:cubicBezTo>
                  <a:pt x="20803" y="13932"/>
                  <a:pt x="20794" y="13948"/>
                  <a:pt x="20786" y="139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16720" y="5286240"/>
            <a:ext cx="965160" cy="366840"/>
          </a:xfrm>
          <a:custGeom>
            <a:avLst/>
            <a:gdLst/>
            <a:ahLst/>
            <a:rect l="l" t="t" r="r" b="b"/>
            <a:pathLst>
              <a:path w="2680" h="1018">
                <a:moveTo>
                  <a:pt x="17810" y="15230"/>
                </a:moveTo>
                <a:cubicBezTo>
                  <a:pt x="17775" y="15204"/>
                  <a:pt x="17779" y="15205"/>
                  <a:pt x="17735" y="15205"/>
                </a:cubicBezTo>
                <a:cubicBezTo>
                  <a:pt x="17745" y="15175"/>
                  <a:pt x="17791" y="15169"/>
                  <a:pt x="17835" y="15156"/>
                </a:cubicBezTo>
                <a:cubicBezTo>
                  <a:pt x="17913" y="15133"/>
                  <a:pt x="18024" y="15113"/>
                  <a:pt x="18107" y="15131"/>
                </a:cubicBezTo>
                <a:cubicBezTo>
                  <a:pt x="18171" y="15145"/>
                  <a:pt x="18225" y="15166"/>
                  <a:pt x="18281" y="15180"/>
                </a:cubicBezTo>
              </a:path>
              <a:path w="2680" h="1018">
                <a:moveTo>
                  <a:pt x="17587" y="15503"/>
                </a:moveTo>
                <a:cubicBezTo>
                  <a:pt x="17599" y="15541"/>
                  <a:pt x="17616" y="15528"/>
                  <a:pt x="17661" y="15528"/>
                </a:cubicBezTo>
                <a:cubicBezTo>
                  <a:pt x="17736" y="15528"/>
                  <a:pt x="17790" y="15515"/>
                  <a:pt x="17859" y="15503"/>
                </a:cubicBezTo>
                <a:cubicBezTo>
                  <a:pt x="17971" y="15484"/>
                  <a:pt x="18074" y="15514"/>
                  <a:pt x="18182" y="15478"/>
                </a:cubicBezTo>
              </a:path>
              <a:path w="2680" h="1018">
                <a:moveTo>
                  <a:pt x="16123" y="15056"/>
                </a:moveTo>
                <a:cubicBezTo>
                  <a:pt x="16093" y="15051"/>
                  <a:pt x="15921" y="15007"/>
                  <a:pt x="15875" y="15032"/>
                </a:cubicBezTo>
                <a:cubicBezTo>
                  <a:pt x="15806" y="15069"/>
                  <a:pt x="15711" y="15187"/>
                  <a:pt x="15677" y="15255"/>
                </a:cubicBezTo>
                <a:cubicBezTo>
                  <a:pt x="15637" y="15335"/>
                  <a:pt x="15608" y="15440"/>
                  <a:pt x="15602" y="15528"/>
                </a:cubicBezTo>
                <a:cubicBezTo>
                  <a:pt x="15599" y="15570"/>
                  <a:pt x="15640" y="15598"/>
                  <a:pt x="15677" y="15602"/>
                </a:cubicBezTo>
                <a:cubicBezTo>
                  <a:pt x="15739" y="15609"/>
                  <a:pt x="15748" y="15580"/>
                  <a:pt x="15776" y="15528"/>
                </a:cubicBezTo>
                <a:cubicBezTo>
                  <a:pt x="15819" y="15447"/>
                  <a:pt x="15861" y="15357"/>
                  <a:pt x="15900" y="15280"/>
                </a:cubicBezTo>
                <a:cubicBezTo>
                  <a:pt x="15933" y="15215"/>
                  <a:pt x="15938" y="15161"/>
                  <a:pt x="15999" y="15131"/>
                </a:cubicBezTo>
                <a:cubicBezTo>
                  <a:pt x="16077" y="15151"/>
                  <a:pt x="16070" y="15229"/>
                  <a:pt x="16073" y="15304"/>
                </a:cubicBezTo>
                <a:cubicBezTo>
                  <a:pt x="16076" y="15390"/>
                  <a:pt x="16088" y="15475"/>
                  <a:pt x="16123" y="15553"/>
                </a:cubicBezTo>
                <a:cubicBezTo>
                  <a:pt x="16146" y="15605"/>
                  <a:pt x="16182" y="15638"/>
                  <a:pt x="16222" y="15677"/>
                </a:cubicBezTo>
                <a:cubicBezTo>
                  <a:pt x="16245" y="15699"/>
                  <a:pt x="16250" y="15707"/>
                  <a:pt x="16272" y="15701"/>
                </a:cubicBezTo>
              </a:path>
              <a:path w="2680" h="1018">
                <a:moveTo>
                  <a:pt x="16421" y="14957"/>
                </a:moveTo>
                <a:cubicBezTo>
                  <a:pt x="16434" y="14919"/>
                  <a:pt x="16443" y="14929"/>
                  <a:pt x="16470" y="14908"/>
                </a:cubicBezTo>
                <a:cubicBezTo>
                  <a:pt x="16513" y="14876"/>
                  <a:pt x="16551" y="14840"/>
                  <a:pt x="16594" y="14808"/>
                </a:cubicBezTo>
                <a:cubicBezTo>
                  <a:pt x="16630" y="14782"/>
                  <a:pt x="16679" y="14727"/>
                  <a:pt x="16718" y="14709"/>
                </a:cubicBezTo>
                <a:cubicBezTo>
                  <a:pt x="16743" y="14709"/>
                  <a:pt x="16751" y="14709"/>
                  <a:pt x="16743" y="14684"/>
                </a:cubicBezTo>
                <a:cubicBezTo>
                  <a:pt x="16743" y="14749"/>
                  <a:pt x="16706" y="14806"/>
                  <a:pt x="16694" y="14858"/>
                </a:cubicBezTo>
                <a:cubicBezTo>
                  <a:pt x="16683" y="14907"/>
                  <a:pt x="16669" y="14956"/>
                  <a:pt x="16669" y="15007"/>
                </a:cubicBezTo>
                <a:cubicBezTo>
                  <a:pt x="16669" y="15015"/>
                  <a:pt x="16669" y="15024"/>
                  <a:pt x="16669" y="15032"/>
                </a:cubicBezTo>
              </a:path>
              <a:path w="2680" h="1018">
                <a:moveTo>
                  <a:pt x="16867" y="15205"/>
                </a:moveTo>
                <a:cubicBezTo>
                  <a:pt x="16917" y="15218"/>
                  <a:pt x="16931" y="15230"/>
                  <a:pt x="16991" y="15230"/>
                </a:cubicBezTo>
                <a:cubicBezTo>
                  <a:pt x="17074" y="15230"/>
                  <a:pt x="17156" y="15230"/>
                  <a:pt x="17239" y="15230"/>
                </a:cubicBezTo>
              </a:path>
              <a:path w="2680" h="1018">
                <a:moveTo>
                  <a:pt x="17611" y="14734"/>
                </a:moveTo>
                <a:cubicBezTo>
                  <a:pt x="17578" y="14753"/>
                  <a:pt x="17521" y="14801"/>
                  <a:pt x="17487" y="14808"/>
                </a:cubicBezTo>
                <a:cubicBezTo>
                  <a:pt x="17448" y="14816"/>
                  <a:pt x="17370" y="14868"/>
                  <a:pt x="17338" y="14908"/>
                </a:cubicBezTo>
                <a:cubicBezTo>
                  <a:pt x="17309" y="14945"/>
                  <a:pt x="17322" y="14938"/>
                  <a:pt x="17363" y="14908"/>
                </a:cubicBezTo>
              </a:path>
              <a:path w="2680" h="1018">
                <a:moveTo>
                  <a:pt x="17587" y="14784"/>
                </a:moveTo>
                <a:cubicBezTo>
                  <a:pt x="17566" y="14833"/>
                  <a:pt x="17558" y="14891"/>
                  <a:pt x="17537" y="14932"/>
                </a:cubicBezTo>
                <a:cubicBezTo>
                  <a:pt x="17505" y="14995"/>
                  <a:pt x="17512" y="15065"/>
                  <a:pt x="17487" y="15131"/>
                </a:cubicBezTo>
                <a:cubicBezTo>
                  <a:pt x="17464" y="15192"/>
                  <a:pt x="17428" y="15283"/>
                  <a:pt x="17413" y="15354"/>
                </a:cubicBezTo>
                <a:cubicBezTo>
                  <a:pt x="17402" y="15405"/>
                  <a:pt x="17395" y="15451"/>
                  <a:pt x="17388" y="15503"/>
                </a:cubicBezTo>
              </a:path>
              <a:path w="2680" h="1018">
                <a:moveTo>
                  <a:pt x="17115" y="15503"/>
                </a:moveTo>
                <a:cubicBezTo>
                  <a:pt x="17216" y="15523"/>
                  <a:pt x="17300" y="15520"/>
                  <a:pt x="17388" y="15528"/>
                </a:cubicBezTo>
                <a:cubicBezTo>
                  <a:pt x="17434" y="15532"/>
                  <a:pt x="17490" y="15528"/>
                  <a:pt x="17537" y="1552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59720" y="5170320"/>
            <a:ext cx="830160" cy="401760"/>
          </a:xfrm>
          <a:custGeom>
            <a:avLst/>
            <a:gdLst/>
            <a:ahLst/>
            <a:rect l="l" t="t" r="r" b="b"/>
            <a:pathLst>
              <a:path w="2308" h="1117">
                <a:moveTo>
                  <a:pt x="19298" y="15056"/>
                </a:moveTo>
                <a:cubicBezTo>
                  <a:pt x="19298" y="15001"/>
                  <a:pt x="19305" y="14981"/>
                  <a:pt x="19273" y="14957"/>
                </a:cubicBezTo>
                <a:cubicBezTo>
                  <a:pt x="19231" y="14925"/>
                  <a:pt x="19159" y="14877"/>
                  <a:pt x="19100" y="14908"/>
                </a:cubicBezTo>
                <a:cubicBezTo>
                  <a:pt x="18971" y="14976"/>
                  <a:pt x="18887" y="15074"/>
                  <a:pt x="18827" y="15205"/>
                </a:cubicBezTo>
                <a:cubicBezTo>
                  <a:pt x="18800" y="15265"/>
                  <a:pt x="18750" y="15384"/>
                  <a:pt x="18777" y="15453"/>
                </a:cubicBezTo>
                <a:cubicBezTo>
                  <a:pt x="18785" y="15461"/>
                  <a:pt x="18794" y="15470"/>
                  <a:pt x="18802" y="15478"/>
                </a:cubicBezTo>
                <a:cubicBezTo>
                  <a:pt x="18845" y="15457"/>
                  <a:pt x="18914" y="15377"/>
                  <a:pt x="18951" y="15329"/>
                </a:cubicBezTo>
                <a:cubicBezTo>
                  <a:pt x="19019" y="15242"/>
                  <a:pt x="19070" y="15159"/>
                  <a:pt x="19149" y="15081"/>
                </a:cubicBezTo>
                <a:cubicBezTo>
                  <a:pt x="19189" y="15042"/>
                  <a:pt x="19202" y="15019"/>
                  <a:pt x="19248" y="15007"/>
                </a:cubicBezTo>
                <a:cubicBezTo>
                  <a:pt x="19248" y="15108"/>
                  <a:pt x="19219" y="15241"/>
                  <a:pt x="19273" y="15329"/>
                </a:cubicBezTo>
                <a:cubicBezTo>
                  <a:pt x="19295" y="15365"/>
                  <a:pt x="19302" y="15399"/>
                  <a:pt x="19348" y="15404"/>
                </a:cubicBezTo>
                <a:cubicBezTo>
                  <a:pt x="19380" y="15408"/>
                  <a:pt x="19415" y="15404"/>
                  <a:pt x="19447" y="15404"/>
                </a:cubicBezTo>
              </a:path>
              <a:path w="2308" h="1117">
                <a:moveTo>
                  <a:pt x="19670" y="14660"/>
                </a:moveTo>
                <a:cubicBezTo>
                  <a:pt x="19700" y="14620"/>
                  <a:pt x="19675" y="14596"/>
                  <a:pt x="19695" y="14560"/>
                </a:cubicBezTo>
                <a:cubicBezTo>
                  <a:pt x="19730" y="14499"/>
                  <a:pt x="19818" y="14453"/>
                  <a:pt x="19869" y="14412"/>
                </a:cubicBezTo>
                <a:cubicBezTo>
                  <a:pt x="19915" y="14375"/>
                  <a:pt x="19909" y="14367"/>
                  <a:pt x="19968" y="14362"/>
                </a:cubicBezTo>
                <a:cubicBezTo>
                  <a:pt x="20021" y="14357"/>
                  <a:pt x="20023" y="14408"/>
                  <a:pt x="20042" y="14436"/>
                </a:cubicBezTo>
                <a:cubicBezTo>
                  <a:pt x="20068" y="14475"/>
                  <a:pt x="20084" y="14536"/>
                  <a:pt x="20092" y="14585"/>
                </a:cubicBezTo>
                <a:cubicBezTo>
                  <a:pt x="20102" y="14645"/>
                  <a:pt x="20131" y="14707"/>
                  <a:pt x="20141" y="14759"/>
                </a:cubicBezTo>
                <a:cubicBezTo>
                  <a:pt x="20153" y="14822"/>
                  <a:pt x="20147" y="14866"/>
                  <a:pt x="20216" y="14883"/>
                </a:cubicBezTo>
              </a:path>
              <a:path w="2308" h="1117">
                <a:moveTo>
                  <a:pt x="20513" y="14908"/>
                </a:moveTo>
                <a:cubicBezTo>
                  <a:pt x="20542" y="14966"/>
                  <a:pt x="20572" y="15031"/>
                  <a:pt x="20613" y="15081"/>
                </a:cubicBezTo>
                <a:cubicBezTo>
                  <a:pt x="20664" y="15143"/>
                  <a:pt x="20689" y="15160"/>
                  <a:pt x="20737" y="15230"/>
                </a:cubicBezTo>
                <a:cubicBezTo>
                  <a:pt x="20764" y="15269"/>
                  <a:pt x="20816" y="15314"/>
                  <a:pt x="20861" y="15329"/>
                </a:cubicBezTo>
                <a:cubicBezTo>
                  <a:pt x="20869" y="15329"/>
                  <a:pt x="20878" y="15329"/>
                  <a:pt x="20886" y="15329"/>
                </a:cubicBezTo>
              </a:path>
              <a:path w="2308" h="1117">
                <a:moveTo>
                  <a:pt x="21084" y="14908"/>
                </a:moveTo>
                <a:cubicBezTo>
                  <a:pt x="20940" y="14984"/>
                  <a:pt x="20811" y="15094"/>
                  <a:pt x="20687" y="15205"/>
                </a:cubicBezTo>
                <a:cubicBezTo>
                  <a:pt x="20653" y="15236"/>
                  <a:pt x="20621" y="15272"/>
                  <a:pt x="20588" y="1530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643720" y="5776920"/>
            <a:ext cx="1482480" cy="447840"/>
          </a:xfrm>
          <a:custGeom>
            <a:avLst/>
            <a:gdLst/>
            <a:ahLst/>
            <a:rect l="l" t="t" r="r" b="b"/>
            <a:pathLst>
              <a:path w="4118" h="1241">
                <a:moveTo>
                  <a:pt x="15825" y="16644"/>
                </a:moveTo>
                <a:cubicBezTo>
                  <a:pt x="15888" y="16707"/>
                  <a:pt x="15972" y="16770"/>
                  <a:pt x="16024" y="16842"/>
                </a:cubicBezTo>
                <a:cubicBezTo>
                  <a:pt x="16070" y="16906"/>
                  <a:pt x="16112" y="16969"/>
                  <a:pt x="16148" y="17041"/>
                </a:cubicBezTo>
                <a:cubicBezTo>
                  <a:pt x="16172" y="17088"/>
                  <a:pt x="16198" y="17187"/>
                  <a:pt x="16247" y="17214"/>
                </a:cubicBezTo>
                <a:cubicBezTo>
                  <a:pt x="16272" y="17214"/>
                  <a:pt x="16280" y="17214"/>
                  <a:pt x="16272" y="17239"/>
                </a:cubicBezTo>
                <a:cubicBezTo>
                  <a:pt x="16321" y="17202"/>
                  <a:pt x="16307" y="17223"/>
                  <a:pt x="16346" y="17165"/>
                </a:cubicBezTo>
              </a:path>
              <a:path w="4118" h="1241">
                <a:moveTo>
                  <a:pt x="16470" y="16570"/>
                </a:moveTo>
                <a:cubicBezTo>
                  <a:pt x="16383" y="16625"/>
                  <a:pt x="16297" y="16671"/>
                  <a:pt x="16222" y="16743"/>
                </a:cubicBezTo>
                <a:cubicBezTo>
                  <a:pt x="16112" y="16849"/>
                  <a:pt x="15989" y="16939"/>
                  <a:pt x="15875" y="17041"/>
                </a:cubicBezTo>
                <a:cubicBezTo>
                  <a:pt x="15810" y="17099"/>
                  <a:pt x="15709" y="17180"/>
                  <a:pt x="15677" y="17264"/>
                </a:cubicBezTo>
                <a:cubicBezTo>
                  <a:pt x="15677" y="17272"/>
                  <a:pt x="15677" y="17281"/>
                  <a:pt x="15677" y="17289"/>
                </a:cubicBezTo>
              </a:path>
              <a:path w="4118" h="1241">
                <a:moveTo>
                  <a:pt x="16694" y="16818"/>
                </a:moveTo>
                <a:cubicBezTo>
                  <a:pt x="16737" y="16850"/>
                  <a:pt x="16761" y="16842"/>
                  <a:pt x="16818" y="16842"/>
                </a:cubicBezTo>
                <a:cubicBezTo>
                  <a:pt x="16887" y="16842"/>
                  <a:pt x="16944" y="16818"/>
                  <a:pt x="17016" y="16818"/>
                </a:cubicBezTo>
              </a:path>
              <a:path w="4118" h="1241">
                <a:moveTo>
                  <a:pt x="16718" y="17041"/>
                </a:moveTo>
                <a:cubicBezTo>
                  <a:pt x="16768" y="17054"/>
                  <a:pt x="16782" y="17066"/>
                  <a:pt x="16842" y="17066"/>
                </a:cubicBezTo>
                <a:cubicBezTo>
                  <a:pt x="16933" y="17066"/>
                  <a:pt x="17024" y="17066"/>
                  <a:pt x="17115" y="17066"/>
                </a:cubicBezTo>
              </a:path>
              <a:path w="4118" h="1241">
                <a:moveTo>
                  <a:pt x="18132" y="16222"/>
                </a:moveTo>
                <a:cubicBezTo>
                  <a:pt x="18124" y="16222"/>
                  <a:pt x="18115" y="16222"/>
                  <a:pt x="18107" y="16222"/>
                </a:cubicBezTo>
              </a:path>
              <a:path w="4118" h="1241">
                <a:moveTo>
                  <a:pt x="17438" y="16818"/>
                </a:moveTo>
                <a:cubicBezTo>
                  <a:pt x="17438" y="16826"/>
                  <a:pt x="17438" y="16834"/>
                  <a:pt x="17438" y="16842"/>
                </a:cubicBezTo>
                <a:cubicBezTo>
                  <a:pt x="17550" y="16842"/>
                  <a:pt x="17662" y="16838"/>
                  <a:pt x="17760" y="16867"/>
                </a:cubicBezTo>
                <a:cubicBezTo>
                  <a:pt x="17789" y="16876"/>
                  <a:pt x="17828" y="16867"/>
                  <a:pt x="17859" y="16867"/>
                </a:cubicBezTo>
              </a:path>
              <a:path w="4118" h="1241">
                <a:moveTo>
                  <a:pt x="18604" y="16073"/>
                </a:moveTo>
                <a:cubicBezTo>
                  <a:pt x="18568" y="16073"/>
                  <a:pt x="18531" y="16080"/>
                  <a:pt x="18504" y="16098"/>
                </a:cubicBezTo>
                <a:cubicBezTo>
                  <a:pt x="18458" y="16129"/>
                  <a:pt x="18419" y="16183"/>
                  <a:pt x="18380" y="16222"/>
                </a:cubicBezTo>
                <a:cubicBezTo>
                  <a:pt x="18341" y="16261"/>
                  <a:pt x="18299" y="16315"/>
                  <a:pt x="18256" y="16346"/>
                </a:cubicBezTo>
                <a:cubicBezTo>
                  <a:pt x="18222" y="16370"/>
                  <a:pt x="18135" y="16421"/>
                  <a:pt x="18182" y="16421"/>
                </a:cubicBezTo>
              </a:path>
              <a:path w="4118" h="1241">
                <a:moveTo>
                  <a:pt x="18678" y="16049"/>
                </a:moveTo>
                <a:cubicBezTo>
                  <a:pt x="18678" y="16162"/>
                  <a:pt x="18685" y="16265"/>
                  <a:pt x="18703" y="16371"/>
                </a:cubicBezTo>
                <a:cubicBezTo>
                  <a:pt x="18731" y="16538"/>
                  <a:pt x="18706" y="16728"/>
                  <a:pt x="18728" y="16892"/>
                </a:cubicBezTo>
                <a:cubicBezTo>
                  <a:pt x="18738" y="16971"/>
                  <a:pt x="18728" y="17060"/>
                  <a:pt x="18728" y="17140"/>
                </a:cubicBezTo>
              </a:path>
              <a:path w="4118" h="1241">
                <a:moveTo>
                  <a:pt x="18107" y="17214"/>
                </a:moveTo>
                <a:cubicBezTo>
                  <a:pt x="18203" y="17214"/>
                  <a:pt x="18287" y="17194"/>
                  <a:pt x="18380" y="17190"/>
                </a:cubicBezTo>
                <a:cubicBezTo>
                  <a:pt x="18492" y="17185"/>
                  <a:pt x="18615" y="17179"/>
                  <a:pt x="18728" y="17165"/>
                </a:cubicBezTo>
                <a:cubicBezTo>
                  <a:pt x="18888" y="17145"/>
                  <a:pt x="19037" y="17140"/>
                  <a:pt x="19199" y="17140"/>
                </a:cubicBezTo>
                <a:cubicBezTo>
                  <a:pt x="19369" y="17140"/>
                  <a:pt x="19529" y="17176"/>
                  <a:pt x="19695" y="17190"/>
                </a:cubicBezTo>
                <a:cubicBezTo>
                  <a:pt x="19728" y="17190"/>
                  <a:pt x="19761" y="17190"/>
                  <a:pt x="19794" y="1719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37040" y="4187880"/>
            <a:ext cx="1606680" cy="304920"/>
          </a:xfrm>
          <a:custGeom>
            <a:avLst/>
            <a:gdLst/>
            <a:ahLst/>
            <a:rect l="l" t="t" r="r" b="b"/>
            <a:pathLst>
              <a:path w="4466" h="845">
                <a:moveTo>
                  <a:pt x="11212" y="12477"/>
                </a:moveTo>
                <a:cubicBezTo>
                  <a:pt x="11233" y="12461"/>
                  <a:pt x="11243" y="12412"/>
                  <a:pt x="11286" y="12402"/>
                </a:cubicBezTo>
                <a:cubicBezTo>
                  <a:pt x="11356" y="12385"/>
                  <a:pt x="11436" y="12368"/>
                  <a:pt x="11509" y="12353"/>
                </a:cubicBezTo>
                <a:cubicBezTo>
                  <a:pt x="11674" y="12319"/>
                  <a:pt x="11840" y="12289"/>
                  <a:pt x="12005" y="12254"/>
                </a:cubicBezTo>
                <a:cubicBezTo>
                  <a:pt x="12383" y="12173"/>
                  <a:pt x="12765" y="12119"/>
                  <a:pt x="13146" y="12055"/>
                </a:cubicBezTo>
                <a:cubicBezTo>
                  <a:pt x="13354" y="12020"/>
                  <a:pt x="13560" y="12004"/>
                  <a:pt x="13767" y="11981"/>
                </a:cubicBezTo>
                <a:cubicBezTo>
                  <a:pt x="13970" y="11958"/>
                  <a:pt x="14163" y="11897"/>
                  <a:pt x="14362" y="11857"/>
                </a:cubicBezTo>
                <a:cubicBezTo>
                  <a:pt x="14520" y="11825"/>
                  <a:pt x="14676" y="11805"/>
                  <a:pt x="14833" y="11782"/>
                </a:cubicBezTo>
                <a:cubicBezTo>
                  <a:pt x="14982" y="11760"/>
                  <a:pt x="15133" y="11719"/>
                  <a:pt x="15280" y="11683"/>
                </a:cubicBezTo>
                <a:cubicBezTo>
                  <a:pt x="15399" y="11654"/>
                  <a:pt x="15491" y="11661"/>
                  <a:pt x="15602" y="11658"/>
                </a:cubicBezTo>
                <a:cubicBezTo>
                  <a:pt x="15627" y="11658"/>
                  <a:pt x="15652" y="11658"/>
                  <a:pt x="15677" y="116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43040" y="5045040"/>
            <a:ext cx="19080" cy="447840"/>
          </a:xfrm>
          <a:custGeom>
            <a:avLst/>
            <a:gdLst/>
            <a:ahLst/>
            <a:rect l="l" t="t" r="r" b="b"/>
            <a:pathLst>
              <a:path w="51" h="1241">
                <a:moveTo>
                  <a:pt x="4564" y="14015"/>
                </a:moveTo>
                <a:cubicBezTo>
                  <a:pt x="4564" y="14068"/>
                  <a:pt x="4586" y="14084"/>
                  <a:pt x="4589" y="14139"/>
                </a:cubicBezTo>
                <a:cubicBezTo>
                  <a:pt x="4605" y="14405"/>
                  <a:pt x="4585" y="14671"/>
                  <a:pt x="4614" y="14932"/>
                </a:cubicBezTo>
                <a:cubicBezTo>
                  <a:pt x="4622" y="15004"/>
                  <a:pt x="4614" y="15243"/>
                  <a:pt x="4614" y="1523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76240" y="5249880"/>
            <a:ext cx="162000" cy="260280"/>
          </a:xfrm>
          <a:custGeom>
            <a:avLst/>
            <a:gdLst/>
            <a:ahLst/>
            <a:rect l="l" t="t" r="r" b="b"/>
            <a:pathLst>
              <a:path w="448" h="720">
                <a:moveTo>
                  <a:pt x="4961" y="14858"/>
                </a:moveTo>
                <a:cubicBezTo>
                  <a:pt x="4961" y="14995"/>
                  <a:pt x="4947" y="15090"/>
                  <a:pt x="5011" y="15205"/>
                </a:cubicBezTo>
                <a:cubicBezTo>
                  <a:pt x="5043" y="15264"/>
                  <a:pt x="5061" y="15299"/>
                  <a:pt x="5135" y="15304"/>
                </a:cubicBezTo>
                <a:cubicBezTo>
                  <a:pt x="5200" y="15308"/>
                  <a:pt x="5234" y="15299"/>
                  <a:pt x="5283" y="15255"/>
                </a:cubicBezTo>
                <a:cubicBezTo>
                  <a:pt x="5329" y="15214"/>
                  <a:pt x="5337" y="15157"/>
                  <a:pt x="5358" y="15106"/>
                </a:cubicBezTo>
                <a:cubicBezTo>
                  <a:pt x="5395" y="15013"/>
                  <a:pt x="5373" y="14971"/>
                  <a:pt x="5358" y="14883"/>
                </a:cubicBezTo>
                <a:cubicBezTo>
                  <a:pt x="5347" y="14819"/>
                  <a:pt x="5344" y="14741"/>
                  <a:pt x="5308" y="14684"/>
                </a:cubicBezTo>
                <a:cubicBezTo>
                  <a:pt x="5281" y="14641"/>
                  <a:pt x="5271" y="14635"/>
                  <a:pt x="5234" y="14610"/>
                </a:cubicBezTo>
                <a:cubicBezTo>
                  <a:pt x="5200" y="14587"/>
                  <a:pt x="5156" y="14604"/>
                  <a:pt x="5110" y="14635"/>
                </a:cubicBezTo>
                <a:cubicBezTo>
                  <a:pt x="5068" y="14663"/>
                  <a:pt x="5034" y="14740"/>
                  <a:pt x="5011" y="14784"/>
                </a:cubicBezTo>
                <a:cubicBezTo>
                  <a:pt x="4962" y="14877"/>
                  <a:pt x="4920" y="14974"/>
                  <a:pt x="4936" y="15081"/>
                </a:cubicBezTo>
                <a:cubicBezTo>
                  <a:pt x="4941" y="15116"/>
                  <a:pt x="4994" y="15175"/>
                  <a:pt x="5011" y="1520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17800" y="5268960"/>
            <a:ext cx="152280" cy="554040"/>
          </a:xfrm>
          <a:custGeom>
            <a:avLst/>
            <a:gdLst/>
            <a:ahLst/>
            <a:rect l="l" t="t" r="r" b="b"/>
            <a:pathLst>
              <a:path w="423" h="1539">
                <a:moveTo>
                  <a:pt x="5928" y="14734"/>
                </a:moveTo>
                <a:cubicBezTo>
                  <a:pt x="5909" y="14701"/>
                  <a:pt x="5887" y="14633"/>
                  <a:pt x="5854" y="14635"/>
                </a:cubicBezTo>
                <a:cubicBezTo>
                  <a:pt x="5772" y="14639"/>
                  <a:pt x="5678" y="14735"/>
                  <a:pt x="5655" y="14808"/>
                </a:cubicBezTo>
                <a:cubicBezTo>
                  <a:pt x="5633" y="14879"/>
                  <a:pt x="5631" y="14956"/>
                  <a:pt x="5631" y="15032"/>
                </a:cubicBezTo>
                <a:cubicBezTo>
                  <a:pt x="5631" y="15075"/>
                  <a:pt x="5646" y="15171"/>
                  <a:pt x="5680" y="15205"/>
                </a:cubicBezTo>
                <a:cubicBezTo>
                  <a:pt x="5718" y="15243"/>
                  <a:pt x="5751" y="15308"/>
                  <a:pt x="5804" y="15304"/>
                </a:cubicBezTo>
                <a:cubicBezTo>
                  <a:pt x="5840" y="15302"/>
                  <a:pt x="5877" y="15279"/>
                  <a:pt x="5904" y="15255"/>
                </a:cubicBezTo>
                <a:cubicBezTo>
                  <a:pt x="5942" y="15220"/>
                  <a:pt x="5954" y="15165"/>
                  <a:pt x="5978" y="15131"/>
                </a:cubicBezTo>
                <a:cubicBezTo>
                  <a:pt x="6017" y="15075"/>
                  <a:pt x="5982" y="15042"/>
                  <a:pt x="6003" y="14982"/>
                </a:cubicBezTo>
                <a:cubicBezTo>
                  <a:pt x="6017" y="14942"/>
                  <a:pt x="6022" y="14930"/>
                  <a:pt x="6028" y="14883"/>
                </a:cubicBezTo>
                <a:cubicBezTo>
                  <a:pt x="6028" y="14858"/>
                  <a:pt x="6028" y="14850"/>
                  <a:pt x="6028" y="14883"/>
                </a:cubicBezTo>
                <a:cubicBezTo>
                  <a:pt x="5998" y="14933"/>
                  <a:pt x="6003" y="14970"/>
                  <a:pt x="6003" y="15032"/>
                </a:cubicBezTo>
                <a:cubicBezTo>
                  <a:pt x="6003" y="15112"/>
                  <a:pt x="5982" y="15153"/>
                  <a:pt x="5978" y="15230"/>
                </a:cubicBezTo>
                <a:cubicBezTo>
                  <a:pt x="5970" y="15398"/>
                  <a:pt x="5971" y="15562"/>
                  <a:pt x="5953" y="15726"/>
                </a:cubicBezTo>
                <a:cubicBezTo>
                  <a:pt x="5943" y="15819"/>
                  <a:pt x="5941" y="15908"/>
                  <a:pt x="5928" y="15999"/>
                </a:cubicBezTo>
                <a:cubicBezTo>
                  <a:pt x="5923" y="16035"/>
                  <a:pt x="5907" y="16151"/>
                  <a:pt x="5879" y="16173"/>
                </a:cubicBezTo>
                <a:cubicBezTo>
                  <a:pt x="5842" y="16202"/>
                  <a:pt x="5759" y="16162"/>
                  <a:pt x="5730" y="16148"/>
                </a:cubicBezTo>
                <a:cubicBezTo>
                  <a:pt x="5647" y="16106"/>
                  <a:pt x="5620" y="16074"/>
                  <a:pt x="5606" y="15974"/>
                </a:cubicBezTo>
                <a:cubicBezTo>
                  <a:pt x="5606" y="15949"/>
                  <a:pt x="5606" y="15925"/>
                  <a:pt x="5606" y="1590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41720" y="5473800"/>
            <a:ext cx="160200" cy="125280"/>
          </a:xfrm>
          <a:custGeom>
            <a:avLst/>
            <a:gdLst/>
            <a:ahLst/>
            <a:rect l="l" t="t" r="r" b="b"/>
            <a:pathLst>
              <a:path w="447" h="349">
                <a:moveTo>
                  <a:pt x="6449" y="15379"/>
                </a:moveTo>
                <a:cubicBezTo>
                  <a:pt x="6482" y="15335"/>
                  <a:pt x="6485" y="15308"/>
                  <a:pt x="6449" y="15255"/>
                </a:cubicBezTo>
                <a:cubicBezTo>
                  <a:pt x="6431" y="15228"/>
                  <a:pt x="6387" y="15184"/>
                  <a:pt x="6350" y="15205"/>
                </a:cubicBezTo>
                <a:cubicBezTo>
                  <a:pt x="6327" y="15218"/>
                  <a:pt x="6262" y="15280"/>
                  <a:pt x="6251" y="15304"/>
                </a:cubicBezTo>
                <a:cubicBezTo>
                  <a:pt x="6229" y="15352"/>
                  <a:pt x="6243" y="15384"/>
                  <a:pt x="6251" y="15429"/>
                </a:cubicBezTo>
                <a:cubicBezTo>
                  <a:pt x="6253" y="15442"/>
                  <a:pt x="6277" y="15491"/>
                  <a:pt x="6300" y="15503"/>
                </a:cubicBezTo>
                <a:cubicBezTo>
                  <a:pt x="6333" y="15520"/>
                  <a:pt x="6378" y="15498"/>
                  <a:pt x="6400" y="15478"/>
                </a:cubicBezTo>
                <a:cubicBezTo>
                  <a:pt x="6413" y="15466"/>
                  <a:pt x="6471" y="15408"/>
                  <a:pt x="6474" y="15404"/>
                </a:cubicBezTo>
                <a:cubicBezTo>
                  <a:pt x="6481" y="15393"/>
                  <a:pt x="6474" y="15343"/>
                  <a:pt x="6474" y="15329"/>
                </a:cubicBezTo>
                <a:cubicBezTo>
                  <a:pt x="6515" y="15376"/>
                  <a:pt x="6564" y="15426"/>
                  <a:pt x="6598" y="15478"/>
                </a:cubicBezTo>
                <a:cubicBezTo>
                  <a:pt x="6630" y="15528"/>
                  <a:pt x="6620" y="15540"/>
                  <a:pt x="6672" y="1555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73200" y="5180040"/>
            <a:ext cx="268560" cy="285840"/>
          </a:xfrm>
          <a:custGeom>
            <a:avLst/>
            <a:gdLst/>
            <a:ahLst/>
            <a:rect l="l" t="t" r="r" b="b"/>
            <a:pathLst>
              <a:path w="745" h="794">
                <a:moveTo>
                  <a:pt x="7243" y="14734"/>
                </a:moveTo>
                <a:cubicBezTo>
                  <a:pt x="7243" y="14779"/>
                  <a:pt x="7239" y="14792"/>
                  <a:pt x="7268" y="14808"/>
                </a:cubicBezTo>
                <a:cubicBezTo>
                  <a:pt x="7268" y="14761"/>
                  <a:pt x="7288" y="14729"/>
                  <a:pt x="7293" y="14684"/>
                </a:cubicBezTo>
                <a:cubicBezTo>
                  <a:pt x="7299" y="14621"/>
                  <a:pt x="7271" y="14594"/>
                  <a:pt x="7268" y="14536"/>
                </a:cubicBezTo>
                <a:cubicBezTo>
                  <a:pt x="7266" y="14502"/>
                  <a:pt x="7255" y="14430"/>
                  <a:pt x="7218" y="14412"/>
                </a:cubicBezTo>
                <a:cubicBezTo>
                  <a:pt x="7201" y="14404"/>
                  <a:pt x="7144" y="14370"/>
                  <a:pt x="7119" y="14387"/>
                </a:cubicBezTo>
                <a:cubicBezTo>
                  <a:pt x="7052" y="14434"/>
                  <a:pt x="7017" y="14474"/>
                  <a:pt x="6970" y="14536"/>
                </a:cubicBezTo>
                <a:cubicBezTo>
                  <a:pt x="6912" y="14612"/>
                  <a:pt x="6920" y="14675"/>
                  <a:pt x="6896" y="14759"/>
                </a:cubicBezTo>
                <a:cubicBezTo>
                  <a:pt x="6872" y="14843"/>
                  <a:pt x="6871" y="14916"/>
                  <a:pt x="6871" y="15007"/>
                </a:cubicBezTo>
                <a:cubicBezTo>
                  <a:pt x="6871" y="15052"/>
                  <a:pt x="6918" y="15141"/>
                  <a:pt x="6970" y="15156"/>
                </a:cubicBezTo>
                <a:cubicBezTo>
                  <a:pt x="7038" y="15175"/>
                  <a:pt x="7059" y="15167"/>
                  <a:pt x="7119" y="15156"/>
                </a:cubicBezTo>
                <a:cubicBezTo>
                  <a:pt x="7195" y="15141"/>
                  <a:pt x="7204" y="15129"/>
                  <a:pt x="7243" y="15056"/>
                </a:cubicBezTo>
                <a:cubicBezTo>
                  <a:pt x="7276" y="14994"/>
                  <a:pt x="7302" y="14952"/>
                  <a:pt x="7317" y="14883"/>
                </a:cubicBezTo>
                <a:cubicBezTo>
                  <a:pt x="7327" y="14838"/>
                  <a:pt x="7317" y="14780"/>
                  <a:pt x="7317" y="14734"/>
                </a:cubicBezTo>
                <a:cubicBezTo>
                  <a:pt x="7298" y="14744"/>
                  <a:pt x="7317" y="14778"/>
                  <a:pt x="7317" y="14833"/>
                </a:cubicBezTo>
                <a:cubicBezTo>
                  <a:pt x="7317" y="14890"/>
                  <a:pt x="7358" y="14957"/>
                  <a:pt x="7392" y="15007"/>
                </a:cubicBezTo>
                <a:cubicBezTo>
                  <a:pt x="7433" y="15066"/>
                  <a:pt x="7482" y="15082"/>
                  <a:pt x="7541" y="15106"/>
                </a:cubicBezTo>
                <a:cubicBezTo>
                  <a:pt x="7584" y="15128"/>
                  <a:pt x="7596" y="15141"/>
                  <a:pt x="7615" y="1510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670120" y="5072040"/>
            <a:ext cx="98640" cy="19080"/>
          </a:xfrm>
          <a:custGeom>
            <a:avLst/>
            <a:gdLst/>
            <a:ahLst/>
            <a:rect l="l" t="t" r="r" b="b"/>
            <a:pathLst>
              <a:path w="273" h="51">
                <a:moveTo>
                  <a:pt x="7417" y="14089"/>
                </a:moveTo>
                <a:cubicBezTo>
                  <a:pt x="7472" y="14089"/>
                  <a:pt x="7488" y="14100"/>
                  <a:pt x="7541" y="14114"/>
                </a:cubicBezTo>
                <a:cubicBezTo>
                  <a:pt x="7594" y="14128"/>
                  <a:pt x="7652" y="14129"/>
                  <a:pt x="7689" y="1411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40040" y="4991040"/>
            <a:ext cx="17640" cy="144360"/>
          </a:xfrm>
          <a:custGeom>
            <a:avLst/>
            <a:gdLst/>
            <a:ahLst/>
            <a:rect l="l" t="t" r="r" b="b"/>
            <a:pathLst>
              <a:path w="51" h="398">
                <a:moveTo>
                  <a:pt x="7938" y="13866"/>
                </a:moveTo>
                <a:cubicBezTo>
                  <a:pt x="7938" y="13939"/>
                  <a:pt x="7924" y="13997"/>
                  <a:pt x="7913" y="14064"/>
                </a:cubicBezTo>
                <a:cubicBezTo>
                  <a:pt x="7901" y="14134"/>
                  <a:pt x="7904" y="14189"/>
                  <a:pt x="7888" y="1426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00160" y="6197760"/>
            <a:ext cx="162000" cy="17280"/>
          </a:xfrm>
          <a:custGeom>
            <a:avLst/>
            <a:gdLst/>
            <a:ahLst/>
            <a:rect l="l" t="t" r="r" b="b"/>
            <a:pathLst>
              <a:path w="448" h="51">
                <a:moveTo>
                  <a:pt x="5556" y="17239"/>
                </a:moveTo>
                <a:cubicBezTo>
                  <a:pt x="5569" y="17201"/>
                  <a:pt x="5586" y="17214"/>
                  <a:pt x="5631" y="17214"/>
                </a:cubicBezTo>
                <a:cubicBezTo>
                  <a:pt x="5742" y="17214"/>
                  <a:pt x="5838" y="17264"/>
                  <a:pt x="5953" y="17264"/>
                </a:cubicBezTo>
                <a:cubicBezTo>
                  <a:pt x="5970" y="17264"/>
                  <a:pt x="5986" y="17264"/>
                  <a:pt x="6003" y="1726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11280" y="6000840"/>
            <a:ext cx="9720" cy="500040"/>
          </a:xfrm>
          <a:custGeom>
            <a:avLst/>
            <a:gdLst/>
            <a:ahLst/>
            <a:rect l="l" t="t" r="r" b="b"/>
            <a:pathLst>
              <a:path w="26" h="1390">
                <a:moveTo>
                  <a:pt x="6722" y="16669"/>
                </a:moveTo>
                <a:cubicBezTo>
                  <a:pt x="6713" y="16770"/>
                  <a:pt x="6697" y="16864"/>
                  <a:pt x="6697" y="16966"/>
                </a:cubicBezTo>
                <a:cubicBezTo>
                  <a:pt x="6697" y="17272"/>
                  <a:pt x="6681" y="17585"/>
                  <a:pt x="6722" y="17884"/>
                </a:cubicBezTo>
                <a:cubicBezTo>
                  <a:pt x="6729" y="17937"/>
                  <a:pt x="6738" y="18044"/>
                  <a:pt x="6697" y="180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66880" y="2187720"/>
            <a:ext cx="365040" cy="447480"/>
          </a:xfrm>
          <a:custGeom>
            <a:avLst/>
            <a:gdLst/>
            <a:ahLst/>
            <a:rect l="l" t="t" r="r" b="b"/>
            <a:pathLst>
              <a:path w="1018" h="1241">
                <a:moveTo>
                  <a:pt x="2927" y="6251"/>
                </a:moveTo>
                <a:cubicBezTo>
                  <a:pt x="2906" y="6199"/>
                  <a:pt x="2895" y="6169"/>
                  <a:pt x="2853" y="6127"/>
                </a:cubicBezTo>
                <a:cubicBezTo>
                  <a:pt x="2826" y="6099"/>
                  <a:pt x="2789" y="6085"/>
                  <a:pt x="2753" y="6077"/>
                </a:cubicBezTo>
                <a:cubicBezTo>
                  <a:pt x="2693" y="6063"/>
                  <a:pt x="2647" y="6088"/>
                  <a:pt x="2604" y="6127"/>
                </a:cubicBezTo>
                <a:cubicBezTo>
                  <a:pt x="2553" y="6174"/>
                  <a:pt x="2512" y="6216"/>
                  <a:pt x="2480" y="6276"/>
                </a:cubicBezTo>
                <a:cubicBezTo>
                  <a:pt x="2442" y="6349"/>
                  <a:pt x="2453" y="6424"/>
                  <a:pt x="2431" y="6499"/>
                </a:cubicBezTo>
                <a:cubicBezTo>
                  <a:pt x="2404" y="6591"/>
                  <a:pt x="2416" y="6630"/>
                  <a:pt x="2431" y="6722"/>
                </a:cubicBezTo>
                <a:cubicBezTo>
                  <a:pt x="2442" y="6793"/>
                  <a:pt x="2454" y="6819"/>
                  <a:pt x="2505" y="6871"/>
                </a:cubicBezTo>
                <a:cubicBezTo>
                  <a:pt x="2543" y="6909"/>
                  <a:pt x="2569" y="6937"/>
                  <a:pt x="2629" y="6921"/>
                </a:cubicBezTo>
                <a:cubicBezTo>
                  <a:pt x="2676" y="6908"/>
                  <a:pt x="2715" y="6884"/>
                  <a:pt x="2753" y="6846"/>
                </a:cubicBezTo>
                <a:cubicBezTo>
                  <a:pt x="2823" y="6775"/>
                  <a:pt x="2817" y="6752"/>
                  <a:pt x="2853" y="6672"/>
                </a:cubicBezTo>
                <a:cubicBezTo>
                  <a:pt x="2876" y="6622"/>
                  <a:pt x="2901" y="6547"/>
                  <a:pt x="2927" y="6499"/>
                </a:cubicBezTo>
                <a:cubicBezTo>
                  <a:pt x="2944" y="6467"/>
                  <a:pt x="2936" y="6482"/>
                  <a:pt x="2952" y="6449"/>
                </a:cubicBezTo>
                <a:cubicBezTo>
                  <a:pt x="2952" y="6538"/>
                  <a:pt x="2940" y="6614"/>
                  <a:pt x="2927" y="6697"/>
                </a:cubicBezTo>
                <a:cubicBezTo>
                  <a:pt x="2900" y="6866"/>
                  <a:pt x="2921" y="7089"/>
                  <a:pt x="2952" y="7243"/>
                </a:cubicBezTo>
                <a:cubicBezTo>
                  <a:pt x="2962" y="7294"/>
                  <a:pt x="2915" y="7288"/>
                  <a:pt x="2927" y="7317"/>
                </a:cubicBezTo>
                <a:cubicBezTo>
                  <a:pt x="2935" y="7317"/>
                  <a:pt x="2944" y="7317"/>
                  <a:pt x="2952" y="7317"/>
                </a:cubicBezTo>
              </a:path>
              <a:path w="1018" h="1241">
                <a:moveTo>
                  <a:pt x="3423" y="7293"/>
                </a:moveTo>
                <a:cubicBezTo>
                  <a:pt x="3423" y="7301"/>
                  <a:pt x="3423" y="7309"/>
                  <a:pt x="3423" y="731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24040" y="2178000"/>
            <a:ext cx="741240" cy="411120"/>
          </a:xfrm>
          <a:custGeom>
            <a:avLst/>
            <a:gdLst/>
            <a:ahLst/>
            <a:rect l="l" t="t" r="r" b="b"/>
            <a:pathLst>
              <a:path w="2060" h="1142">
                <a:moveTo>
                  <a:pt x="4911" y="6077"/>
                </a:moveTo>
                <a:cubicBezTo>
                  <a:pt x="4911" y="6129"/>
                  <a:pt x="4895" y="6152"/>
                  <a:pt x="4887" y="6201"/>
                </a:cubicBezTo>
                <a:cubicBezTo>
                  <a:pt x="4875" y="6272"/>
                  <a:pt x="4865" y="6354"/>
                  <a:pt x="4862" y="6424"/>
                </a:cubicBezTo>
                <a:cubicBezTo>
                  <a:pt x="4853" y="6624"/>
                  <a:pt x="4881" y="6829"/>
                  <a:pt x="4837" y="7020"/>
                </a:cubicBezTo>
                <a:cubicBezTo>
                  <a:pt x="4828" y="7060"/>
                  <a:pt x="4860" y="7120"/>
                  <a:pt x="4812" y="7144"/>
                </a:cubicBezTo>
                <a:cubicBezTo>
                  <a:pt x="4784" y="7144"/>
                  <a:pt x="4778" y="7142"/>
                  <a:pt x="4812" y="7119"/>
                </a:cubicBezTo>
              </a:path>
              <a:path w="2060" h="1142">
                <a:moveTo>
                  <a:pt x="5234" y="7020"/>
                </a:moveTo>
                <a:lnTo>
                  <a:pt x="5234" y="7020"/>
                </a:lnTo>
              </a:path>
              <a:path w="2060" h="1142">
                <a:moveTo>
                  <a:pt x="5606" y="6201"/>
                </a:moveTo>
                <a:cubicBezTo>
                  <a:pt x="5640" y="6152"/>
                  <a:pt x="5691" y="6069"/>
                  <a:pt x="5755" y="6052"/>
                </a:cubicBezTo>
                <a:cubicBezTo>
                  <a:pt x="5816" y="6036"/>
                  <a:pt x="5933" y="6066"/>
                  <a:pt x="5978" y="6102"/>
                </a:cubicBezTo>
                <a:cubicBezTo>
                  <a:pt x="6010" y="6128"/>
                  <a:pt x="6016" y="6187"/>
                  <a:pt x="6003" y="6226"/>
                </a:cubicBezTo>
                <a:cubicBezTo>
                  <a:pt x="5978" y="6301"/>
                  <a:pt x="5962" y="6326"/>
                  <a:pt x="5904" y="6375"/>
                </a:cubicBezTo>
                <a:cubicBezTo>
                  <a:pt x="5864" y="6409"/>
                  <a:pt x="5847" y="6475"/>
                  <a:pt x="5804" y="6499"/>
                </a:cubicBezTo>
                <a:cubicBezTo>
                  <a:pt x="5766" y="6520"/>
                  <a:pt x="5717" y="6537"/>
                  <a:pt x="5705" y="6573"/>
                </a:cubicBezTo>
                <a:cubicBezTo>
                  <a:pt x="5751" y="6573"/>
                  <a:pt x="5763" y="6553"/>
                  <a:pt x="5804" y="6548"/>
                </a:cubicBezTo>
                <a:cubicBezTo>
                  <a:pt x="5855" y="6542"/>
                  <a:pt x="5869" y="6563"/>
                  <a:pt x="5904" y="6598"/>
                </a:cubicBezTo>
                <a:cubicBezTo>
                  <a:pt x="5947" y="6641"/>
                  <a:pt x="5968" y="6715"/>
                  <a:pt x="5978" y="6772"/>
                </a:cubicBezTo>
                <a:cubicBezTo>
                  <a:pt x="5987" y="6827"/>
                  <a:pt x="5975" y="6923"/>
                  <a:pt x="5953" y="6970"/>
                </a:cubicBezTo>
                <a:cubicBezTo>
                  <a:pt x="5932" y="7015"/>
                  <a:pt x="5890" y="7058"/>
                  <a:pt x="5854" y="7094"/>
                </a:cubicBezTo>
                <a:cubicBezTo>
                  <a:pt x="5815" y="7133"/>
                  <a:pt x="5783" y="7144"/>
                  <a:pt x="5730" y="7144"/>
                </a:cubicBezTo>
                <a:cubicBezTo>
                  <a:pt x="5678" y="7144"/>
                  <a:pt x="5677" y="7130"/>
                  <a:pt x="5655" y="7119"/>
                </a:cubicBezTo>
                <a:cubicBezTo>
                  <a:pt x="5631" y="7119"/>
                  <a:pt x="5623" y="7119"/>
                  <a:pt x="5631" y="7094"/>
                </a:cubicBezTo>
              </a:path>
              <a:path w="2060" h="1142">
                <a:moveTo>
                  <a:pt x="6424" y="6226"/>
                </a:moveTo>
                <a:cubicBezTo>
                  <a:pt x="6449" y="6196"/>
                  <a:pt x="6503" y="6140"/>
                  <a:pt x="6548" y="6127"/>
                </a:cubicBezTo>
                <a:cubicBezTo>
                  <a:pt x="6584" y="6117"/>
                  <a:pt x="6683" y="6083"/>
                  <a:pt x="6722" y="6102"/>
                </a:cubicBezTo>
                <a:cubicBezTo>
                  <a:pt x="6749" y="6115"/>
                  <a:pt x="6807" y="6144"/>
                  <a:pt x="6821" y="6176"/>
                </a:cubicBezTo>
                <a:cubicBezTo>
                  <a:pt x="6830" y="6197"/>
                  <a:pt x="6851" y="6282"/>
                  <a:pt x="6846" y="6300"/>
                </a:cubicBezTo>
                <a:cubicBezTo>
                  <a:pt x="6832" y="6352"/>
                  <a:pt x="6818" y="6406"/>
                  <a:pt x="6796" y="6449"/>
                </a:cubicBezTo>
                <a:cubicBezTo>
                  <a:pt x="6763" y="6512"/>
                  <a:pt x="6756" y="6559"/>
                  <a:pt x="6722" y="6623"/>
                </a:cubicBezTo>
                <a:cubicBezTo>
                  <a:pt x="6691" y="6681"/>
                  <a:pt x="6663" y="6744"/>
                  <a:pt x="6623" y="6796"/>
                </a:cubicBezTo>
                <a:cubicBezTo>
                  <a:pt x="6590" y="6839"/>
                  <a:pt x="6563" y="6882"/>
                  <a:pt x="6524" y="6921"/>
                </a:cubicBezTo>
                <a:cubicBezTo>
                  <a:pt x="6488" y="6957"/>
                  <a:pt x="6480" y="6986"/>
                  <a:pt x="6449" y="7020"/>
                </a:cubicBezTo>
                <a:cubicBezTo>
                  <a:pt x="6424" y="7049"/>
                  <a:pt x="6403" y="7067"/>
                  <a:pt x="6400" y="7094"/>
                </a:cubicBezTo>
                <a:cubicBezTo>
                  <a:pt x="6391" y="7165"/>
                  <a:pt x="6483" y="7144"/>
                  <a:pt x="6524" y="7144"/>
                </a:cubicBezTo>
                <a:cubicBezTo>
                  <a:pt x="6587" y="7144"/>
                  <a:pt x="6614" y="7166"/>
                  <a:pt x="6672" y="7169"/>
                </a:cubicBezTo>
                <a:cubicBezTo>
                  <a:pt x="6738" y="7173"/>
                  <a:pt x="6766" y="7175"/>
                  <a:pt x="6821" y="7193"/>
                </a:cubicBezTo>
                <a:cubicBezTo>
                  <a:pt x="6846" y="7193"/>
                  <a:pt x="6854" y="7193"/>
                  <a:pt x="6821" y="71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03160" y="3036960"/>
            <a:ext cx="447840" cy="384120"/>
          </a:xfrm>
          <a:custGeom>
            <a:avLst/>
            <a:gdLst/>
            <a:ahLst/>
            <a:rect l="l" t="t" r="r" b="b"/>
            <a:pathLst>
              <a:path w="1242" h="1067">
                <a:moveTo>
                  <a:pt x="2232" y="8434"/>
                </a:moveTo>
                <a:cubicBezTo>
                  <a:pt x="2232" y="8509"/>
                  <a:pt x="2245" y="8562"/>
                  <a:pt x="2257" y="8632"/>
                </a:cubicBezTo>
                <a:cubicBezTo>
                  <a:pt x="2280" y="8772"/>
                  <a:pt x="2294" y="9020"/>
                  <a:pt x="2282" y="9153"/>
                </a:cubicBezTo>
                <a:cubicBezTo>
                  <a:pt x="2275" y="9224"/>
                  <a:pt x="2257" y="9298"/>
                  <a:pt x="2257" y="9376"/>
                </a:cubicBezTo>
                <a:cubicBezTo>
                  <a:pt x="2257" y="9396"/>
                  <a:pt x="2257" y="9534"/>
                  <a:pt x="2257" y="9475"/>
                </a:cubicBezTo>
                <a:cubicBezTo>
                  <a:pt x="2257" y="9467"/>
                  <a:pt x="2257" y="9459"/>
                  <a:pt x="2257" y="9451"/>
                </a:cubicBezTo>
              </a:path>
              <a:path w="1242" h="1067">
                <a:moveTo>
                  <a:pt x="2654" y="8682"/>
                </a:moveTo>
                <a:cubicBezTo>
                  <a:pt x="2667" y="8707"/>
                  <a:pt x="2668" y="8761"/>
                  <a:pt x="2654" y="8806"/>
                </a:cubicBezTo>
                <a:cubicBezTo>
                  <a:pt x="2633" y="8877"/>
                  <a:pt x="2615" y="8954"/>
                  <a:pt x="2604" y="9029"/>
                </a:cubicBezTo>
                <a:cubicBezTo>
                  <a:pt x="2591" y="9118"/>
                  <a:pt x="2616" y="9196"/>
                  <a:pt x="2629" y="9277"/>
                </a:cubicBezTo>
                <a:cubicBezTo>
                  <a:pt x="2638" y="9334"/>
                  <a:pt x="2645" y="9400"/>
                  <a:pt x="2679" y="9451"/>
                </a:cubicBezTo>
                <a:cubicBezTo>
                  <a:pt x="2712" y="9499"/>
                  <a:pt x="2770" y="9482"/>
                  <a:pt x="2803" y="9475"/>
                </a:cubicBezTo>
                <a:cubicBezTo>
                  <a:pt x="2872" y="9461"/>
                  <a:pt x="2912" y="9412"/>
                  <a:pt x="2952" y="9351"/>
                </a:cubicBezTo>
                <a:cubicBezTo>
                  <a:pt x="2989" y="9295"/>
                  <a:pt x="2990" y="9165"/>
                  <a:pt x="2977" y="9103"/>
                </a:cubicBezTo>
                <a:cubicBezTo>
                  <a:pt x="2959" y="9017"/>
                  <a:pt x="2917" y="8937"/>
                  <a:pt x="2877" y="8855"/>
                </a:cubicBezTo>
                <a:cubicBezTo>
                  <a:pt x="2855" y="8811"/>
                  <a:pt x="2794" y="8705"/>
                  <a:pt x="2753" y="8682"/>
                </a:cubicBezTo>
                <a:cubicBezTo>
                  <a:pt x="2723" y="8665"/>
                  <a:pt x="2738" y="8668"/>
                  <a:pt x="2704" y="8657"/>
                </a:cubicBezTo>
              </a:path>
              <a:path w="1242" h="1067">
                <a:moveTo>
                  <a:pt x="3473" y="9401"/>
                </a:moveTo>
                <a:lnTo>
                  <a:pt x="3473" y="9401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04960" y="3384720"/>
            <a:ext cx="36360" cy="36360"/>
          </a:xfrm>
          <a:custGeom>
            <a:avLst/>
            <a:gdLst/>
            <a:ahLst/>
            <a:rect l="l" t="t" r="r" b="b"/>
            <a:pathLst>
              <a:path w="100" h="100">
                <a:moveTo>
                  <a:pt x="4812" y="9401"/>
                </a:moveTo>
                <a:cubicBezTo>
                  <a:pt x="4799" y="9439"/>
                  <a:pt x="4787" y="9422"/>
                  <a:pt x="4787" y="9475"/>
                </a:cubicBezTo>
                <a:cubicBezTo>
                  <a:pt x="4787" y="9483"/>
                  <a:pt x="4787" y="9492"/>
                  <a:pt x="4787" y="9500"/>
                </a:cubicBezTo>
                <a:cubicBezTo>
                  <a:pt x="4817" y="9493"/>
                  <a:pt x="4861" y="9470"/>
                  <a:pt x="4837" y="9426"/>
                </a:cubicBezTo>
                <a:cubicBezTo>
                  <a:pt x="4829" y="9418"/>
                  <a:pt x="4820" y="9409"/>
                  <a:pt x="4812" y="9401"/>
                </a:cubicBezTo>
                <a:cubicBezTo>
                  <a:pt x="4776" y="9410"/>
                  <a:pt x="4742" y="9417"/>
                  <a:pt x="4738" y="9451"/>
                </a:cubicBezTo>
                <a:cubicBezTo>
                  <a:pt x="4738" y="9475"/>
                  <a:pt x="4738" y="9483"/>
                  <a:pt x="4762" y="94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11240" y="3009960"/>
            <a:ext cx="625680" cy="330120"/>
          </a:xfrm>
          <a:custGeom>
            <a:avLst/>
            <a:gdLst/>
            <a:ahLst/>
            <a:rect l="l" t="t" r="r" b="b"/>
            <a:pathLst>
              <a:path w="1738" h="919">
                <a:moveTo>
                  <a:pt x="5358" y="8359"/>
                </a:moveTo>
                <a:cubicBezTo>
                  <a:pt x="5390" y="8373"/>
                  <a:pt x="5456" y="8369"/>
                  <a:pt x="5482" y="8384"/>
                </a:cubicBezTo>
                <a:cubicBezTo>
                  <a:pt x="5528" y="8410"/>
                  <a:pt x="5547" y="8409"/>
                  <a:pt x="5606" y="8409"/>
                </a:cubicBezTo>
                <a:cubicBezTo>
                  <a:pt x="5647" y="8409"/>
                  <a:pt x="5689" y="8409"/>
                  <a:pt x="5730" y="8409"/>
                </a:cubicBezTo>
              </a:path>
              <a:path w="1738" h="919">
                <a:moveTo>
                  <a:pt x="5432" y="8359"/>
                </a:moveTo>
                <a:cubicBezTo>
                  <a:pt x="5426" y="8402"/>
                  <a:pt x="5421" y="8442"/>
                  <a:pt x="5407" y="8483"/>
                </a:cubicBezTo>
                <a:cubicBezTo>
                  <a:pt x="5391" y="8529"/>
                  <a:pt x="5366" y="8592"/>
                  <a:pt x="5358" y="8632"/>
                </a:cubicBezTo>
                <a:cubicBezTo>
                  <a:pt x="5349" y="8675"/>
                  <a:pt x="5337" y="8718"/>
                  <a:pt x="5333" y="8756"/>
                </a:cubicBezTo>
                <a:cubicBezTo>
                  <a:pt x="5333" y="8784"/>
                  <a:pt x="5331" y="8795"/>
                  <a:pt x="5308" y="8806"/>
                </a:cubicBezTo>
                <a:cubicBezTo>
                  <a:pt x="5343" y="8794"/>
                  <a:pt x="5337" y="8752"/>
                  <a:pt x="5383" y="8731"/>
                </a:cubicBezTo>
                <a:cubicBezTo>
                  <a:pt x="5404" y="8722"/>
                  <a:pt x="5453" y="8690"/>
                  <a:pt x="5482" y="8706"/>
                </a:cubicBezTo>
                <a:cubicBezTo>
                  <a:pt x="5520" y="8727"/>
                  <a:pt x="5543" y="8756"/>
                  <a:pt x="5581" y="8781"/>
                </a:cubicBezTo>
                <a:cubicBezTo>
                  <a:pt x="5652" y="8827"/>
                  <a:pt x="5666" y="8852"/>
                  <a:pt x="5705" y="8930"/>
                </a:cubicBezTo>
                <a:cubicBezTo>
                  <a:pt x="5733" y="8986"/>
                  <a:pt x="5750" y="9040"/>
                  <a:pt x="5755" y="9103"/>
                </a:cubicBezTo>
                <a:cubicBezTo>
                  <a:pt x="5759" y="9150"/>
                  <a:pt x="5704" y="9185"/>
                  <a:pt x="5680" y="9203"/>
                </a:cubicBezTo>
                <a:cubicBezTo>
                  <a:pt x="5636" y="9236"/>
                  <a:pt x="5606" y="9262"/>
                  <a:pt x="5556" y="9277"/>
                </a:cubicBezTo>
                <a:cubicBezTo>
                  <a:pt x="5505" y="9292"/>
                  <a:pt x="5470" y="9265"/>
                  <a:pt x="5432" y="9252"/>
                </a:cubicBezTo>
                <a:cubicBezTo>
                  <a:pt x="5404" y="9252"/>
                  <a:pt x="5398" y="9250"/>
                  <a:pt x="5432" y="9227"/>
                </a:cubicBezTo>
              </a:path>
              <a:path w="1738" h="919">
                <a:moveTo>
                  <a:pt x="6400" y="8607"/>
                </a:moveTo>
                <a:cubicBezTo>
                  <a:pt x="6406" y="8586"/>
                  <a:pt x="6462" y="8447"/>
                  <a:pt x="6400" y="8434"/>
                </a:cubicBezTo>
                <a:cubicBezTo>
                  <a:pt x="6349" y="8423"/>
                  <a:pt x="6265" y="8427"/>
                  <a:pt x="6226" y="8458"/>
                </a:cubicBezTo>
                <a:cubicBezTo>
                  <a:pt x="6161" y="8509"/>
                  <a:pt x="6122" y="8488"/>
                  <a:pt x="6102" y="8607"/>
                </a:cubicBezTo>
                <a:cubicBezTo>
                  <a:pt x="6094" y="8657"/>
                  <a:pt x="6154" y="8714"/>
                  <a:pt x="6176" y="8756"/>
                </a:cubicBezTo>
                <a:cubicBezTo>
                  <a:pt x="6212" y="8825"/>
                  <a:pt x="6262" y="8854"/>
                  <a:pt x="6300" y="8930"/>
                </a:cubicBezTo>
                <a:cubicBezTo>
                  <a:pt x="6330" y="8990"/>
                  <a:pt x="6325" y="9037"/>
                  <a:pt x="6325" y="9103"/>
                </a:cubicBezTo>
                <a:cubicBezTo>
                  <a:pt x="6325" y="9180"/>
                  <a:pt x="6328" y="9169"/>
                  <a:pt x="6276" y="9203"/>
                </a:cubicBezTo>
                <a:cubicBezTo>
                  <a:pt x="6218" y="9241"/>
                  <a:pt x="6233" y="9218"/>
                  <a:pt x="6201" y="9203"/>
                </a:cubicBezTo>
                <a:cubicBezTo>
                  <a:pt x="6155" y="9181"/>
                  <a:pt x="6143" y="9164"/>
                  <a:pt x="6127" y="9103"/>
                </a:cubicBezTo>
                <a:cubicBezTo>
                  <a:pt x="6110" y="9037"/>
                  <a:pt x="6172" y="8978"/>
                  <a:pt x="6201" y="8930"/>
                </a:cubicBezTo>
                <a:cubicBezTo>
                  <a:pt x="6236" y="8872"/>
                  <a:pt x="6254" y="8807"/>
                  <a:pt x="6300" y="8756"/>
                </a:cubicBezTo>
                <a:cubicBezTo>
                  <a:pt x="6333" y="8718"/>
                  <a:pt x="6342" y="8676"/>
                  <a:pt x="6375" y="8632"/>
                </a:cubicBezTo>
                <a:cubicBezTo>
                  <a:pt x="6383" y="8624"/>
                  <a:pt x="6392" y="8615"/>
                  <a:pt x="6400" y="8607"/>
                </a:cubicBezTo>
              </a:path>
              <a:path w="1738" h="919">
                <a:moveTo>
                  <a:pt x="7045" y="8483"/>
                </a:moveTo>
                <a:cubicBezTo>
                  <a:pt x="7034" y="8419"/>
                  <a:pt x="7019" y="8415"/>
                  <a:pt x="6945" y="8409"/>
                </a:cubicBezTo>
                <a:cubicBezTo>
                  <a:pt x="6885" y="8404"/>
                  <a:pt x="6842" y="8425"/>
                  <a:pt x="6796" y="8434"/>
                </a:cubicBezTo>
                <a:cubicBezTo>
                  <a:pt x="6747" y="8444"/>
                  <a:pt x="6699" y="8422"/>
                  <a:pt x="6672" y="8483"/>
                </a:cubicBezTo>
                <a:cubicBezTo>
                  <a:pt x="6647" y="8538"/>
                  <a:pt x="6688" y="8573"/>
                  <a:pt x="6722" y="8607"/>
                </a:cubicBezTo>
                <a:cubicBezTo>
                  <a:pt x="6764" y="8649"/>
                  <a:pt x="6813" y="8714"/>
                  <a:pt x="6846" y="8756"/>
                </a:cubicBezTo>
                <a:cubicBezTo>
                  <a:pt x="6903" y="8828"/>
                  <a:pt x="6919" y="8925"/>
                  <a:pt x="6945" y="9004"/>
                </a:cubicBezTo>
                <a:cubicBezTo>
                  <a:pt x="6966" y="9067"/>
                  <a:pt x="6991" y="9095"/>
                  <a:pt x="6945" y="9153"/>
                </a:cubicBezTo>
                <a:cubicBezTo>
                  <a:pt x="6924" y="9180"/>
                  <a:pt x="6877" y="9221"/>
                  <a:pt x="6846" y="9227"/>
                </a:cubicBezTo>
                <a:cubicBezTo>
                  <a:pt x="6819" y="9233"/>
                  <a:pt x="6736" y="9224"/>
                  <a:pt x="6722" y="9203"/>
                </a:cubicBezTo>
                <a:cubicBezTo>
                  <a:pt x="6685" y="9147"/>
                  <a:pt x="6713" y="9122"/>
                  <a:pt x="6722" y="9079"/>
                </a:cubicBezTo>
                <a:cubicBezTo>
                  <a:pt x="6736" y="9014"/>
                  <a:pt x="6760" y="8990"/>
                  <a:pt x="6796" y="8930"/>
                </a:cubicBezTo>
                <a:cubicBezTo>
                  <a:pt x="6830" y="8873"/>
                  <a:pt x="6862" y="8812"/>
                  <a:pt x="6896" y="8756"/>
                </a:cubicBezTo>
                <a:cubicBezTo>
                  <a:pt x="6940" y="8683"/>
                  <a:pt x="6977" y="8604"/>
                  <a:pt x="7020" y="8533"/>
                </a:cubicBezTo>
                <a:cubicBezTo>
                  <a:pt x="7065" y="8459"/>
                  <a:pt x="7037" y="8468"/>
                  <a:pt x="7020" y="8434"/>
                </a:cubicBezTo>
                <a:cubicBezTo>
                  <a:pt x="7020" y="8426"/>
                  <a:pt x="7020" y="8417"/>
                  <a:pt x="7020" y="84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9880" y="3732120"/>
            <a:ext cx="312480" cy="420840"/>
          </a:xfrm>
          <a:custGeom>
            <a:avLst/>
            <a:gdLst/>
            <a:ahLst/>
            <a:rect l="l" t="t" r="r" b="b"/>
            <a:pathLst>
              <a:path w="869" h="1167">
                <a:moveTo>
                  <a:pt x="2356" y="10368"/>
                </a:moveTo>
                <a:cubicBezTo>
                  <a:pt x="2356" y="10458"/>
                  <a:pt x="2377" y="10509"/>
                  <a:pt x="2381" y="10592"/>
                </a:cubicBezTo>
                <a:cubicBezTo>
                  <a:pt x="2393" y="10855"/>
                  <a:pt x="2391" y="11128"/>
                  <a:pt x="2356" y="11385"/>
                </a:cubicBezTo>
                <a:cubicBezTo>
                  <a:pt x="2354" y="11398"/>
                  <a:pt x="2334" y="11536"/>
                  <a:pt x="2332" y="11534"/>
                </a:cubicBezTo>
                <a:cubicBezTo>
                  <a:pt x="2332" y="11509"/>
                  <a:pt x="2332" y="11501"/>
                  <a:pt x="2332" y="11485"/>
                </a:cubicBezTo>
              </a:path>
              <a:path w="869" h="1167">
                <a:moveTo>
                  <a:pt x="2828" y="10492"/>
                </a:moveTo>
                <a:cubicBezTo>
                  <a:pt x="2810" y="10557"/>
                  <a:pt x="2785" y="10646"/>
                  <a:pt x="2803" y="10716"/>
                </a:cubicBezTo>
                <a:cubicBezTo>
                  <a:pt x="2829" y="10818"/>
                  <a:pt x="2828" y="10902"/>
                  <a:pt x="2828" y="11013"/>
                </a:cubicBezTo>
                <a:cubicBezTo>
                  <a:pt x="2828" y="11092"/>
                  <a:pt x="2849" y="11159"/>
                  <a:pt x="2853" y="11237"/>
                </a:cubicBezTo>
                <a:cubicBezTo>
                  <a:pt x="2857" y="11320"/>
                  <a:pt x="2856" y="11389"/>
                  <a:pt x="2877" y="11460"/>
                </a:cubicBezTo>
                <a:cubicBezTo>
                  <a:pt x="2890" y="11504"/>
                  <a:pt x="2870" y="11492"/>
                  <a:pt x="2902" y="11534"/>
                </a:cubicBezTo>
              </a:path>
              <a:path w="869" h="1167">
                <a:moveTo>
                  <a:pt x="3200" y="11534"/>
                </a:moveTo>
                <a:cubicBezTo>
                  <a:pt x="3167" y="11534"/>
                  <a:pt x="3134" y="11534"/>
                  <a:pt x="3101" y="1153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41320" y="4125960"/>
            <a:ext cx="17640" cy="17280"/>
          </a:xfrm>
          <a:custGeom>
            <a:avLst/>
            <a:gdLst/>
            <a:ahLst/>
            <a:rect l="l" t="t" r="r" b="b"/>
            <a:pathLst>
              <a:path w="51" h="50">
                <a:moveTo>
                  <a:pt x="4837" y="11485"/>
                </a:moveTo>
                <a:cubicBezTo>
                  <a:pt x="4848" y="11518"/>
                  <a:pt x="4876" y="11507"/>
                  <a:pt x="4887" y="11485"/>
                </a:cubicBezTo>
                <a:cubicBezTo>
                  <a:pt x="4918" y="11424"/>
                  <a:pt x="4837" y="11485"/>
                  <a:pt x="4837" y="114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38240" y="3813120"/>
            <a:ext cx="150840" cy="303120"/>
          </a:xfrm>
          <a:custGeom>
            <a:avLst/>
            <a:gdLst/>
            <a:ahLst/>
            <a:rect l="l" t="t" r="r" b="b"/>
            <a:pathLst>
              <a:path w="422" h="844">
                <a:moveTo>
                  <a:pt x="5804" y="10716"/>
                </a:moveTo>
                <a:cubicBezTo>
                  <a:pt x="5795" y="10656"/>
                  <a:pt x="5793" y="10615"/>
                  <a:pt x="5730" y="10592"/>
                </a:cubicBezTo>
                <a:cubicBezTo>
                  <a:pt x="5661" y="10567"/>
                  <a:pt x="5571" y="10601"/>
                  <a:pt x="5507" y="10616"/>
                </a:cubicBezTo>
                <a:cubicBezTo>
                  <a:pt x="5465" y="10626"/>
                  <a:pt x="5404" y="10643"/>
                  <a:pt x="5383" y="10691"/>
                </a:cubicBezTo>
                <a:cubicBezTo>
                  <a:pt x="5364" y="10735"/>
                  <a:pt x="5384" y="10835"/>
                  <a:pt x="5407" y="10864"/>
                </a:cubicBezTo>
                <a:cubicBezTo>
                  <a:pt x="5459" y="10929"/>
                  <a:pt x="5498" y="11000"/>
                  <a:pt x="5556" y="11063"/>
                </a:cubicBezTo>
                <a:cubicBezTo>
                  <a:pt x="5643" y="11158"/>
                  <a:pt x="5686" y="11217"/>
                  <a:pt x="5755" y="11311"/>
                </a:cubicBezTo>
                <a:cubicBezTo>
                  <a:pt x="5798" y="11369"/>
                  <a:pt x="5768" y="11382"/>
                  <a:pt x="5755" y="11410"/>
                </a:cubicBezTo>
                <a:cubicBezTo>
                  <a:pt x="5744" y="11434"/>
                  <a:pt x="5722" y="11450"/>
                  <a:pt x="5680" y="11435"/>
                </a:cubicBezTo>
                <a:cubicBezTo>
                  <a:pt x="5625" y="11415"/>
                  <a:pt x="5598" y="11402"/>
                  <a:pt x="5556" y="11361"/>
                </a:cubicBezTo>
                <a:cubicBezTo>
                  <a:pt x="5530" y="11336"/>
                  <a:pt x="5511" y="11296"/>
                  <a:pt x="5507" y="11261"/>
                </a:cubicBezTo>
                <a:cubicBezTo>
                  <a:pt x="5502" y="11218"/>
                  <a:pt x="5510" y="11169"/>
                  <a:pt x="5531" y="11137"/>
                </a:cubicBezTo>
                <a:cubicBezTo>
                  <a:pt x="5561" y="11092"/>
                  <a:pt x="5593" y="11052"/>
                  <a:pt x="5631" y="11013"/>
                </a:cubicBezTo>
                <a:cubicBezTo>
                  <a:pt x="5677" y="10966"/>
                  <a:pt x="5670" y="10915"/>
                  <a:pt x="5705" y="10864"/>
                </a:cubicBezTo>
                <a:cubicBezTo>
                  <a:pt x="5728" y="10830"/>
                  <a:pt x="5750" y="10781"/>
                  <a:pt x="5755" y="10740"/>
                </a:cubicBezTo>
                <a:cubicBezTo>
                  <a:pt x="5759" y="10708"/>
                  <a:pt x="5755" y="10673"/>
                  <a:pt x="5755" y="106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41720" y="3768840"/>
            <a:ext cx="152280" cy="366480"/>
          </a:xfrm>
          <a:custGeom>
            <a:avLst/>
            <a:gdLst/>
            <a:ahLst/>
            <a:rect l="l" t="t" r="r" b="b"/>
            <a:pathLst>
              <a:path w="423" h="1018">
                <a:moveTo>
                  <a:pt x="6573" y="10567"/>
                </a:moveTo>
                <a:cubicBezTo>
                  <a:pt x="6593" y="10526"/>
                  <a:pt x="6576" y="10509"/>
                  <a:pt x="6524" y="10492"/>
                </a:cubicBezTo>
                <a:cubicBezTo>
                  <a:pt x="6490" y="10480"/>
                  <a:pt x="6435" y="10471"/>
                  <a:pt x="6400" y="10468"/>
                </a:cubicBezTo>
                <a:cubicBezTo>
                  <a:pt x="6354" y="10464"/>
                  <a:pt x="6341" y="10488"/>
                  <a:pt x="6300" y="10492"/>
                </a:cubicBezTo>
                <a:cubicBezTo>
                  <a:pt x="6275" y="10495"/>
                  <a:pt x="6230" y="10533"/>
                  <a:pt x="6226" y="10542"/>
                </a:cubicBezTo>
                <a:cubicBezTo>
                  <a:pt x="6204" y="10586"/>
                  <a:pt x="6241" y="10635"/>
                  <a:pt x="6251" y="10666"/>
                </a:cubicBezTo>
                <a:cubicBezTo>
                  <a:pt x="6263" y="10703"/>
                  <a:pt x="6256" y="10755"/>
                  <a:pt x="6276" y="10790"/>
                </a:cubicBezTo>
                <a:cubicBezTo>
                  <a:pt x="6300" y="10831"/>
                  <a:pt x="6343" y="10879"/>
                  <a:pt x="6375" y="10914"/>
                </a:cubicBezTo>
                <a:cubicBezTo>
                  <a:pt x="6421" y="10964"/>
                  <a:pt x="6465" y="11006"/>
                  <a:pt x="6499" y="11063"/>
                </a:cubicBezTo>
                <a:cubicBezTo>
                  <a:pt x="6538" y="11128"/>
                  <a:pt x="6582" y="11176"/>
                  <a:pt x="6623" y="11237"/>
                </a:cubicBezTo>
                <a:cubicBezTo>
                  <a:pt x="6659" y="11291"/>
                  <a:pt x="6648" y="11348"/>
                  <a:pt x="6648" y="11410"/>
                </a:cubicBezTo>
                <a:cubicBezTo>
                  <a:pt x="6648" y="11473"/>
                  <a:pt x="6627" y="11485"/>
                  <a:pt x="6573" y="11485"/>
                </a:cubicBezTo>
                <a:cubicBezTo>
                  <a:pt x="6520" y="11485"/>
                  <a:pt x="6488" y="11495"/>
                  <a:pt x="6449" y="11460"/>
                </a:cubicBezTo>
                <a:cubicBezTo>
                  <a:pt x="6400" y="11417"/>
                  <a:pt x="6384" y="11443"/>
                  <a:pt x="6350" y="11385"/>
                </a:cubicBezTo>
                <a:cubicBezTo>
                  <a:pt x="6331" y="11353"/>
                  <a:pt x="6288" y="11273"/>
                  <a:pt x="6300" y="11237"/>
                </a:cubicBezTo>
                <a:cubicBezTo>
                  <a:pt x="6313" y="11197"/>
                  <a:pt x="6331" y="11126"/>
                  <a:pt x="6350" y="11088"/>
                </a:cubicBezTo>
                <a:cubicBezTo>
                  <a:pt x="6376" y="11036"/>
                  <a:pt x="6415" y="10963"/>
                  <a:pt x="6449" y="10914"/>
                </a:cubicBezTo>
                <a:cubicBezTo>
                  <a:pt x="6493" y="10850"/>
                  <a:pt x="6508" y="10791"/>
                  <a:pt x="6524" y="10716"/>
                </a:cubicBezTo>
                <a:cubicBezTo>
                  <a:pt x="6532" y="10680"/>
                  <a:pt x="6534" y="10600"/>
                  <a:pt x="6548" y="10567"/>
                </a:cubicBezTo>
                <a:cubicBezTo>
                  <a:pt x="6564" y="10529"/>
                  <a:pt x="6567" y="10507"/>
                  <a:pt x="6524" y="1049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2463840"/>
            <a:ext cx="366840" cy="420480"/>
          </a:xfrm>
          <a:custGeom>
            <a:avLst/>
            <a:gdLst/>
            <a:ahLst/>
            <a:rect l="l" t="t" r="r" b="b"/>
            <a:pathLst>
              <a:path w="1018" h="1167">
                <a:moveTo>
                  <a:pt x="1439" y="7169"/>
                </a:moveTo>
                <a:cubicBezTo>
                  <a:pt x="1439" y="7362"/>
                  <a:pt x="1435" y="7551"/>
                  <a:pt x="1414" y="7739"/>
                </a:cubicBezTo>
                <a:cubicBezTo>
                  <a:pt x="1405" y="7822"/>
                  <a:pt x="1407" y="7884"/>
                  <a:pt x="1389" y="7962"/>
                </a:cubicBezTo>
                <a:cubicBezTo>
                  <a:pt x="1387" y="7969"/>
                  <a:pt x="1389" y="8055"/>
                  <a:pt x="1389" y="7987"/>
                </a:cubicBezTo>
              </a:path>
              <a:path w="1018" h="1167">
                <a:moveTo>
                  <a:pt x="1687" y="7193"/>
                </a:moveTo>
                <a:cubicBezTo>
                  <a:pt x="1750" y="7130"/>
                  <a:pt x="1759" y="7102"/>
                  <a:pt x="1836" y="7144"/>
                </a:cubicBezTo>
                <a:cubicBezTo>
                  <a:pt x="1903" y="7180"/>
                  <a:pt x="1953" y="7221"/>
                  <a:pt x="1984" y="7293"/>
                </a:cubicBezTo>
                <a:cubicBezTo>
                  <a:pt x="2019" y="7373"/>
                  <a:pt x="2025" y="7503"/>
                  <a:pt x="2009" y="7590"/>
                </a:cubicBezTo>
                <a:cubicBezTo>
                  <a:pt x="1994" y="7672"/>
                  <a:pt x="1948" y="7784"/>
                  <a:pt x="1885" y="7838"/>
                </a:cubicBezTo>
                <a:cubicBezTo>
                  <a:pt x="1848" y="7870"/>
                  <a:pt x="1784" y="7908"/>
                  <a:pt x="1736" y="7913"/>
                </a:cubicBezTo>
                <a:cubicBezTo>
                  <a:pt x="1694" y="7917"/>
                  <a:pt x="1673" y="7875"/>
                  <a:pt x="1687" y="7838"/>
                </a:cubicBezTo>
                <a:cubicBezTo>
                  <a:pt x="1709" y="7776"/>
                  <a:pt x="1744" y="7747"/>
                  <a:pt x="1811" y="7764"/>
                </a:cubicBezTo>
                <a:cubicBezTo>
                  <a:pt x="1876" y="7780"/>
                  <a:pt x="1950" y="7814"/>
                  <a:pt x="2009" y="7838"/>
                </a:cubicBezTo>
                <a:cubicBezTo>
                  <a:pt x="2065" y="7861"/>
                  <a:pt x="2074" y="7888"/>
                  <a:pt x="2133" y="7888"/>
                </a:cubicBezTo>
              </a:path>
              <a:path w="1018" h="1167">
                <a:moveTo>
                  <a:pt x="2084" y="6871"/>
                </a:moveTo>
                <a:cubicBezTo>
                  <a:pt x="2160" y="6855"/>
                  <a:pt x="2164" y="6923"/>
                  <a:pt x="2208" y="6995"/>
                </a:cubicBezTo>
                <a:cubicBezTo>
                  <a:pt x="2275" y="7106"/>
                  <a:pt x="2316" y="7218"/>
                  <a:pt x="2356" y="7342"/>
                </a:cubicBezTo>
                <a:cubicBezTo>
                  <a:pt x="2398" y="7473"/>
                  <a:pt x="2395" y="7537"/>
                  <a:pt x="2381" y="7665"/>
                </a:cubicBezTo>
                <a:cubicBezTo>
                  <a:pt x="2369" y="7768"/>
                  <a:pt x="2357" y="7788"/>
                  <a:pt x="2282" y="7863"/>
                </a:cubicBezTo>
                <a:cubicBezTo>
                  <a:pt x="2250" y="7895"/>
                  <a:pt x="2225" y="7941"/>
                  <a:pt x="2208" y="78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97000" y="2313000"/>
            <a:ext cx="3152880" cy="669960"/>
          </a:xfrm>
          <a:custGeom>
            <a:avLst/>
            <a:gdLst/>
            <a:ahLst/>
            <a:rect l="l" t="t" r="r" b="b"/>
            <a:pathLst>
              <a:path w="8757" h="1862">
                <a:moveTo>
                  <a:pt x="3373" y="6722"/>
                </a:moveTo>
                <a:cubicBezTo>
                  <a:pt x="3366" y="6859"/>
                  <a:pt x="3361" y="6940"/>
                  <a:pt x="3373" y="7069"/>
                </a:cubicBezTo>
                <a:cubicBezTo>
                  <a:pt x="3391" y="7266"/>
                  <a:pt x="3391" y="7501"/>
                  <a:pt x="3349" y="7689"/>
                </a:cubicBezTo>
                <a:cubicBezTo>
                  <a:pt x="3342" y="7722"/>
                  <a:pt x="3303" y="7776"/>
                  <a:pt x="3324" y="7739"/>
                </a:cubicBezTo>
                <a:cubicBezTo>
                  <a:pt x="3332" y="7731"/>
                  <a:pt x="3341" y="7722"/>
                  <a:pt x="3349" y="7714"/>
                </a:cubicBezTo>
              </a:path>
              <a:path w="8757" h="1862">
                <a:moveTo>
                  <a:pt x="3795" y="7268"/>
                </a:moveTo>
                <a:cubicBezTo>
                  <a:pt x="3786" y="7329"/>
                  <a:pt x="3773" y="7380"/>
                  <a:pt x="3746" y="7441"/>
                </a:cubicBezTo>
                <a:cubicBezTo>
                  <a:pt x="3720" y="7500"/>
                  <a:pt x="3700" y="7575"/>
                  <a:pt x="3696" y="7640"/>
                </a:cubicBezTo>
                <a:cubicBezTo>
                  <a:pt x="3696" y="7656"/>
                  <a:pt x="3696" y="7673"/>
                  <a:pt x="3696" y="7689"/>
                </a:cubicBezTo>
                <a:cubicBezTo>
                  <a:pt x="3740" y="7722"/>
                  <a:pt x="3762" y="7714"/>
                  <a:pt x="3820" y="7714"/>
                </a:cubicBezTo>
                <a:cubicBezTo>
                  <a:pt x="3915" y="7714"/>
                  <a:pt x="3954" y="7654"/>
                  <a:pt x="4018" y="7590"/>
                </a:cubicBezTo>
                <a:cubicBezTo>
                  <a:pt x="4078" y="7530"/>
                  <a:pt x="4147" y="7451"/>
                  <a:pt x="4167" y="7367"/>
                </a:cubicBezTo>
                <a:cubicBezTo>
                  <a:pt x="4180" y="7312"/>
                  <a:pt x="4174" y="7233"/>
                  <a:pt x="4142" y="7193"/>
                </a:cubicBezTo>
                <a:cubicBezTo>
                  <a:pt x="4110" y="7152"/>
                  <a:pt x="4092" y="7144"/>
                  <a:pt x="4043" y="7144"/>
                </a:cubicBezTo>
                <a:cubicBezTo>
                  <a:pt x="3918" y="7144"/>
                  <a:pt x="3897" y="7254"/>
                  <a:pt x="3870" y="7367"/>
                </a:cubicBezTo>
                <a:cubicBezTo>
                  <a:pt x="3850" y="7451"/>
                  <a:pt x="3883" y="7518"/>
                  <a:pt x="3919" y="7590"/>
                </a:cubicBezTo>
                <a:cubicBezTo>
                  <a:pt x="3951" y="7653"/>
                  <a:pt x="3981" y="7659"/>
                  <a:pt x="4043" y="7689"/>
                </a:cubicBezTo>
              </a:path>
              <a:path w="8757" h="1862">
                <a:moveTo>
                  <a:pt x="4738" y="7293"/>
                </a:moveTo>
                <a:cubicBezTo>
                  <a:pt x="4756" y="7173"/>
                  <a:pt x="4779" y="7210"/>
                  <a:pt x="4713" y="7144"/>
                </a:cubicBezTo>
                <a:cubicBezTo>
                  <a:pt x="4650" y="7207"/>
                  <a:pt x="4589" y="7252"/>
                  <a:pt x="4564" y="7342"/>
                </a:cubicBezTo>
                <a:cubicBezTo>
                  <a:pt x="4547" y="7405"/>
                  <a:pt x="4540" y="7456"/>
                  <a:pt x="4564" y="7516"/>
                </a:cubicBezTo>
                <a:cubicBezTo>
                  <a:pt x="4583" y="7562"/>
                  <a:pt x="4614" y="7609"/>
                  <a:pt x="4663" y="7615"/>
                </a:cubicBezTo>
                <a:cubicBezTo>
                  <a:pt x="4716" y="7621"/>
                  <a:pt x="4759" y="7589"/>
                  <a:pt x="4787" y="7541"/>
                </a:cubicBezTo>
                <a:cubicBezTo>
                  <a:pt x="4818" y="7488"/>
                  <a:pt x="4833" y="7428"/>
                  <a:pt x="4837" y="7367"/>
                </a:cubicBezTo>
                <a:cubicBezTo>
                  <a:pt x="4837" y="7334"/>
                  <a:pt x="4837" y="7318"/>
                  <a:pt x="4837" y="7293"/>
                </a:cubicBezTo>
                <a:cubicBezTo>
                  <a:pt x="4837" y="7226"/>
                  <a:pt x="4812" y="7366"/>
                  <a:pt x="4812" y="7367"/>
                </a:cubicBezTo>
                <a:cubicBezTo>
                  <a:pt x="4797" y="7477"/>
                  <a:pt x="4833" y="7580"/>
                  <a:pt x="4837" y="7689"/>
                </a:cubicBezTo>
                <a:cubicBezTo>
                  <a:pt x="4841" y="7815"/>
                  <a:pt x="4826" y="7917"/>
                  <a:pt x="4787" y="8037"/>
                </a:cubicBezTo>
                <a:cubicBezTo>
                  <a:pt x="4761" y="8117"/>
                  <a:pt x="4733" y="8206"/>
                  <a:pt x="4663" y="8260"/>
                </a:cubicBezTo>
                <a:cubicBezTo>
                  <a:pt x="4604" y="8305"/>
                  <a:pt x="4500" y="8297"/>
                  <a:pt x="4440" y="8260"/>
                </a:cubicBezTo>
                <a:cubicBezTo>
                  <a:pt x="4362" y="8212"/>
                  <a:pt x="4403" y="8178"/>
                  <a:pt x="4415" y="8086"/>
                </a:cubicBezTo>
              </a:path>
              <a:path w="8757" h="1862">
                <a:moveTo>
                  <a:pt x="5383" y="6722"/>
                </a:moveTo>
                <a:cubicBezTo>
                  <a:pt x="5321" y="6861"/>
                  <a:pt x="5297" y="6952"/>
                  <a:pt x="5259" y="7094"/>
                </a:cubicBezTo>
                <a:cubicBezTo>
                  <a:pt x="5230" y="7205"/>
                  <a:pt x="5235" y="7306"/>
                  <a:pt x="5259" y="7417"/>
                </a:cubicBezTo>
                <a:cubicBezTo>
                  <a:pt x="5274" y="7488"/>
                  <a:pt x="5310" y="7562"/>
                  <a:pt x="5358" y="7615"/>
                </a:cubicBezTo>
                <a:cubicBezTo>
                  <a:pt x="5420" y="7684"/>
                  <a:pt x="5498" y="7588"/>
                  <a:pt x="5531" y="7541"/>
                </a:cubicBezTo>
              </a:path>
              <a:path w="8757" h="1862">
                <a:moveTo>
                  <a:pt x="5755" y="6896"/>
                </a:moveTo>
                <a:cubicBezTo>
                  <a:pt x="5788" y="6997"/>
                  <a:pt x="5758" y="7064"/>
                  <a:pt x="5755" y="7169"/>
                </a:cubicBezTo>
                <a:cubicBezTo>
                  <a:pt x="5752" y="7283"/>
                  <a:pt x="5767" y="7382"/>
                  <a:pt x="5779" y="7491"/>
                </a:cubicBezTo>
                <a:cubicBezTo>
                  <a:pt x="5784" y="7542"/>
                  <a:pt x="5779" y="7614"/>
                  <a:pt x="5779" y="7665"/>
                </a:cubicBezTo>
                <a:cubicBezTo>
                  <a:pt x="5816" y="7653"/>
                  <a:pt x="5815" y="7567"/>
                  <a:pt x="5829" y="7516"/>
                </a:cubicBezTo>
              </a:path>
              <a:path w="8757" h="1862">
                <a:moveTo>
                  <a:pt x="6077" y="6970"/>
                </a:moveTo>
                <a:cubicBezTo>
                  <a:pt x="6098" y="7052"/>
                  <a:pt x="6078" y="7127"/>
                  <a:pt x="6052" y="7218"/>
                </a:cubicBezTo>
                <a:cubicBezTo>
                  <a:pt x="6027" y="7303"/>
                  <a:pt x="6007" y="7426"/>
                  <a:pt x="6028" y="7516"/>
                </a:cubicBezTo>
                <a:cubicBezTo>
                  <a:pt x="6034" y="7541"/>
                  <a:pt x="6096" y="7635"/>
                  <a:pt x="6127" y="7640"/>
                </a:cubicBezTo>
                <a:cubicBezTo>
                  <a:pt x="6219" y="7656"/>
                  <a:pt x="6299" y="7585"/>
                  <a:pt x="6325" y="7491"/>
                </a:cubicBezTo>
                <a:cubicBezTo>
                  <a:pt x="6346" y="7414"/>
                  <a:pt x="6335" y="7370"/>
                  <a:pt x="6325" y="7293"/>
                </a:cubicBezTo>
                <a:cubicBezTo>
                  <a:pt x="6285" y="7293"/>
                  <a:pt x="6228" y="7308"/>
                  <a:pt x="6201" y="7342"/>
                </a:cubicBezTo>
                <a:cubicBezTo>
                  <a:pt x="6179" y="7371"/>
                  <a:pt x="6161" y="7477"/>
                  <a:pt x="6176" y="7516"/>
                </a:cubicBezTo>
                <a:cubicBezTo>
                  <a:pt x="6189" y="7549"/>
                  <a:pt x="6269" y="7608"/>
                  <a:pt x="6300" y="7615"/>
                </a:cubicBezTo>
                <a:cubicBezTo>
                  <a:pt x="6342" y="7615"/>
                  <a:pt x="6350" y="7615"/>
                  <a:pt x="6375" y="7615"/>
                </a:cubicBezTo>
              </a:path>
              <a:path w="8757" h="1862">
                <a:moveTo>
                  <a:pt x="6598" y="6573"/>
                </a:moveTo>
                <a:cubicBezTo>
                  <a:pt x="6689" y="6655"/>
                  <a:pt x="6719" y="6732"/>
                  <a:pt x="6772" y="6846"/>
                </a:cubicBezTo>
                <a:cubicBezTo>
                  <a:pt x="6828" y="6966"/>
                  <a:pt x="6859" y="7088"/>
                  <a:pt x="6871" y="7218"/>
                </a:cubicBezTo>
                <a:cubicBezTo>
                  <a:pt x="6880" y="7312"/>
                  <a:pt x="6858" y="7434"/>
                  <a:pt x="6772" y="7491"/>
                </a:cubicBezTo>
                <a:cubicBezTo>
                  <a:pt x="6653" y="7571"/>
                  <a:pt x="6576" y="7619"/>
                  <a:pt x="6449" y="7640"/>
                </a:cubicBezTo>
              </a:path>
              <a:path w="8757" h="1862">
                <a:moveTo>
                  <a:pt x="8111" y="6424"/>
                </a:moveTo>
                <a:cubicBezTo>
                  <a:pt x="8067" y="6479"/>
                  <a:pt x="8029" y="6541"/>
                  <a:pt x="7987" y="6598"/>
                </a:cubicBezTo>
                <a:cubicBezTo>
                  <a:pt x="7908" y="6705"/>
                  <a:pt x="7843" y="6816"/>
                  <a:pt x="7764" y="6921"/>
                </a:cubicBezTo>
                <a:cubicBezTo>
                  <a:pt x="7682" y="7030"/>
                  <a:pt x="7620" y="7155"/>
                  <a:pt x="7541" y="7268"/>
                </a:cubicBezTo>
                <a:cubicBezTo>
                  <a:pt x="7479" y="7356"/>
                  <a:pt x="7404" y="7431"/>
                  <a:pt x="7342" y="7516"/>
                </a:cubicBezTo>
                <a:cubicBezTo>
                  <a:pt x="7314" y="7555"/>
                  <a:pt x="7289" y="7604"/>
                  <a:pt x="7268" y="7640"/>
                </a:cubicBezTo>
                <a:cubicBezTo>
                  <a:pt x="7289" y="7603"/>
                  <a:pt x="7317" y="7559"/>
                  <a:pt x="7342" y="7516"/>
                </a:cubicBezTo>
              </a:path>
              <a:path w="8757" h="1862">
                <a:moveTo>
                  <a:pt x="8409" y="6449"/>
                </a:moveTo>
                <a:cubicBezTo>
                  <a:pt x="8402" y="6602"/>
                  <a:pt x="8405" y="6722"/>
                  <a:pt x="8409" y="6871"/>
                </a:cubicBezTo>
                <a:cubicBezTo>
                  <a:pt x="8414" y="7045"/>
                  <a:pt x="8434" y="7215"/>
                  <a:pt x="8434" y="7392"/>
                </a:cubicBezTo>
                <a:cubicBezTo>
                  <a:pt x="8434" y="7501"/>
                  <a:pt x="8427" y="7470"/>
                  <a:pt x="8409" y="7541"/>
                </a:cubicBezTo>
                <a:cubicBezTo>
                  <a:pt x="8382" y="7532"/>
                  <a:pt x="8370" y="7505"/>
                  <a:pt x="8384" y="7466"/>
                </a:cubicBezTo>
                <a:cubicBezTo>
                  <a:pt x="8392" y="7450"/>
                  <a:pt x="8401" y="7433"/>
                  <a:pt x="8409" y="7417"/>
                </a:cubicBezTo>
              </a:path>
              <a:path w="8757" h="1862">
                <a:moveTo>
                  <a:pt x="8706" y="7069"/>
                </a:moveTo>
                <a:cubicBezTo>
                  <a:pt x="8683" y="7176"/>
                  <a:pt x="8647" y="7285"/>
                  <a:pt x="8632" y="7392"/>
                </a:cubicBezTo>
                <a:cubicBezTo>
                  <a:pt x="8623" y="7453"/>
                  <a:pt x="8667" y="7476"/>
                  <a:pt x="8706" y="7516"/>
                </a:cubicBezTo>
                <a:cubicBezTo>
                  <a:pt x="8754" y="7565"/>
                  <a:pt x="8821" y="7539"/>
                  <a:pt x="8880" y="7516"/>
                </a:cubicBezTo>
                <a:cubicBezTo>
                  <a:pt x="8943" y="7492"/>
                  <a:pt x="9046" y="7401"/>
                  <a:pt x="9079" y="7342"/>
                </a:cubicBezTo>
                <a:cubicBezTo>
                  <a:pt x="9114" y="7279"/>
                  <a:pt x="9131" y="7104"/>
                  <a:pt x="9103" y="7045"/>
                </a:cubicBezTo>
                <a:cubicBezTo>
                  <a:pt x="9059" y="6951"/>
                  <a:pt x="9004" y="6955"/>
                  <a:pt x="8930" y="6921"/>
                </a:cubicBezTo>
                <a:cubicBezTo>
                  <a:pt x="8876" y="6896"/>
                  <a:pt x="8810" y="6888"/>
                  <a:pt x="8756" y="6945"/>
                </a:cubicBezTo>
                <a:cubicBezTo>
                  <a:pt x="8698" y="7007"/>
                  <a:pt x="8706" y="7093"/>
                  <a:pt x="8706" y="7169"/>
                </a:cubicBezTo>
              </a:path>
              <a:path w="8757" h="1862">
                <a:moveTo>
                  <a:pt x="9451" y="7119"/>
                </a:moveTo>
                <a:cubicBezTo>
                  <a:pt x="9488" y="6997"/>
                  <a:pt x="9525" y="6978"/>
                  <a:pt x="9426" y="6921"/>
                </a:cubicBezTo>
                <a:cubicBezTo>
                  <a:pt x="9331" y="6979"/>
                  <a:pt x="9320" y="7019"/>
                  <a:pt x="9277" y="7119"/>
                </a:cubicBezTo>
                <a:cubicBezTo>
                  <a:pt x="9251" y="7179"/>
                  <a:pt x="9233" y="7275"/>
                  <a:pt x="9252" y="7342"/>
                </a:cubicBezTo>
                <a:cubicBezTo>
                  <a:pt x="9266" y="7394"/>
                  <a:pt x="9304" y="7430"/>
                  <a:pt x="9351" y="7441"/>
                </a:cubicBezTo>
                <a:cubicBezTo>
                  <a:pt x="9411" y="7455"/>
                  <a:pt x="9457" y="7431"/>
                  <a:pt x="9500" y="7392"/>
                </a:cubicBezTo>
                <a:cubicBezTo>
                  <a:pt x="9546" y="7351"/>
                  <a:pt x="9554" y="7294"/>
                  <a:pt x="9575" y="7243"/>
                </a:cubicBezTo>
                <a:cubicBezTo>
                  <a:pt x="9592" y="7203"/>
                  <a:pt x="9616" y="7140"/>
                  <a:pt x="9599" y="7094"/>
                </a:cubicBezTo>
                <a:cubicBezTo>
                  <a:pt x="9591" y="7086"/>
                  <a:pt x="9583" y="7077"/>
                  <a:pt x="9575" y="7069"/>
                </a:cubicBezTo>
                <a:cubicBezTo>
                  <a:pt x="9550" y="7135"/>
                  <a:pt x="9533" y="7213"/>
                  <a:pt x="9525" y="7293"/>
                </a:cubicBezTo>
                <a:cubicBezTo>
                  <a:pt x="9508" y="7473"/>
                  <a:pt x="9515" y="7659"/>
                  <a:pt x="9500" y="7838"/>
                </a:cubicBezTo>
                <a:cubicBezTo>
                  <a:pt x="9489" y="7973"/>
                  <a:pt x="9465" y="8052"/>
                  <a:pt x="9376" y="8161"/>
                </a:cubicBezTo>
                <a:cubicBezTo>
                  <a:pt x="9317" y="8234"/>
                  <a:pt x="9239" y="8277"/>
                  <a:pt x="9153" y="8285"/>
                </a:cubicBezTo>
                <a:cubicBezTo>
                  <a:pt x="9080" y="8292"/>
                  <a:pt x="8987" y="8280"/>
                  <a:pt x="8954" y="8210"/>
                </a:cubicBezTo>
                <a:cubicBezTo>
                  <a:pt x="8954" y="8161"/>
                  <a:pt x="8954" y="8144"/>
                  <a:pt x="8954" y="8111"/>
                </a:cubicBezTo>
              </a:path>
              <a:path w="8757" h="1862">
                <a:moveTo>
                  <a:pt x="10071" y="6648"/>
                </a:moveTo>
                <a:cubicBezTo>
                  <a:pt x="10030" y="6794"/>
                  <a:pt x="9985" y="6945"/>
                  <a:pt x="9971" y="7094"/>
                </a:cubicBezTo>
                <a:cubicBezTo>
                  <a:pt x="9963" y="7182"/>
                  <a:pt x="9969" y="7286"/>
                  <a:pt x="9996" y="7367"/>
                </a:cubicBezTo>
                <a:cubicBezTo>
                  <a:pt x="10017" y="7430"/>
                  <a:pt x="10013" y="7441"/>
                  <a:pt x="10071" y="7441"/>
                </a:cubicBezTo>
                <a:cubicBezTo>
                  <a:pt x="10099" y="7441"/>
                  <a:pt x="10109" y="7439"/>
                  <a:pt x="10120" y="7417"/>
                </a:cubicBezTo>
              </a:path>
              <a:path w="8757" h="1862">
                <a:moveTo>
                  <a:pt x="10269" y="6821"/>
                </a:moveTo>
                <a:cubicBezTo>
                  <a:pt x="10369" y="6781"/>
                  <a:pt x="10460" y="6762"/>
                  <a:pt x="10567" y="6747"/>
                </a:cubicBezTo>
                <a:cubicBezTo>
                  <a:pt x="10638" y="6737"/>
                  <a:pt x="10697" y="6738"/>
                  <a:pt x="10765" y="6722"/>
                </a:cubicBezTo>
                <a:cubicBezTo>
                  <a:pt x="10787" y="6717"/>
                  <a:pt x="10818" y="6722"/>
                  <a:pt x="10840" y="6722"/>
                </a:cubicBezTo>
                <a:cubicBezTo>
                  <a:pt x="10829" y="6765"/>
                  <a:pt x="10798" y="6798"/>
                  <a:pt x="10790" y="6846"/>
                </a:cubicBezTo>
                <a:cubicBezTo>
                  <a:pt x="10776" y="6927"/>
                  <a:pt x="10758" y="7013"/>
                  <a:pt x="10740" y="7094"/>
                </a:cubicBezTo>
                <a:cubicBezTo>
                  <a:pt x="10723" y="7174"/>
                  <a:pt x="10699" y="7258"/>
                  <a:pt x="10716" y="7342"/>
                </a:cubicBezTo>
                <a:cubicBezTo>
                  <a:pt x="10736" y="7403"/>
                  <a:pt x="10733" y="7418"/>
                  <a:pt x="10765" y="7441"/>
                </a:cubicBezTo>
                <a:cubicBezTo>
                  <a:pt x="10779" y="7402"/>
                  <a:pt x="10807" y="7383"/>
                  <a:pt x="10815" y="7317"/>
                </a:cubicBezTo>
              </a:path>
              <a:path w="8757" h="1862">
                <a:moveTo>
                  <a:pt x="10964" y="6424"/>
                </a:moveTo>
                <a:cubicBezTo>
                  <a:pt x="11065" y="6498"/>
                  <a:pt x="11146" y="6572"/>
                  <a:pt x="11187" y="6697"/>
                </a:cubicBezTo>
                <a:cubicBezTo>
                  <a:pt x="11232" y="6833"/>
                  <a:pt x="11263" y="7022"/>
                  <a:pt x="11237" y="7169"/>
                </a:cubicBezTo>
                <a:cubicBezTo>
                  <a:pt x="11222" y="7253"/>
                  <a:pt x="11183" y="7363"/>
                  <a:pt x="11112" y="7417"/>
                </a:cubicBezTo>
                <a:cubicBezTo>
                  <a:pt x="11075" y="7445"/>
                  <a:pt x="11004" y="7500"/>
                  <a:pt x="10964" y="7516"/>
                </a:cubicBezTo>
                <a:cubicBezTo>
                  <a:pt x="10956" y="7516"/>
                  <a:pt x="10947" y="7516"/>
                  <a:pt x="10939" y="7516"/>
                </a:cubicBezTo>
              </a:path>
              <a:path w="8757" h="1862">
                <a:moveTo>
                  <a:pt x="11658" y="7045"/>
                </a:moveTo>
                <a:cubicBezTo>
                  <a:pt x="11774" y="7045"/>
                  <a:pt x="11889" y="7045"/>
                  <a:pt x="12005" y="7045"/>
                </a:cubicBezTo>
              </a:path>
              <a:path w="8757" h="1862">
                <a:moveTo>
                  <a:pt x="11708" y="7293"/>
                </a:moveTo>
                <a:cubicBezTo>
                  <a:pt x="11802" y="7313"/>
                  <a:pt x="11887" y="7339"/>
                  <a:pt x="11981" y="7342"/>
                </a:cubicBezTo>
                <a:cubicBezTo>
                  <a:pt x="12014" y="7342"/>
                  <a:pt x="12047" y="7342"/>
                  <a:pt x="12080" y="73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14920" y="2259000"/>
            <a:ext cx="98280" cy="403200"/>
          </a:xfrm>
          <a:custGeom>
            <a:avLst/>
            <a:gdLst/>
            <a:ahLst/>
            <a:rect l="l" t="t" r="r" b="b"/>
            <a:pathLst>
              <a:path w="274" h="1117">
                <a:moveTo>
                  <a:pt x="13122" y="6276"/>
                </a:moveTo>
                <a:cubicBezTo>
                  <a:pt x="13150" y="6317"/>
                  <a:pt x="13122" y="6287"/>
                  <a:pt x="13122" y="6350"/>
                </a:cubicBezTo>
                <a:cubicBezTo>
                  <a:pt x="13122" y="6445"/>
                  <a:pt x="13135" y="6534"/>
                  <a:pt x="13146" y="6623"/>
                </a:cubicBezTo>
                <a:cubicBezTo>
                  <a:pt x="13172" y="6836"/>
                  <a:pt x="13184" y="7173"/>
                  <a:pt x="13122" y="7367"/>
                </a:cubicBezTo>
                <a:cubicBezTo>
                  <a:pt x="13122" y="7392"/>
                  <a:pt x="13122" y="7400"/>
                  <a:pt x="13097" y="7392"/>
                </a:cubicBezTo>
              </a:path>
              <a:path w="274" h="1117">
                <a:moveTo>
                  <a:pt x="13370" y="7392"/>
                </a:moveTo>
                <a:cubicBezTo>
                  <a:pt x="13370" y="7367"/>
                  <a:pt x="13370" y="7359"/>
                  <a:pt x="13370" y="73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91040" y="2286000"/>
            <a:ext cx="527040" cy="384120"/>
          </a:xfrm>
          <a:custGeom>
            <a:avLst/>
            <a:gdLst/>
            <a:ahLst/>
            <a:rect l="l" t="t" r="r" b="b"/>
            <a:pathLst>
              <a:path w="1464" h="1068">
                <a:moveTo>
                  <a:pt x="13940" y="6424"/>
                </a:moveTo>
                <a:cubicBezTo>
                  <a:pt x="13940" y="6473"/>
                  <a:pt x="13922" y="6511"/>
                  <a:pt x="13915" y="6548"/>
                </a:cubicBezTo>
                <a:cubicBezTo>
                  <a:pt x="13903" y="6607"/>
                  <a:pt x="13881" y="6637"/>
                  <a:pt x="13866" y="6697"/>
                </a:cubicBezTo>
                <a:cubicBezTo>
                  <a:pt x="13852" y="6752"/>
                  <a:pt x="13864" y="6825"/>
                  <a:pt x="13891" y="6846"/>
                </a:cubicBezTo>
                <a:cubicBezTo>
                  <a:pt x="13934" y="6879"/>
                  <a:pt x="13957" y="6871"/>
                  <a:pt x="14015" y="6871"/>
                </a:cubicBezTo>
                <a:cubicBezTo>
                  <a:pt x="14064" y="6871"/>
                  <a:pt x="14082" y="6875"/>
                  <a:pt x="14139" y="6871"/>
                </a:cubicBezTo>
                <a:cubicBezTo>
                  <a:pt x="14188" y="6868"/>
                  <a:pt x="14246" y="6872"/>
                  <a:pt x="14288" y="6846"/>
                </a:cubicBezTo>
                <a:cubicBezTo>
                  <a:pt x="14312" y="6821"/>
                  <a:pt x="14320" y="6812"/>
                  <a:pt x="14337" y="6796"/>
                </a:cubicBezTo>
              </a:path>
              <a:path w="1464" h="1068">
                <a:moveTo>
                  <a:pt x="14337" y="6350"/>
                </a:moveTo>
                <a:cubicBezTo>
                  <a:pt x="14337" y="6415"/>
                  <a:pt x="14315" y="6461"/>
                  <a:pt x="14312" y="6524"/>
                </a:cubicBezTo>
                <a:cubicBezTo>
                  <a:pt x="14305" y="6676"/>
                  <a:pt x="14304" y="6822"/>
                  <a:pt x="14288" y="6970"/>
                </a:cubicBezTo>
                <a:cubicBezTo>
                  <a:pt x="14274" y="7101"/>
                  <a:pt x="14275" y="7277"/>
                  <a:pt x="14312" y="7392"/>
                </a:cubicBezTo>
                <a:cubicBezTo>
                  <a:pt x="14322" y="7424"/>
                  <a:pt x="14308" y="7380"/>
                  <a:pt x="14337" y="7342"/>
                </a:cubicBezTo>
              </a:path>
              <a:path w="1464" h="1068">
                <a:moveTo>
                  <a:pt x="14709" y="6474"/>
                </a:moveTo>
                <a:cubicBezTo>
                  <a:pt x="14775" y="6427"/>
                  <a:pt x="14850" y="6365"/>
                  <a:pt x="14932" y="6350"/>
                </a:cubicBezTo>
                <a:cubicBezTo>
                  <a:pt x="14975" y="6342"/>
                  <a:pt x="15025" y="6354"/>
                  <a:pt x="15056" y="6375"/>
                </a:cubicBezTo>
                <a:cubicBezTo>
                  <a:pt x="15116" y="6415"/>
                  <a:pt x="15106" y="6458"/>
                  <a:pt x="15106" y="6524"/>
                </a:cubicBezTo>
                <a:cubicBezTo>
                  <a:pt x="15106" y="6591"/>
                  <a:pt x="15109" y="6635"/>
                  <a:pt x="15081" y="6697"/>
                </a:cubicBezTo>
                <a:cubicBezTo>
                  <a:pt x="15052" y="6762"/>
                  <a:pt x="15020" y="6864"/>
                  <a:pt x="14982" y="6921"/>
                </a:cubicBezTo>
                <a:cubicBezTo>
                  <a:pt x="14940" y="6984"/>
                  <a:pt x="14902" y="7056"/>
                  <a:pt x="14858" y="7119"/>
                </a:cubicBezTo>
                <a:cubicBezTo>
                  <a:pt x="14819" y="7175"/>
                  <a:pt x="14784" y="7236"/>
                  <a:pt x="14759" y="7293"/>
                </a:cubicBezTo>
                <a:cubicBezTo>
                  <a:pt x="14740" y="7336"/>
                  <a:pt x="14734" y="7363"/>
                  <a:pt x="14784" y="7367"/>
                </a:cubicBezTo>
                <a:cubicBezTo>
                  <a:pt x="14910" y="7377"/>
                  <a:pt x="15031" y="7377"/>
                  <a:pt x="15156" y="7392"/>
                </a:cubicBezTo>
                <a:cubicBezTo>
                  <a:pt x="15188" y="7396"/>
                  <a:pt x="15356" y="7392"/>
                  <a:pt x="15304" y="7392"/>
                </a:cubicBezTo>
                <a:cubicBezTo>
                  <a:pt x="15296" y="7392"/>
                  <a:pt x="15288" y="7392"/>
                  <a:pt x="15280" y="739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1960" y="3276720"/>
            <a:ext cx="403200" cy="501480"/>
          </a:xfrm>
          <a:custGeom>
            <a:avLst/>
            <a:gdLst/>
            <a:ahLst/>
            <a:rect l="l" t="t" r="r" b="b"/>
            <a:pathLst>
              <a:path w="1117" h="1390">
                <a:moveTo>
                  <a:pt x="1588" y="9550"/>
                </a:moveTo>
                <a:cubicBezTo>
                  <a:pt x="1588" y="9759"/>
                  <a:pt x="1599" y="9964"/>
                  <a:pt x="1612" y="10170"/>
                </a:cubicBezTo>
                <a:cubicBezTo>
                  <a:pt x="1619" y="10285"/>
                  <a:pt x="1588" y="10359"/>
                  <a:pt x="1588" y="10468"/>
                </a:cubicBezTo>
                <a:cubicBezTo>
                  <a:pt x="1588" y="10518"/>
                  <a:pt x="1577" y="10488"/>
                  <a:pt x="1588" y="10443"/>
                </a:cubicBezTo>
              </a:path>
              <a:path w="1117" h="1390">
                <a:moveTo>
                  <a:pt x="1935" y="9599"/>
                </a:moveTo>
                <a:cubicBezTo>
                  <a:pt x="1974" y="9589"/>
                  <a:pt x="2011" y="9559"/>
                  <a:pt x="2059" y="9575"/>
                </a:cubicBezTo>
                <a:cubicBezTo>
                  <a:pt x="2111" y="9592"/>
                  <a:pt x="2214" y="9643"/>
                  <a:pt x="2232" y="9699"/>
                </a:cubicBezTo>
                <a:cubicBezTo>
                  <a:pt x="2245" y="9739"/>
                  <a:pt x="2237" y="9843"/>
                  <a:pt x="2208" y="9872"/>
                </a:cubicBezTo>
                <a:cubicBezTo>
                  <a:pt x="2173" y="9907"/>
                  <a:pt x="2093" y="9947"/>
                  <a:pt x="2059" y="9971"/>
                </a:cubicBezTo>
                <a:cubicBezTo>
                  <a:pt x="2023" y="9996"/>
                  <a:pt x="2020" y="9989"/>
                  <a:pt x="2009" y="10021"/>
                </a:cubicBezTo>
                <a:cubicBezTo>
                  <a:pt x="2055" y="10006"/>
                  <a:pt x="2033" y="9996"/>
                  <a:pt x="2108" y="9996"/>
                </a:cubicBezTo>
                <a:cubicBezTo>
                  <a:pt x="2170" y="9996"/>
                  <a:pt x="2206" y="9994"/>
                  <a:pt x="2257" y="10021"/>
                </a:cubicBezTo>
                <a:cubicBezTo>
                  <a:pt x="2301" y="10044"/>
                  <a:pt x="2352" y="10066"/>
                  <a:pt x="2356" y="10120"/>
                </a:cubicBezTo>
                <a:cubicBezTo>
                  <a:pt x="2361" y="10190"/>
                  <a:pt x="2344" y="10228"/>
                  <a:pt x="2282" y="10269"/>
                </a:cubicBezTo>
                <a:cubicBezTo>
                  <a:pt x="2222" y="10309"/>
                  <a:pt x="2154" y="10339"/>
                  <a:pt x="2084" y="10344"/>
                </a:cubicBezTo>
                <a:cubicBezTo>
                  <a:pt x="2007" y="10350"/>
                  <a:pt x="1973" y="10284"/>
                  <a:pt x="1960" y="10220"/>
                </a:cubicBezTo>
                <a:cubicBezTo>
                  <a:pt x="1960" y="10161"/>
                  <a:pt x="1963" y="10135"/>
                  <a:pt x="1984" y="10096"/>
                </a:cubicBezTo>
              </a:path>
              <a:path w="1117" h="1390">
                <a:moveTo>
                  <a:pt x="2133" y="9128"/>
                </a:moveTo>
                <a:cubicBezTo>
                  <a:pt x="2162" y="9121"/>
                  <a:pt x="2179" y="9129"/>
                  <a:pt x="2232" y="9178"/>
                </a:cubicBezTo>
                <a:cubicBezTo>
                  <a:pt x="2362" y="9298"/>
                  <a:pt x="2552" y="9456"/>
                  <a:pt x="2629" y="9624"/>
                </a:cubicBezTo>
                <a:cubicBezTo>
                  <a:pt x="2662" y="9697"/>
                  <a:pt x="2709" y="9865"/>
                  <a:pt x="2679" y="9947"/>
                </a:cubicBezTo>
                <a:cubicBezTo>
                  <a:pt x="2637" y="10058"/>
                  <a:pt x="2528" y="10155"/>
                  <a:pt x="2456" y="10244"/>
                </a:cubicBezTo>
                <a:cubicBezTo>
                  <a:pt x="2388" y="10334"/>
                  <a:pt x="2373" y="10361"/>
                  <a:pt x="2307" y="103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39920" y="3286080"/>
            <a:ext cx="1465200" cy="706320"/>
          </a:xfrm>
          <a:custGeom>
            <a:avLst/>
            <a:gdLst/>
            <a:ahLst/>
            <a:rect l="l" t="t" r="r" b="b"/>
            <a:pathLst>
              <a:path w="4069" h="1961">
                <a:moveTo>
                  <a:pt x="3721" y="9128"/>
                </a:moveTo>
                <a:cubicBezTo>
                  <a:pt x="3721" y="9181"/>
                  <a:pt x="3737" y="9202"/>
                  <a:pt x="3746" y="9252"/>
                </a:cubicBezTo>
                <a:cubicBezTo>
                  <a:pt x="3757" y="9315"/>
                  <a:pt x="3767" y="9388"/>
                  <a:pt x="3770" y="9451"/>
                </a:cubicBezTo>
                <a:cubicBezTo>
                  <a:pt x="3774" y="9554"/>
                  <a:pt x="3791" y="9647"/>
                  <a:pt x="3795" y="9748"/>
                </a:cubicBezTo>
                <a:cubicBezTo>
                  <a:pt x="3803" y="9966"/>
                  <a:pt x="3721" y="10539"/>
                  <a:pt x="3820" y="10344"/>
                </a:cubicBezTo>
                <a:cubicBezTo>
                  <a:pt x="3820" y="10316"/>
                  <a:pt x="3822" y="10305"/>
                  <a:pt x="3845" y="10294"/>
                </a:cubicBezTo>
              </a:path>
              <a:path w="4069" h="1961">
                <a:moveTo>
                  <a:pt x="4118" y="9847"/>
                </a:moveTo>
                <a:cubicBezTo>
                  <a:pt x="4125" y="9927"/>
                  <a:pt x="4142" y="9990"/>
                  <a:pt x="4142" y="10071"/>
                </a:cubicBezTo>
                <a:cubicBezTo>
                  <a:pt x="4142" y="10153"/>
                  <a:pt x="4147" y="10273"/>
                  <a:pt x="4192" y="10344"/>
                </a:cubicBezTo>
                <a:cubicBezTo>
                  <a:pt x="4210" y="10372"/>
                  <a:pt x="4263" y="10409"/>
                  <a:pt x="4291" y="10418"/>
                </a:cubicBezTo>
                <a:cubicBezTo>
                  <a:pt x="4320" y="10428"/>
                  <a:pt x="4398" y="10393"/>
                  <a:pt x="4415" y="10368"/>
                </a:cubicBezTo>
                <a:cubicBezTo>
                  <a:pt x="4449" y="10319"/>
                  <a:pt x="4498" y="10254"/>
                  <a:pt x="4514" y="10195"/>
                </a:cubicBezTo>
                <a:cubicBezTo>
                  <a:pt x="4548" y="10069"/>
                  <a:pt x="4532" y="10032"/>
                  <a:pt x="4514" y="9922"/>
                </a:cubicBezTo>
                <a:cubicBezTo>
                  <a:pt x="4502" y="9850"/>
                  <a:pt x="4492" y="9825"/>
                  <a:pt x="4440" y="9773"/>
                </a:cubicBezTo>
                <a:cubicBezTo>
                  <a:pt x="4402" y="9735"/>
                  <a:pt x="4394" y="9723"/>
                  <a:pt x="4341" y="9723"/>
                </a:cubicBezTo>
                <a:cubicBezTo>
                  <a:pt x="4280" y="9723"/>
                  <a:pt x="4291" y="9751"/>
                  <a:pt x="4242" y="9773"/>
                </a:cubicBezTo>
                <a:cubicBezTo>
                  <a:pt x="4196" y="9794"/>
                  <a:pt x="4182" y="9812"/>
                  <a:pt x="4167" y="9872"/>
                </a:cubicBezTo>
                <a:cubicBezTo>
                  <a:pt x="4149" y="9941"/>
                  <a:pt x="4158" y="10009"/>
                  <a:pt x="4167" y="10071"/>
                </a:cubicBezTo>
                <a:cubicBezTo>
                  <a:pt x="4167" y="10079"/>
                  <a:pt x="4167" y="10088"/>
                  <a:pt x="4167" y="10096"/>
                </a:cubicBezTo>
              </a:path>
              <a:path w="4069" h="1961">
                <a:moveTo>
                  <a:pt x="4961" y="9847"/>
                </a:moveTo>
                <a:cubicBezTo>
                  <a:pt x="4981" y="9793"/>
                  <a:pt x="4980" y="9797"/>
                  <a:pt x="4986" y="9748"/>
                </a:cubicBezTo>
                <a:cubicBezTo>
                  <a:pt x="4932" y="9755"/>
                  <a:pt x="4906" y="9758"/>
                  <a:pt x="4862" y="9798"/>
                </a:cubicBezTo>
                <a:cubicBezTo>
                  <a:pt x="4797" y="9858"/>
                  <a:pt x="4734" y="9960"/>
                  <a:pt x="4713" y="10046"/>
                </a:cubicBezTo>
                <a:cubicBezTo>
                  <a:pt x="4700" y="10097"/>
                  <a:pt x="4717" y="10177"/>
                  <a:pt x="4738" y="10220"/>
                </a:cubicBezTo>
                <a:cubicBezTo>
                  <a:pt x="4760" y="10265"/>
                  <a:pt x="4795" y="10267"/>
                  <a:pt x="4837" y="10269"/>
                </a:cubicBezTo>
                <a:cubicBezTo>
                  <a:pt x="4872" y="10271"/>
                  <a:pt x="4924" y="10262"/>
                  <a:pt x="4936" y="10220"/>
                </a:cubicBezTo>
                <a:cubicBezTo>
                  <a:pt x="4952" y="10163"/>
                  <a:pt x="4967" y="10104"/>
                  <a:pt x="4986" y="10046"/>
                </a:cubicBezTo>
                <a:cubicBezTo>
                  <a:pt x="5002" y="9999"/>
                  <a:pt x="5027" y="9939"/>
                  <a:pt x="5035" y="9897"/>
                </a:cubicBezTo>
                <a:cubicBezTo>
                  <a:pt x="5040" y="9872"/>
                  <a:pt x="5024" y="9895"/>
                  <a:pt x="5035" y="9872"/>
                </a:cubicBezTo>
                <a:cubicBezTo>
                  <a:pt x="5035" y="10017"/>
                  <a:pt x="5047" y="10154"/>
                  <a:pt x="5060" y="10294"/>
                </a:cubicBezTo>
                <a:cubicBezTo>
                  <a:pt x="5070" y="10402"/>
                  <a:pt x="5073" y="10510"/>
                  <a:pt x="5085" y="10616"/>
                </a:cubicBezTo>
                <a:cubicBezTo>
                  <a:pt x="5100" y="10749"/>
                  <a:pt x="5098" y="10896"/>
                  <a:pt x="5035" y="11013"/>
                </a:cubicBezTo>
                <a:cubicBezTo>
                  <a:pt x="5007" y="11064"/>
                  <a:pt x="4962" y="11086"/>
                  <a:pt x="4911" y="11088"/>
                </a:cubicBezTo>
                <a:cubicBezTo>
                  <a:pt x="4864" y="11090"/>
                  <a:pt x="4800" y="11099"/>
                  <a:pt x="4762" y="11063"/>
                </a:cubicBezTo>
                <a:cubicBezTo>
                  <a:pt x="4742" y="11022"/>
                  <a:pt x="4734" y="11016"/>
                  <a:pt x="4738" y="10988"/>
                </a:cubicBezTo>
              </a:path>
              <a:path w="4069" h="1961">
                <a:moveTo>
                  <a:pt x="5482" y="9451"/>
                </a:moveTo>
                <a:cubicBezTo>
                  <a:pt x="5459" y="9552"/>
                  <a:pt x="5431" y="9652"/>
                  <a:pt x="5407" y="9748"/>
                </a:cubicBezTo>
                <a:cubicBezTo>
                  <a:pt x="5381" y="9850"/>
                  <a:pt x="5383" y="9939"/>
                  <a:pt x="5383" y="10046"/>
                </a:cubicBezTo>
                <a:cubicBezTo>
                  <a:pt x="5383" y="10115"/>
                  <a:pt x="5395" y="10209"/>
                  <a:pt x="5432" y="10269"/>
                </a:cubicBezTo>
                <a:cubicBezTo>
                  <a:pt x="5465" y="10322"/>
                  <a:pt x="5514" y="10365"/>
                  <a:pt x="5556" y="10344"/>
                </a:cubicBezTo>
              </a:path>
              <a:path w="4069" h="1961">
                <a:moveTo>
                  <a:pt x="5854" y="9624"/>
                </a:moveTo>
                <a:cubicBezTo>
                  <a:pt x="5854" y="9739"/>
                  <a:pt x="5862" y="9839"/>
                  <a:pt x="5879" y="9947"/>
                </a:cubicBezTo>
                <a:cubicBezTo>
                  <a:pt x="5891" y="10020"/>
                  <a:pt x="5900" y="10098"/>
                  <a:pt x="5904" y="10170"/>
                </a:cubicBezTo>
                <a:cubicBezTo>
                  <a:pt x="5906" y="10205"/>
                  <a:pt x="5901" y="10297"/>
                  <a:pt x="5928" y="10319"/>
                </a:cubicBezTo>
                <a:cubicBezTo>
                  <a:pt x="5956" y="10319"/>
                  <a:pt x="5967" y="10317"/>
                  <a:pt x="5978" y="10294"/>
                </a:cubicBezTo>
              </a:path>
              <a:path w="4069" h="1961">
                <a:moveTo>
                  <a:pt x="6276" y="9798"/>
                </a:moveTo>
                <a:cubicBezTo>
                  <a:pt x="6276" y="9943"/>
                  <a:pt x="6269" y="10083"/>
                  <a:pt x="6300" y="10220"/>
                </a:cubicBezTo>
                <a:cubicBezTo>
                  <a:pt x="6309" y="10261"/>
                  <a:pt x="6330" y="10289"/>
                  <a:pt x="6375" y="10294"/>
                </a:cubicBezTo>
                <a:cubicBezTo>
                  <a:pt x="6424" y="10299"/>
                  <a:pt x="6483" y="10267"/>
                  <a:pt x="6499" y="10220"/>
                </a:cubicBezTo>
                <a:cubicBezTo>
                  <a:pt x="6517" y="10167"/>
                  <a:pt x="6524" y="10104"/>
                  <a:pt x="6524" y="10046"/>
                </a:cubicBezTo>
                <a:cubicBezTo>
                  <a:pt x="6524" y="9964"/>
                  <a:pt x="6532" y="9898"/>
                  <a:pt x="6499" y="9823"/>
                </a:cubicBezTo>
                <a:cubicBezTo>
                  <a:pt x="6479" y="9779"/>
                  <a:pt x="6442" y="9726"/>
                  <a:pt x="6400" y="9699"/>
                </a:cubicBezTo>
                <a:cubicBezTo>
                  <a:pt x="6368" y="9679"/>
                  <a:pt x="6291" y="9657"/>
                  <a:pt x="6251" y="9674"/>
                </a:cubicBezTo>
                <a:cubicBezTo>
                  <a:pt x="6219" y="9688"/>
                  <a:pt x="6209" y="9700"/>
                  <a:pt x="6201" y="9723"/>
                </a:cubicBezTo>
              </a:path>
              <a:path w="4069" h="1961">
                <a:moveTo>
                  <a:pt x="6573" y="9227"/>
                </a:moveTo>
                <a:cubicBezTo>
                  <a:pt x="6667" y="9267"/>
                  <a:pt x="6632" y="9249"/>
                  <a:pt x="6672" y="9327"/>
                </a:cubicBezTo>
                <a:cubicBezTo>
                  <a:pt x="6705" y="9392"/>
                  <a:pt x="6764" y="9457"/>
                  <a:pt x="6796" y="9525"/>
                </a:cubicBezTo>
                <a:cubicBezTo>
                  <a:pt x="6830" y="9599"/>
                  <a:pt x="6883" y="9717"/>
                  <a:pt x="6896" y="9798"/>
                </a:cubicBezTo>
                <a:cubicBezTo>
                  <a:pt x="6915" y="9921"/>
                  <a:pt x="6920" y="10021"/>
                  <a:pt x="6871" y="10145"/>
                </a:cubicBezTo>
                <a:cubicBezTo>
                  <a:pt x="6844" y="10214"/>
                  <a:pt x="6799" y="10251"/>
                  <a:pt x="6747" y="10294"/>
                </a:cubicBezTo>
                <a:cubicBezTo>
                  <a:pt x="6738" y="10302"/>
                  <a:pt x="6647" y="10347"/>
                  <a:pt x="6648" y="10344"/>
                </a:cubicBezTo>
                <a:cubicBezTo>
                  <a:pt x="6656" y="10336"/>
                  <a:pt x="6664" y="10327"/>
                  <a:pt x="6672" y="10319"/>
                </a:cubicBezTo>
              </a:path>
              <a:path w="4069" h="1961">
                <a:moveTo>
                  <a:pt x="7789" y="9227"/>
                </a:moveTo>
                <a:cubicBezTo>
                  <a:pt x="7781" y="9284"/>
                  <a:pt x="7771" y="9278"/>
                  <a:pt x="7739" y="9327"/>
                </a:cubicBezTo>
                <a:cubicBezTo>
                  <a:pt x="7690" y="9402"/>
                  <a:pt x="7630" y="9500"/>
                  <a:pt x="7590" y="9575"/>
                </a:cubicBezTo>
                <a:cubicBezTo>
                  <a:pt x="7544" y="9663"/>
                  <a:pt x="7509" y="9748"/>
                  <a:pt x="7441" y="9823"/>
                </a:cubicBezTo>
                <a:cubicBezTo>
                  <a:pt x="7380" y="9891"/>
                  <a:pt x="7336" y="9964"/>
                  <a:pt x="7293" y="10046"/>
                </a:cubicBezTo>
                <a:cubicBezTo>
                  <a:pt x="7264" y="10103"/>
                  <a:pt x="7229" y="10167"/>
                  <a:pt x="7193" y="10220"/>
                </a:cubicBezTo>
                <a:cubicBezTo>
                  <a:pt x="7172" y="10251"/>
                  <a:pt x="7150" y="10320"/>
                  <a:pt x="7119" y="10344"/>
                </a:cubicBezTo>
                <a:cubicBezTo>
                  <a:pt x="7111" y="10344"/>
                  <a:pt x="7102" y="10344"/>
                  <a:pt x="7094" y="1034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27240" y="3348000"/>
            <a:ext cx="455760" cy="590760"/>
          </a:xfrm>
          <a:custGeom>
            <a:avLst/>
            <a:gdLst/>
            <a:ahLst/>
            <a:rect l="l" t="t" r="r" b="b"/>
            <a:pathLst>
              <a:path w="1266" h="1638">
                <a:moveTo>
                  <a:pt x="8409" y="9351"/>
                </a:moveTo>
                <a:cubicBezTo>
                  <a:pt x="8409" y="9335"/>
                  <a:pt x="8409" y="9318"/>
                  <a:pt x="8409" y="9302"/>
                </a:cubicBezTo>
                <a:cubicBezTo>
                  <a:pt x="8409" y="9605"/>
                  <a:pt x="8385" y="9927"/>
                  <a:pt x="8434" y="10220"/>
                </a:cubicBezTo>
                <a:cubicBezTo>
                  <a:pt x="8443" y="10272"/>
                  <a:pt x="8436" y="10283"/>
                  <a:pt x="8409" y="10319"/>
                </a:cubicBezTo>
              </a:path>
              <a:path w="1266" h="1638">
                <a:moveTo>
                  <a:pt x="8632" y="9798"/>
                </a:moveTo>
                <a:cubicBezTo>
                  <a:pt x="8632" y="9904"/>
                  <a:pt x="8641" y="9997"/>
                  <a:pt x="8657" y="10096"/>
                </a:cubicBezTo>
                <a:cubicBezTo>
                  <a:pt x="8671" y="10186"/>
                  <a:pt x="8688" y="10226"/>
                  <a:pt x="8781" y="10269"/>
                </a:cubicBezTo>
                <a:cubicBezTo>
                  <a:pt x="8839" y="10296"/>
                  <a:pt x="8888" y="10245"/>
                  <a:pt x="8930" y="10220"/>
                </a:cubicBezTo>
                <a:cubicBezTo>
                  <a:pt x="8999" y="10178"/>
                  <a:pt x="9000" y="10168"/>
                  <a:pt x="9029" y="10096"/>
                </a:cubicBezTo>
                <a:cubicBezTo>
                  <a:pt x="9056" y="10030"/>
                  <a:pt x="9100" y="9974"/>
                  <a:pt x="9079" y="9897"/>
                </a:cubicBezTo>
                <a:cubicBezTo>
                  <a:pt x="9067" y="9853"/>
                  <a:pt x="9033" y="9739"/>
                  <a:pt x="8979" y="9723"/>
                </a:cubicBezTo>
                <a:cubicBezTo>
                  <a:pt x="8935" y="9710"/>
                  <a:pt x="8866" y="9724"/>
                  <a:pt x="8830" y="9748"/>
                </a:cubicBezTo>
                <a:cubicBezTo>
                  <a:pt x="8770" y="9789"/>
                  <a:pt x="8775" y="9866"/>
                  <a:pt x="8756" y="9922"/>
                </a:cubicBezTo>
                <a:cubicBezTo>
                  <a:pt x="8731" y="9971"/>
                  <a:pt x="8723" y="9988"/>
                  <a:pt x="8756" y="10021"/>
                </a:cubicBezTo>
              </a:path>
              <a:path w="1266" h="1638">
                <a:moveTo>
                  <a:pt x="9550" y="9798"/>
                </a:moveTo>
                <a:cubicBezTo>
                  <a:pt x="9484" y="9732"/>
                  <a:pt x="9471" y="9777"/>
                  <a:pt x="9401" y="9847"/>
                </a:cubicBezTo>
                <a:cubicBezTo>
                  <a:pt x="9341" y="9907"/>
                  <a:pt x="9316" y="9990"/>
                  <a:pt x="9302" y="10071"/>
                </a:cubicBezTo>
                <a:cubicBezTo>
                  <a:pt x="9293" y="10122"/>
                  <a:pt x="9334" y="10168"/>
                  <a:pt x="9376" y="10195"/>
                </a:cubicBezTo>
                <a:cubicBezTo>
                  <a:pt x="9441" y="10237"/>
                  <a:pt x="9472" y="10218"/>
                  <a:pt x="9525" y="10170"/>
                </a:cubicBezTo>
                <a:cubicBezTo>
                  <a:pt x="9593" y="10109"/>
                  <a:pt x="9613" y="10008"/>
                  <a:pt x="9624" y="9922"/>
                </a:cubicBezTo>
                <a:cubicBezTo>
                  <a:pt x="9629" y="9879"/>
                  <a:pt x="9649" y="9755"/>
                  <a:pt x="9649" y="9798"/>
                </a:cubicBezTo>
                <a:cubicBezTo>
                  <a:pt x="9649" y="9806"/>
                  <a:pt x="9649" y="9815"/>
                  <a:pt x="9649" y="9823"/>
                </a:cubicBezTo>
                <a:cubicBezTo>
                  <a:pt x="9649" y="10033"/>
                  <a:pt x="9655" y="10239"/>
                  <a:pt x="9674" y="10443"/>
                </a:cubicBezTo>
                <a:cubicBezTo>
                  <a:pt x="9683" y="10542"/>
                  <a:pt x="9675" y="10671"/>
                  <a:pt x="9649" y="10765"/>
                </a:cubicBezTo>
                <a:cubicBezTo>
                  <a:pt x="9635" y="10815"/>
                  <a:pt x="9577" y="10922"/>
                  <a:pt x="9525" y="10939"/>
                </a:cubicBezTo>
                <a:cubicBezTo>
                  <a:pt x="9480" y="10954"/>
                  <a:pt x="9408" y="10940"/>
                  <a:pt x="9376" y="10914"/>
                </a:cubicBezTo>
                <a:cubicBezTo>
                  <a:pt x="9336" y="10882"/>
                  <a:pt x="9351" y="10837"/>
                  <a:pt x="9351" y="1079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06840" y="3303720"/>
            <a:ext cx="554040" cy="420480"/>
          </a:xfrm>
          <a:custGeom>
            <a:avLst/>
            <a:gdLst/>
            <a:ahLst/>
            <a:rect l="l" t="t" r="r" b="b"/>
            <a:pathLst>
              <a:path w="1539" h="1167">
                <a:moveTo>
                  <a:pt x="10145" y="9575"/>
                </a:moveTo>
                <a:cubicBezTo>
                  <a:pt x="10118" y="9683"/>
                  <a:pt x="10106" y="9789"/>
                  <a:pt x="10071" y="9897"/>
                </a:cubicBezTo>
                <a:cubicBezTo>
                  <a:pt x="10048" y="9969"/>
                  <a:pt x="10006" y="10094"/>
                  <a:pt x="10021" y="10170"/>
                </a:cubicBezTo>
                <a:cubicBezTo>
                  <a:pt x="10029" y="10214"/>
                  <a:pt x="10047" y="10297"/>
                  <a:pt x="10096" y="10319"/>
                </a:cubicBezTo>
                <a:cubicBezTo>
                  <a:pt x="10117" y="10328"/>
                  <a:pt x="10166" y="10360"/>
                  <a:pt x="10195" y="10344"/>
                </a:cubicBezTo>
                <a:cubicBezTo>
                  <a:pt x="10217" y="10322"/>
                  <a:pt x="10222" y="10313"/>
                  <a:pt x="10244" y="10319"/>
                </a:cubicBezTo>
              </a:path>
              <a:path w="1539" h="1167">
                <a:moveTo>
                  <a:pt x="10492" y="9525"/>
                </a:moveTo>
                <a:cubicBezTo>
                  <a:pt x="10628" y="9535"/>
                  <a:pt x="10641" y="9516"/>
                  <a:pt x="10641" y="9649"/>
                </a:cubicBezTo>
                <a:cubicBezTo>
                  <a:pt x="10641" y="9702"/>
                  <a:pt x="10630" y="9710"/>
                  <a:pt x="10592" y="9748"/>
                </a:cubicBezTo>
                <a:cubicBezTo>
                  <a:pt x="10568" y="9772"/>
                  <a:pt x="10504" y="9817"/>
                  <a:pt x="10492" y="9823"/>
                </a:cubicBezTo>
                <a:cubicBezTo>
                  <a:pt x="10453" y="9843"/>
                  <a:pt x="10511" y="9823"/>
                  <a:pt x="10542" y="9823"/>
                </a:cubicBezTo>
                <a:cubicBezTo>
                  <a:pt x="10593" y="9823"/>
                  <a:pt x="10628" y="9850"/>
                  <a:pt x="10666" y="9872"/>
                </a:cubicBezTo>
                <a:cubicBezTo>
                  <a:pt x="10724" y="9905"/>
                  <a:pt x="10753" y="9935"/>
                  <a:pt x="10765" y="9996"/>
                </a:cubicBezTo>
                <a:cubicBezTo>
                  <a:pt x="10774" y="10041"/>
                  <a:pt x="10744" y="10089"/>
                  <a:pt x="10716" y="10120"/>
                </a:cubicBezTo>
                <a:cubicBezTo>
                  <a:pt x="10695" y="10144"/>
                  <a:pt x="10601" y="10181"/>
                  <a:pt x="10567" y="10170"/>
                </a:cubicBezTo>
                <a:cubicBezTo>
                  <a:pt x="10532" y="10158"/>
                  <a:pt x="10497" y="10125"/>
                  <a:pt x="10468" y="10096"/>
                </a:cubicBezTo>
                <a:cubicBezTo>
                  <a:pt x="10434" y="10062"/>
                  <a:pt x="10425" y="10040"/>
                  <a:pt x="10443" y="9996"/>
                </a:cubicBezTo>
              </a:path>
              <a:path w="1539" h="1167">
                <a:moveTo>
                  <a:pt x="10840" y="9178"/>
                </a:moveTo>
                <a:cubicBezTo>
                  <a:pt x="10873" y="9189"/>
                  <a:pt x="10891" y="9233"/>
                  <a:pt x="10914" y="9277"/>
                </a:cubicBezTo>
                <a:cubicBezTo>
                  <a:pt x="10983" y="9407"/>
                  <a:pt x="11008" y="9555"/>
                  <a:pt x="11013" y="9699"/>
                </a:cubicBezTo>
                <a:cubicBezTo>
                  <a:pt x="11016" y="9803"/>
                  <a:pt x="11017" y="9897"/>
                  <a:pt x="10988" y="9996"/>
                </a:cubicBezTo>
                <a:cubicBezTo>
                  <a:pt x="10962" y="10086"/>
                  <a:pt x="10898" y="10145"/>
                  <a:pt x="10864" y="10220"/>
                </a:cubicBezTo>
                <a:cubicBezTo>
                  <a:pt x="10843" y="10267"/>
                  <a:pt x="10840" y="10236"/>
                  <a:pt x="10840" y="10195"/>
                </a:cubicBezTo>
              </a:path>
              <a:path w="1539" h="1167">
                <a:moveTo>
                  <a:pt x="11286" y="9723"/>
                </a:moveTo>
                <a:cubicBezTo>
                  <a:pt x="11366" y="9723"/>
                  <a:pt x="11419" y="9725"/>
                  <a:pt x="11485" y="9748"/>
                </a:cubicBezTo>
                <a:cubicBezTo>
                  <a:pt x="11493" y="9748"/>
                  <a:pt x="11501" y="9748"/>
                  <a:pt x="11509" y="9748"/>
                </a:cubicBezTo>
              </a:path>
              <a:path w="1539" h="1167">
                <a:moveTo>
                  <a:pt x="11286" y="9947"/>
                </a:moveTo>
                <a:cubicBezTo>
                  <a:pt x="11338" y="9968"/>
                  <a:pt x="11401" y="9987"/>
                  <a:pt x="11460" y="9971"/>
                </a:cubicBezTo>
                <a:cubicBezTo>
                  <a:pt x="11509" y="9947"/>
                  <a:pt x="11526" y="9939"/>
                  <a:pt x="11559" y="99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86160" y="3321000"/>
            <a:ext cx="196920" cy="314280"/>
          </a:xfrm>
          <a:custGeom>
            <a:avLst/>
            <a:gdLst/>
            <a:ahLst/>
            <a:rect l="l" t="t" r="r" b="b"/>
            <a:pathLst>
              <a:path w="547" h="870">
                <a:moveTo>
                  <a:pt x="11906" y="9351"/>
                </a:moveTo>
                <a:cubicBezTo>
                  <a:pt x="11942" y="9311"/>
                  <a:pt x="11998" y="9243"/>
                  <a:pt x="12055" y="9227"/>
                </a:cubicBezTo>
                <a:cubicBezTo>
                  <a:pt x="12121" y="9208"/>
                  <a:pt x="12155" y="9248"/>
                  <a:pt x="12204" y="9277"/>
                </a:cubicBezTo>
                <a:cubicBezTo>
                  <a:pt x="12272" y="9318"/>
                  <a:pt x="12290" y="9413"/>
                  <a:pt x="12278" y="9500"/>
                </a:cubicBezTo>
                <a:cubicBezTo>
                  <a:pt x="12266" y="9591"/>
                  <a:pt x="12227" y="9742"/>
                  <a:pt x="12179" y="9823"/>
                </a:cubicBezTo>
                <a:cubicBezTo>
                  <a:pt x="12151" y="9870"/>
                  <a:pt x="12071" y="9989"/>
                  <a:pt x="12005" y="9996"/>
                </a:cubicBezTo>
                <a:cubicBezTo>
                  <a:pt x="11953" y="10002"/>
                  <a:pt x="11956" y="9959"/>
                  <a:pt x="11956" y="9922"/>
                </a:cubicBezTo>
                <a:cubicBezTo>
                  <a:pt x="11956" y="9869"/>
                  <a:pt x="12006" y="9892"/>
                  <a:pt x="12030" y="9897"/>
                </a:cubicBezTo>
                <a:cubicBezTo>
                  <a:pt x="12091" y="9911"/>
                  <a:pt x="12093" y="9948"/>
                  <a:pt x="12129" y="9996"/>
                </a:cubicBezTo>
                <a:cubicBezTo>
                  <a:pt x="12155" y="10031"/>
                  <a:pt x="12161" y="10103"/>
                  <a:pt x="12204" y="10096"/>
                </a:cubicBezTo>
                <a:cubicBezTo>
                  <a:pt x="12227" y="10073"/>
                  <a:pt x="12235" y="10069"/>
                  <a:pt x="12229" y="10046"/>
                </a:cubicBezTo>
              </a:path>
              <a:path w="547" h="870">
                <a:moveTo>
                  <a:pt x="12452" y="9971"/>
                </a:moveTo>
                <a:cubicBezTo>
                  <a:pt x="12452" y="9988"/>
                  <a:pt x="12452" y="10004"/>
                  <a:pt x="12452" y="100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7920" y="3340080"/>
            <a:ext cx="27000" cy="295200"/>
          </a:xfrm>
          <a:custGeom>
            <a:avLst/>
            <a:gdLst/>
            <a:ahLst/>
            <a:rect l="l" t="t" r="r" b="b"/>
            <a:pathLst>
              <a:path w="76" h="820">
                <a:moveTo>
                  <a:pt x="13022" y="9277"/>
                </a:moveTo>
                <a:cubicBezTo>
                  <a:pt x="13022" y="9509"/>
                  <a:pt x="13012" y="9748"/>
                  <a:pt x="13047" y="9971"/>
                </a:cubicBezTo>
                <a:cubicBezTo>
                  <a:pt x="13057" y="10037"/>
                  <a:pt x="13023" y="10077"/>
                  <a:pt x="13097" y="100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75120" y="3367080"/>
            <a:ext cx="250920" cy="285840"/>
          </a:xfrm>
          <a:custGeom>
            <a:avLst/>
            <a:gdLst/>
            <a:ahLst/>
            <a:rect l="l" t="t" r="r" b="b"/>
            <a:pathLst>
              <a:path w="696" h="795">
                <a:moveTo>
                  <a:pt x="13568" y="9376"/>
                </a:moveTo>
                <a:cubicBezTo>
                  <a:pt x="13568" y="9480"/>
                  <a:pt x="13547" y="9574"/>
                  <a:pt x="13543" y="9674"/>
                </a:cubicBezTo>
                <a:cubicBezTo>
                  <a:pt x="13539" y="9767"/>
                  <a:pt x="13534" y="9859"/>
                  <a:pt x="13568" y="9947"/>
                </a:cubicBezTo>
                <a:cubicBezTo>
                  <a:pt x="13598" y="10025"/>
                  <a:pt x="13664" y="10101"/>
                  <a:pt x="13742" y="10120"/>
                </a:cubicBezTo>
                <a:cubicBezTo>
                  <a:pt x="13860" y="10149"/>
                  <a:pt x="13898" y="10118"/>
                  <a:pt x="14015" y="10071"/>
                </a:cubicBezTo>
                <a:cubicBezTo>
                  <a:pt x="14118" y="10030"/>
                  <a:pt x="14140" y="9993"/>
                  <a:pt x="14188" y="9897"/>
                </a:cubicBezTo>
                <a:cubicBezTo>
                  <a:pt x="14242" y="9789"/>
                  <a:pt x="14229" y="9759"/>
                  <a:pt x="14213" y="9649"/>
                </a:cubicBezTo>
                <a:cubicBezTo>
                  <a:pt x="14199" y="9550"/>
                  <a:pt x="14176" y="9488"/>
                  <a:pt x="14089" y="9426"/>
                </a:cubicBezTo>
                <a:cubicBezTo>
                  <a:pt x="14025" y="9380"/>
                  <a:pt x="13943" y="9355"/>
                  <a:pt x="13866" y="9351"/>
                </a:cubicBezTo>
                <a:cubicBezTo>
                  <a:pt x="13802" y="9348"/>
                  <a:pt x="13770" y="9363"/>
                  <a:pt x="13717" y="937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960" y="1741320"/>
            <a:ext cx="473040" cy="527040"/>
          </a:xfrm>
          <a:custGeom>
            <a:avLst/>
            <a:gdLst/>
            <a:ahLst/>
            <a:rect l="l" t="t" r="r" b="b"/>
            <a:pathLst>
              <a:path w="1316" h="1464">
                <a:moveTo>
                  <a:pt x="2059" y="5209"/>
                </a:moveTo>
                <a:cubicBezTo>
                  <a:pt x="2059" y="5142"/>
                  <a:pt x="2059" y="5248"/>
                  <a:pt x="2059" y="5259"/>
                </a:cubicBezTo>
                <a:cubicBezTo>
                  <a:pt x="2059" y="5453"/>
                  <a:pt x="2056" y="5641"/>
                  <a:pt x="2034" y="5829"/>
                </a:cubicBezTo>
                <a:cubicBezTo>
                  <a:pt x="2020" y="5947"/>
                  <a:pt x="2028" y="6063"/>
                  <a:pt x="2009" y="6176"/>
                </a:cubicBezTo>
                <a:cubicBezTo>
                  <a:pt x="2007" y="6185"/>
                  <a:pt x="2009" y="6340"/>
                  <a:pt x="2009" y="6276"/>
                </a:cubicBezTo>
                <a:cubicBezTo>
                  <a:pt x="2009" y="6243"/>
                  <a:pt x="2009" y="6209"/>
                  <a:pt x="2009" y="6176"/>
                </a:cubicBezTo>
              </a:path>
              <a:path w="1316" h="1464">
                <a:moveTo>
                  <a:pt x="2406" y="5308"/>
                </a:moveTo>
                <a:cubicBezTo>
                  <a:pt x="2395" y="5353"/>
                  <a:pt x="2381" y="5378"/>
                  <a:pt x="2381" y="5432"/>
                </a:cubicBezTo>
                <a:cubicBezTo>
                  <a:pt x="2381" y="5482"/>
                  <a:pt x="2353" y="5518"/>
                  <a:pt x="2332" y="5556"/>
                </a:cubicBezTo>
                <a:cubicBezTo>
                  <a:pt x="2316" y="5585"/>
                  <a:pt x="2287" y="5646"/>
                  <a:pt x="2282" y="5655"/>
                </a:cubicBezTo>
                <a:cubicBezTo>
                  <a:pt x="2282" y="5663"/>
                  <a:pt x="2282" y="5672"/>
                  <a:pt x="2282" y="5680"/>
                </a:cubicBezTo>
                <a:cubicBezTo>
                  <a:pt x="2295" y="5718"/>
                  <a:pt x="2311" y="5705"/>
                  <a:pt x="2356" y="5705"/>
                </a:cubicBezTo>
                <a:cubicBezTo>
                  <a:pt x="2500" y="5705"/>
                  <a:pt x="2642" y="5712"/>
                  <a:pt x="2778" y="5680"/>
                </a:cubicBezTo>
                <a:cubicBezTo>
                  <a:pt x="2815" y="5671"/>
                  <a:pt x="2824" y="5659"/>
                  <a:pt x="2853" y="5631"/>
                </a:cubicBezTo>
              </a:path>
              <a:path w="1316" h="1464">
                <a:moveTo>
                  <a:pt x="2803" y="5135"/>
                </a:moveTo>
                <a:cubicBezTo>
                  <a:pt x="2746" y="5208"/>
                  <a:pt x="2771" y="5236"/>
                  <a:pt x="2778" y="5333"/>
                </a:cubicBezTo>
                <a:cubicBezTo>
                  <a:pt x="2784" y="5425"/>
                  <a:pt x="2753" y="5511"/>
                  <a:pt x="2753" y="5606"/>
                </a:cubicBezTo>
                <a:cubicBezTo>
                  <a:pt x="2753" y="5767"/>
                  <a:pt x="2730" y="5958"/>
                  <a:pt x="2778" y="6102"/>
                </a:cubicBezTo>
                <a:cubicBezTo>
                  <a:pt x="2796" y="6155"/>
                  <a:pt x="2778" y="6074"/>
                  <a:pt x="2778" y="6052"/>
                </a:cubicBezTo>
                <a:cubicBezTo>
                  <a:pt x="2778" y="6019"/>
                  <a:pt x="2778" y="6003"/>
                  <a:pt x="2778" y="5978"/>
                </a:cubicBezTo>
              </a:path>
              <a:path w="1316" h="1464">
                <a:moveTo>
                  <a:pt x="2853" y="4837"/>
                </a:moveTo>
                <a:cubicBezTo>
                  <a:pt x="2952" y="4917"/>
                  <a:pt x="2989" y="5002"/>
                  <a:pt x="3051" y="5110"/>
                </a:cubicBezTo>
                <a:cubicBezTo>
                  <a:pt x="3118" y="5225"/>
                  <a:pt x="3167" y="5341"/>
                  <a:pt x="3225" y="5457"/>
                </a:cubicBezTo>
                <a:cubicBezTo>
                  <a:pt x="3279" y="5565"/>
                  <a:pt x="3319" y="5656"/>
                  <a:pt x="3324" y="5779"/>
                </a:cubicBezTo>
                <a:cubicBezTo>
                  <a:pt x="3328" y="5887"/>
                  <a:pt x="3298" y="5947"/>
                  <a:pt x="3249" y="6028"/>
                </a:cubicBezTo>
                <a:cubicBezTo>
                  <a:pt x="3214" y="6086"/>
                  <a:pt x="3213" y="6154"/>
                  <a:pt x="3175" y="6201"/>
                </a:cubicBezTo>
                <a:cubicBezTo>
                  <a:pt x="3143" y="6241"/>
                  <a:pt x="3156" y="6251"/>
                  <a:pt x="3150" y="630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0040" y="1143000"/>
            <a:ext cx="1911240" cy="1089000"/>
          </a:xfrm>
          <a:custGeom>
            <a:avLst/>
            <a:gdLst/>
            <a:ahLst/>
            <a:rect l="l" t="t" r="r" b="b"/>
            <a:pathLst>
              <a:path w="5310" h="3027">
                <a:moveTo>
                  <a:pt x="5159" y="3894"/>
                </a:moveTo>
                <a:cubicBezTo>
                  <a:pt x="5159" y="3871"/>
                  <a:pt x="5159" y="3871"/>
                  <a:pt x="5159" y="3894"/>
                </a:cubicBezTo>
                <a:cubicBezTo>
                  <a:pt x="5159" y="4107"/>
                  <a:pt x="5180" y="4336"/>
                  <a:pt x="5135" y="4539"/>
                </a:cubicBezTo>
                <a:cubicBezTo>
                  <a:pt x="5130" y="4562"/>
                  <a:pt x="5154" y="4685"/>
                  <a:pt x="5110" y="4663"/>
                </a:cubicBezTo>
                <a:cubicBezTo>
                  <a:pt x="5102" y="4655"/>
                  <a:pt x="5093" y="4646"/>
                  <a:pt x="5085" y="4638"/>
                </a:cubicBezTo>
              </a:path>
              <a:path w="5310" h="3027">
                <a:moveTo>
                  <a:pt x="4638" y="4812"/>
                </a:moveTo>
                <a:cubicBezTo>
                  <a:pt x="4651" y="4852"/>
                  <a:pt x="4686" y="4859"/>
                  <a:pt x="4738" y="4862"/>
                </a:cubicBezTo>
                <a:cubicBezTo>
                  <a:pt x="4827" y="4867"/>
                  <a:pt x="4901" y="4846"/>
                  <a:pt x="4986" y="4837"/>
                </a:cubicBezTo>
                <a:cubicBezTo>
                  <a:pt x="5109" y="4823"/>
                  <a:pt x="5237" y="4826"/>
                  <a:pt x="5358" y="4812"/>
                </a:cubicBezTo>
                <a:cubicBezTo>
                  <a:pt x="5370" y="4811"/>
                  <a:pt x="5589" y="4812"/>
                  <a:pt x="5556" y="4837"/>
                </a:cubicBezTo>
                <a:cubicBezTo>
                  <a:pt x="5528" y="4837"/>
                  <a:pt x="5517" y="4839"/>
                  <a:pt x="5507" y="4862"/>
                </a:cubicBezTo>
              </a:path>
              <a:path w="5310" h="3027">
                <a:moveTo>
                  <a:pt x="4936" y="5159"/>
                </a:moveTo>
                <a:cubicBezTo>
                  <a:pt x="4970" y="5148"/>
                  <a:pt x="4967" y="5125"/>
                  <a:pt x="5011" y="5110"/>
                </a:cubicBezTo>
                <a:cubicBezTo>
                  <a:pt x="5045" y="5098"/>
                  <a:pt x="5100" y="5087"/>
                  <a:pt x="5135" y="5085"/>
                </a:cubicBezTo>
                <a:cubicBezTo>
                  <a:pt x="5201" y="5082"/>
                  <a:pt x="5236" y="5104"/>
                  <a:pt x="5283" y="5135"/>
                </a:cubicBezTo>
                <a:cubicBezTo>
                  <a:pt x="5339" y="5171"/>
                  <a:pt x="5298" y="5290"/>
                  <a:pt x="5283" y="5333"/>
                </a:cubicBezTo>
                <a:cubicBezTo>
                  <a:pt x="5259" y="5403"/>
                  <a:pt x="5185" y="5478"/>
                  <a:pt x="5135" y="5531"/>
                </a:cubicBezTo>
                <a:cubicBezTo>
                  <a:pt x="5074" y="5595"/>
                  <a:pt x="5010" y="5657"/>
                  <a:pt x="4961" y="5730"/>
                </a:cubicBezTo>
                <a:cubicBezTo>
                  <a:pt x="4937" y="5765"/>
                  <a:pt x="4891" y="5814"/>
                  <a:pt x="4887" y="5854"/>
                </a:cubicBezTo>
                <a:cubicBezTo>
                  <a:pt x="4882" y="5897"/>
                  <a:pt x="4923" y="5918"/>
                  <a:pt x="4961" y="5904"/>
                </a:cubicBezTo>
                <a:cubicBezTo>
                  <a:pt x="5038" y="5876"/>
                  <a:pt x="5127" y="5860"/>
                  <a:pt x="5209" y="5854"/>
                </a:cubicBezTo>
                <a:cubicBezTo>
                  <a:pt x="5279" y="5849"/>
                  <a:pt x="5362" y="5865"/>
                  <a:pt x="5358" y="5854"/>
                </a:cubicBezTo>
                <a:cubicBezTo>
                  <a:pt x="5358" y="5826"/>
                  <a:pt x="5360" y="5815"/>
                  <a:pt x="5383" y="5804"/>
                </a:cubicBezTo>
              </a:path>
              <a:path w="5310" h="3027">
                <a:moveTo>
                  <a:pt x="6102" y="3770"/>
                </a:moveTo>
                <a:cubicBezTo>
                  <a:pt x="6271" y="3770"/>
                  <a:pt x="6436" y="3766"/>
                  <a:pt x="6598" y="3746"/>
                </a:cubicBezTo>
                <a:cubicBezTo>
                  <a:pt x="6623" y="3743"/>
                  <a:pt x="6819" y="3746"/>
                  <a:pt x="6772" y="3746"/>
                </a:cubicBezTo>
                <a:cubicBezTo>
                  <a:pt x="6755" y="3746"/>
                  <a:pt x="6739" y="3746"/>
                  <a:pt x="6722" y="3746"/>
                </a:cubicBezTo>
              </a:path>
              <a:path w="5310" h="3027">
                <a:moveTo>
                  <a:pt x="6102" y="3870"/>
                </a:moveTo>
                <a:cubicBezTo>
                  <a:pt x="6095" y="3948"/>
                  <a:pt x="6079" y="4015"/>
                  <a:pt x="6077" y="4093"/>
                </a:cubicBezTo>
                <a:cubicBezTo>
                  <a:pt x="6074" y="4202"/>
                  <a:pt x="6082" y="4292"/>
                  <a:pt x="6077" y="4390"/>
                </a:cubicBezTo>
                <a:cubicBezTo>
                  <a:pt x="6071" y="4493"/>
                  <a:pt x="6055" y="4586"/>
                  <a:pt x="6052" y="4688"/>
                </a:cubicBezTo>
                <a:cubicBezTo>
                  <a:pt x="6049" y="4791"/>
                  <a:pt x="6044" y="4909"/>
                  <a:pt x="6028" y="5011"/>
                </a:cubicBezTo>
                <a:cubicBezTo>
                  <a:pt x="6009" y="5138"/>
                  <a:pt x="5976" y="5256"/>
                  <a:pt x="5953" y="5383"/>
                </a:cubicBezTo>
                <a:cubicBezTo>
                  <a:pt x="5928" y="5522"/>
                  <a:pt x="5909" y="5669"/>
                  <a:pt x="5879" y="5804"/>
                </a:cubicBezTo>
                <a:cubicBezTo>
                  <a:pt x="5861" y="5886"/>
                  <a:pt x="5854" y="5975"/>
                  <a:pt x="5829" y="6052"/>
                </a:cubicBezTo>
                <a:cubicBezTo>
                  <a:pt x="5811" y="6107"/>
                  <a:pt x="5807" y="6121"/>
                  <a:pt x="5804" y="6176"/>
                </a:cubicBezTo>
                <a:cubicBezTo>
                  <a:pt x="5804" y="6184"/>
                  <a:pt x="5804" y="6193"/>
                  <a:pt x="5804" y="6201"/>
                </a:cubicBezTo>
                <a:cubicBezTo>
                  <a:pt x="5842" y="6188"/>
                  <a:pt x="5862" y="6181"/>
                  <a:pt x="5904" y="6176"/>
                </a:cubicBezTo>
                <a:cubicBezTo>
                  <a:pt x="6182" y="6142"/>
                  <a:pt x="6503" y="6168"/>
                  <a:pt x="6772" y="6201"/>
                </a:cubicBezTo>
                <a:cubicBezTo>
                  <a:pt x="6813" y="6206"/>
                  <a:pt x="6855" y="6198"/>
                  <a:pt x="6896" y="6201"/>
                </a:cubicBezTo>
              </a:path>
              <a:path w="5310" h="3027">
                <a:moveTo>
                  <a:pt x="7466" y="4266"/>
                </a:moveTo>
                <a:cubicBezTo>
                  <a:pt x="7504" y="4279"/>
                  <a:pt x="7491" y="4296"/>
                  <a:pt x="7491" y="4341"/>
                </a:cubicBezTo>
                <a:cubicBezTo>
                  <a:pt x="7491" y="4549"/>
                  <a:pt x="7499" y="4761"/>
                  <a:pt x="7466" y="4961"/>
                </a:cubicBezTo>
                <a:cubicBezTo>
                  <a:pt x="7443" y="5100"/>
                  <a:pt x="7466" y="5474"/>
                  <a:pt x="7466" y="5333"/>
                </a:cubicBezTo>
              </a:path>
              <a:path w="5310" h="3027">
                <a:moveTo>
                  <a:pt x="7739" y="5035"/>
                </a:moveTo>
                <a:cubicBezTo>
                  <a:pt x="7705" y="5103"/>
                  <a:pt x="7708" y="5143"/>
                  <a:pt x="7689" y="5209"/>
                </a:cubicBezTo>
                <a:cubicBezTo>
                  <a:pt x="7673" y="5266"/>
                  <a:pt x="7656" y="5282"/>
                  <a:pt x="7689" y="5333"/>
                </a:cubicBezTo>
                <a:cubicBezTo>
                  <a:pt x="7713" y="5370"/>
                  <a:pt x="7751" y="5358"/>
                  <a:pt x="7789" y="5358"/>
                </a:cubicBezTo>
                <a:cubicBezTo>
                  <a:pt x="7825" y="5358"/>
                  <a:pt x="7868" y="5313"/>
                  <a:pt x="7888" y="5283"/>
                </a:cubicBezTo>
                <a:cubicBezTo>
                  <a:pt x="7921" y="5232"/>
                  <a:pt x="7975" y="5122"/>
                  <a:pt x="7962" y="5060"/>
                </a:cubicBezTo>
                <a:cubicBezTo>
                  <a:pt x="7955" y="5027"/>
                  <a:pt x="7929" y="4936"/>
                  <a:pt x="7913" y="4911"/>
                </a:cubicBezTo>
                <a:cubicBezTo>
                  <a:pt x="7891" y="4876"/>
                  <a:pt x="7883" y="4842"/>
                  <a:pt x="7838" y="4837"/>
                </a:cubicBezTo>
                <a:cubicBezTo>
                  <a:pt x="7779" y="4830"/>
                  <a:pt x="7788" y="4851"/>
                  <a:pt x="7764" y="4887"/>
                </a:cubicBezTo>
                <a:cubicBezTo>
                  <a:pt x="7734" y="4931"/>
                  <a:pt x="7739" y="4953"/>
                  <a:pt x="7739" y="5011"/>
                </a:cubicBezTo>
                <a:cubicBezTo>
                  <a:pt x="7739" y="5052"/>
                  <a:pt x="7739" y="5094"/>
                  <a:pt x="7739" y="5135"/>
                </a:cubicBezTo>
              </a:path>
              <a:path w="5310" h="3027">
                <a:moveTo>
                  <a:pt x="8310" y="4887"/>
                </a:moveTo>
                <a:cubicBezTo>
                  <a:pt x="8310" y="4812"/>
                  <a:pt x="8335" y="4779"/>
                  <a:pt x="8285" y="4787"/>
                </a:cubicBezTo>
                <a:cubicBezTo>
                  <a:pt x="8224" y="4802"/>
                  <a:pt x="8223" y="4838"/>
                  <a:pt x="8186" y="4887"/>
                </a:cubicBezTo>
                <a:cubicBezTo>
                  <a:pt x="8138" y="4951"/>
                  <a:pt x="8134" y="5015"/>
                  <a:pt x="8111" y="5085"/>
                </a:cubicBezTo>
                <a:cubicBezTo>
                  <a:pt x="8089" y="5152"/>
                  <a:pt x="8080" y="5216"/>
                  <a:pt x="8111" y="5283"/>
                </a:cubicBezTo>
                <a:cubicBezTo>
                  <a:pt x="8129" y="5321"/>
                  <a:pt x="8160" y="5358"/>
                  <a:pt x="8210" y="5333"/>
                </a:cubicBezTo>
                <a:cubicBezTo>
                  <a:pt x="8235" y="5320"/>
                  <a:pt x="8280" y="5258"/>
                  <a:pt x="8285" y="5234"/>
                </a:cubicBezTo>
                <a:cubicBezTo>
                  <a:pt x="8297" y="5179"/>
                  <a:pt x="8287" y="5111"/>
                  <a:pt x="8310" y="5060"/>
                </a:cubicBezTo>
                <a:cubicBezTo>
                  <a:pt x="8330" y="5016"/>
                  <a:pt x="8334" y="4988"/>
                  <a:pt x="8334" y="4936"/>
                </a:cubicBezTo>
                <a:cubicBezTo>
                  <a:pt x="8388" y="4954"/>
                  <a:pt x="8338" y="4981"/>
                  <a:pt x="8334" y="5035"/>
                </a:cubicBezTo>
                <a:cubicBezTo>
                  <a:pt x="8318" y="5273"/>
                  <a:pt x="8406" y="5610"/>
                  <a:pt x="8310" y="5829"/>
                </a:cubicBezTo>
                <a:cubicBezTo>
                  <a:pt x="8270" y="5921"/>
                  <a:pt x="8237" y="5963"/>
                  <a:pt x="8136" y="5978"/>
                </a:cubicBezTo>
                <a:cubicBezTo>
                  <a:pt x="8098" y="5983"/>
                  <a:pt x="8066" y="5989"/>
                  <a:pt x="8062" y="5953"/>
                </a:cubicBezTo>
                <a:cubicBezTo>
                  <a:pt x="8057" y="5910"/>
                  <a:pt x="8069" y="5896"/>
                  <a:pt x="8086" y="5854"/>
                </a:cubicBezTo>
              </a:path>
              <a:path w="5310" h="3027">
                <a:moveTo>
                  <a:pt x="8508" y="5358"/>
                </a:moveTo>
                <a:cubicBezTo>
                  <a:pt x="8546" y="5342"/>
                  <a:pt x="8613" y="5311"/>
                  <a:pt x="8657" y="5333"/>
                </a:cubicBezTo>
                <a:cubicBezTo>
                  <a:pt x="8692" y="5350"/>
                  <a:pt x="8726" y="5366"/>
                  <a:pt x="8731" y="5407"/>
                </a:cubicBezTo>
                <a:cubicBezTo>
                  <a:pt x="8737" y="5458"/>
                  <a:pt x="8717" y="5473"/>
                  <a:pt x="8682" y="5507"/>
                </a:cubicBezTo>
                <a:cubicBezTo>
                  <a:pt x="8641" y="5547"/>
                  <a:pt x="8564" y="5597"/>
                  <a:pt x="8558" y="5655"/>
                </a:cubicBezTo>
                <a:cubicBezTo>
                  <a:pt x="8558" y="5663"/>
                  <a:pt x="8558" y="5672"/>
                  <a:pt x="8558" y="5680"/>
                </a:cubicBezTo>
                <a:cubicBezTo>
                  <a:pt x="8633" y="5680"/>
                  <a:pt x="8758" y="5686"/>
                  <a:pt x="8756" y="5680"/>
                </a:cubicBezTo>
                <a:cubicBezTo>
                  <a:pt x="8756" y="5655"/>
                  <a:pt x="8756" y="5647"/>
                  <a:pt x="8781" y="5655"/>
                </a:cubicBezTo>
              </a:path>
              <a:path w="5310" h="3027">
                <a:moveTo>
                  <a:pt x="6449" y="4614"/>
                </a:moveTo>
                <a:cubicBezTo>
                  <a:pt x="6455" y="4565"/>
                  <a:pt x="6441" y="4554"/>
                  <a:pt x="6474" y="4514"/>
                </a:cubicBezTo>
                <a:cubicBezTo>
                  <a:pt x="6505" y="4476"/>
                  <a:pt x="6511" y="4430"/>
                  <a:pt x="6548" y="4390"/>
                </a:cubicBezTo>
                <a:cubicBezTo>
                  <a:pt x="6595" y="4338"/>
                  <a:pt x="6620" y="4342"/>
                  <a:pt x="6672" y="4316"/>
                </a:cubicBezTo>
                <a:cubicBezTo>
                  <a:pt x="6716" y="4294"/>
                  <a:pt x="6763" y="4275"/>
                  <a:pt x="6821" y="4291"/>
                </a:cubicBezTo>
                <a:cubicBezTo>
                  <a:pt x="6893" y="4311"/>
                  <a:pt x="6868" y="4335"/>
                  <a:pt x="6896" y="4390"/>
                </a:cubicBezTo>
                <a:cubicBezTo>
                  <a:pt x="6919" y="4436"/>
                  <a:pt x="6938" y="4505"/>
                  <a:pt x="6921" y="4564"/>
                </a:cubicBezTo>
                <a:cubicBezTo>
                  <a:pt x="6897" y="4649"/>
                  <a:pt x="6876" y="4726"/>
                  <a:pt x="6846" y="4812"/>
                </a:cubicBezTo>
                <a:cubicBezTo>
                  <a:pt x="6806" y="4926"/>
                  <a:pt x="6782" y="5048"/>
                  <a:pt x="6747" y="5159"/>
                </a:cubicBezTo>
                <a:cubicBezTo>
                  <a:pt x="6724" y="5231"/>
                  <a:pt x="6673" y="5328"/>
                  <a:pt x="6623" y="5383"/>
                </a:cubicBezTo>
                <a:cubicBezTo>
                  <a:pt x="6600" y="5409"/>
                  <a:pt x="6573" y="5432"/>
                  <a:pt x="6548" y="5457"/>
                </a:cubicBezTo>
                <a:cubicBezTo>
                  <a:pt x="6566" y="5445"/>
                  <a:pt x="6599" y="5413"/>
                  <a:pt x="6648" y="5407"/>
                </a:cubicBezTo>
                <a:cubicBezTo>
                  <a:pt x="6771" y="5391"/>
                  <a:pt x="7100" y="5356"/>
                  <a:pt x="7193" y="5432"/>
                </a:cubicBezTo>
                <a:cubicBezTo>
                  <a:pt x="7201" y="5440"/>
                  <a:pt x="7210" y="5449"/>
                  <a:pt x="7218" y="5457"/>
                </a:cubicBezTo>
              </a:path>
              <a:path w="5310" h="3027">
                <a:moveTo>
                  <a:pt x="9401" y="4663"/>
                </a:moveTo>
                <a:cubicBezTo>
                  <a:pt x="9376" y="4663"/>
                  <a:pt x="9368" y="4663"/>
                  <a:pt x="9376" y="4638"/>
                </a:cubicBezTo>
                <a:cubicBezTo>
                  <a:pt x="9410" y="4672"/>
                  <a:pt x="9429" y="4700"/>
                  <a:pt x="9451" y="4738"/>
                </a:cubicBezTo>
                <a:cubicBezTo>
                  <a:pt x="9547" y="4909"/>
                  <a:pt x="9623" y="5092"/>
                  <a:pt x="9723" y="5259"/>
                </a:cubicBezTo>
                <a:cubicBezTo>
                  <a:pt x="9742" y="5290"/>
                  <a:pt x="9755" y="5349"/>
                  <a:pt x="9773" y="5358"/>
                </a:cubicBezTo>
                <a:cubicBezTo>
                  <a:pt x="9812" y="5377"/>
                  <a:pt x="9833" y="5303"/>
                  <a:pt x="9847" y="5283"/>
                </a:cubicBezTo>
              </a:path>
              <a:path w="5310" h="3027">
                <a:moveTo>
                  <a:pt x="9947" y="4614"/>
                </a:moveTo>
                <a:cubicBezTo>
                  <a:pt x="9938" y="4648"/>
                  <a:pt x="9898" y="4709"/>
                  <a:pt x="9872" y="4738"/>
                </a:cubicBezTo>
                <a:cubicBezTo>
                  <a:pt x="9790" y="4830"/>
                  <a:pt x="9711" y="4923"/>
                  <a:pt x="9624" y="5011"/>
                </a:cubicBezTo>
                <a:cubicBezTo>
                  <a:pt x="9550" y="5085"/>
                  <a:pt x="9476" y="5195"/>
                  <a:pt x="9401" y="5259"/>
                </a:cubicBezTo>
                <a:cubicBezTo>
                  <a:pt x="9384" y="5274"/>
                  <a:pt x="9311" y="5352"/>
                  <a:pt x="9302" y="5358"/>
                </a:cubicBezTo>
                <a:cubicBezTo>
                  <a:pt x="9264" y="5383"/>
                  <a:pt x="9289" y="5396"/>
                  <a:pt x="9302" y="5358"/>
                </a:cubicBezTo>
              </a:path>
              <a:path w="5310" h="3027">
                <a:moveTo>
                  <a:pt x="4887" y="3473"/>
                </a:moveTo>
                <a:cubicBezTo>
                  <a:pt x="4892" y="3433"/>
                  <a:pt x="4884" y="3378"/>
                  <a:pt x="4911" y="3349"/>
                </a:cubicBezTo>
                <a:cubicBezTo>
                  <a:pt x="4969" y="3286"/>
                  <a:pt x="5058" y="3251"/>
                  <a:pt x="5135" y="3225"/>
                </a:cubicBezTo>
                <a:cubicBezTo>
                  <a:pt x="5313" y="3164"/>
                  <a:pt x="5523" y="3177"/>
                  <a:pt x="5705" y="3200"/>
                </a:cubicBezTo>
                <a:cubicBezTo>
                  <a:pt x="5822" y="3215"/>
                  <a:pt x="5908" y="3276"/>
                  <a:pt x="6003" y="3324"/>
                </a:cubicBezTo>
                <a:cubicBezTo>
                  <a:pt x="6097" y="3371"/>
                  <a:pt x="6116" y="3394"/>
                  <a:pt x="6176" y="3473"/>
                </a:cubicBezTo>
                <a:cubicBezTo>
                  <a:pt x="6219" y="3530"/>
                  <a:pt x="6231" y="3477"/>
                  <a:pt x="6201" y="3522"/>
                </a:cubicBezTo>
                <a:cubicBezTo>
                  <a:pt x="6201" y="3547"/>
                  <a:pt x="6201" y="3555"/>
                  <a:pt x="6176" y="3547"/>
                </a:cubicBezTo>
              </a:path>
              <a:path w="5310" h="3027">
                <a:moveTo>
                  <a:pt x="5879" y="3522"/>
                </a:moveTo>
                <a:cubicBezTo>
                  <a:pt x="5918" y="3562"/>
                  <a:pt x="5955" y="3582"/>
                  <a:pt x="6003" y="3597"/>
                </a:cubicBezTo>
                <a:cubicBezTo>
                  <a:pt x="6106" y="3629"/>
                  <a:pt x="6119" y="3621"/>
                  <a:pt x="6201" y="3597"/>
                </a:cubicBezTo>
                <a:cubicBezTo>
                  <a:pt x="6239" y="3586"/>
                  <a:pt x="6276" y="3560"/>
                  <a:pt x="6300" y="3522"/>
                </a:cubicBezTo>
                <a:cubicBezTo>
                  <a:pt x="6337" y="3465"/>
                  <a:pt x="6335" y="3407"/>
                  <a:pt x="6300" y="3349"/>
                </a:cubicBezTo>
                <a:cubicBezTo>
                  <a:pt x="6276" y="3310"/>
                  <a:pt x="6215" y="3293"/>
                  <a:pt x="6176" y="32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90960" y="1482840"/>
            <a:ext cx="1036800" cy="768240"/>
          </a:xfrm>
          <a:custGeom>
            <a:avLst/>
            <a:gdLst/>
            <a:ahLst/>
            <a:rect l="l" t="t" r="r" b="b"/>
            <a:pathLst>
              <a:path w="2878" h="2134">
                <a:moveTo>
                  <a:pt x="11088" y="5011"/>
                </a:moveTo>
                <a:cubicBezTo>
                  <a:pt x="11134" y="5011"/>
                  <a:pt x="11152" y="5028"/>
                  <a:pt x="11187" y="5035"/>
                </a:cubicBezTo>
                <a:cubicBezTo>
                  <a:pt x="11274" y="5053"/>
                  <a:pt x="11371" y="5057"/>
                  <a:pt x="11460" y="5060"/>
                </a:cubicBezTo>
                <a:cubicBezTo>
                  <a:pt x="11526" y="5062"/>
                  <a:pt x="11592" y="5060"/>
                  <a:pt x="11658" y="5060"/>
                </a:cubicBezTo>
                <a:cubicBezTo>
                  <a:pt x="11623" y="5033"/>
                  <a:pt x="11628" y="5035"/>
                  <a:pt x="11584" y="5035"/>
                </a:cubicBezTo>
              </a:path>
              <a:path w="2878" h="2134">
                <a:moveTo>
                  <a:pt x="12204" y="4118"/>
                </a:moveTo>
                <a:cubicBezTo>
                  <a:pt x="12197" y="4246"/>
                  <a:pt x="12179" y="4360"/>
                  <a:pt x="12179" y="4490"/>
                </a:cubicBezTo>
                <a:cubicBezTo>
                  <a:pt x="12179" y="4749"/>
                  <a:pt x="12176" y="5006"/>
                  <a:pt x="12204" y="5259"/>
                </a:cubicBezTo>
                <a:cubicBezTo>
                  <a:pt x="12209" y="5306"/>
                  <a:pt x="12166" y="5425"/>
                  <a:pt x="12179" y="5457"/>
                </a:cubicBezTo>
                <a:cubicBezTo>
                  <a:pt x="12202" y="5480"/>
                  <a:pt x="12210" y="5484"/>
                  <a:pt x="12204" y="5507"/>
                </a:cubicBezTo>
                <a:cubicBezTo>
                  <a:pt x="12231" y="5471"/>
                  <a:pt x="12234" y="5454"/>
                  <a:pt x="12254" y="5407"/>
                </a:cubicBezTo>
              </a:path>
              <a:path w="2878" h="2134">
                <a:moveTo>
                  <a:pt x="12526" y="5011"/>
                </a:moveTo>
                <a:cubicBezTo>
                  <a:pt x="12503" y="5146"/>
                  <a:pt x="12477" y="5249"/>
                  <a:pt x="12477" y="5383"/>
                </a:cubicBezTo>
                <a:cubicBezTo>
                  <a:pt x="12477" y="5454"/>
                  <a:pt x="12503" y="5484"/>
                  <a:pt x="12551" y="5531"/>
                </a:cubicBezTo>
                <a:cubicBezTo>
                  <a:pt x="12585" y="5565"/>
                  <a:pt x="12676" y="5570"/>
                  <a:pt x="12725" y="5556"/>
                </a:cubicBezTo>
                <a:cubicBezTo>
                  <a:pt x="12812" y="5532"/>
                  <a:pt x="12871" y="5466"/>
                  <a:pt x="12923" y="5407"/>
                </a:cubicBezTo>
                <a:cubicBezTo>
                  <a:pt x="12980" y="5343"/>
                  <a:pt x="13039" y="5252"/>
                  <a:pt x="13022" y="5159"/>
                </a:cubicBezTo>
                <a:cubicBezTo>
                  <a:pt x="13010" y="5096"/>
                  <a:pt x="12947" y="4999"/>
                  <a:pt x="12898" y="4961"/>
                </a:cubicBezTo>
                <a:cubicBezTo>
                  <a:pt x="12855" y="4928"/>
                  <a:pt x="12777" y="4927"/>
                  <a:pt x="12725" y="4936"/>
                </a:cubicBezTo>
                <a:cubicBezTo>
                  <a:pt x="12644" y="4951"/>
                  <a:pt x="12546" y="5018"/>
                  <a:pt x="12526" y="5110"/>
                </a:cubicBezTo>
                <a:cubicBezTo>
                  <a:pt x="12514" y="5166"/>
                  <a:pt x="12488" y="5310"/>
                  <a:pt x="12526" y="5358"/>
                </a:cubicBezTo>
                <a:cubicBezTo>
                  <a:pt x="12543" y="5366"/>
                  <a:pt x="12559" y="5375"/>
                  <a:pt x="12576" y="5383"/>
                </a:cubicBezTo>
              </a:path>
              <a:path w="2878" h="2134">
                <a:moveTo>
                  <a:pt x="13320" y="4986"/>
                </a:moveTo>
                <a:cubicBezTo>
                  <a:pt x="13281" y="4689"/>
                  <a:pt x="13351" y="4937"/>
                  <a:pt x="13246" y="4862"/>
                </a:cubicBezTo>
                <a:cubicBezTo>
                  <a:pt x="13209" y="4908"/>
                  <a:pt x="13137" y="5005"/>
                  <a:pt x="13122" y="5060"/>
                </a:cubicBezTo>
                <a:cubicBezTo>
                  <a:pt x="13095" y="5161"/>
                  <a:pt x="13108" y="5235"/>
                  <a:pt x="13122" y="5333"/>
                </a:cubicBezTo>
                <a:cubicBezTo>
                  <a:pt x="13128" y="5378"/>
                  <a:pt x="13136" y="5465"/>
                  <a:pt x="13196" y="5482"/>
                </a:cubicBezTo>
                <a:cubicBezTo>
                  <a:pt x="13240" y="5495"/>
                  <a:pt x="13288" y="5483"/>
                  <a:pt x="13320" y="5457"/>
                </a:cubicBezTo>
                <a:cubicBezTo>
                  <a:pt x="13377" y="5411"/>
                  <a:pt x="13410" y="5355"/>
                  <a:pt x="13419" y="5283"/>
                </a:cubicBezTo>
                <a:cubicBezTo>
                  <a:pt x="13428" y="5212"/>
                  <a:pt x="13441" y="5156"/>
                  <a:pt x="13444" y="5085"/>
                </a:cubicBezTo>
                <a:cubicBezTo>
                  <a:pt x="13445" y="5052"/>
                  <a:pt x="13444" y="5019"/>
                  <a:pt x="13444" y="4986"/>
                </a:cubicBezTo>
                <a:cubicBezTo>
                  <a:pt x="13425" y="5050"/>
                  <a:pt x="13403" y="5119"/>
                  <a:pt x="13395" y="5184"/>
                </a:cubicBezTo>
                <a:cubicBezTo>
                  <a:pt x="13382" y="5295"/>
                  <a:pt x="13410" y="5401"/>
                  <a:pt x="13419" y="5507"/>
                </a:cubicBezTo>
                <a:cubicBezTo>
                  <a:pt x="13435" y="5686"/>
                  <a:pt x="13461" y="5943"/>
                  <a:pt x="13395" y="6102"/>
                </a:cubicBezTo>
                <a:cubicBezTo>
                  <a:pt x="13362" y="6180"/>
                  <a:pt x="13326" y="6193"/>
                  <a:pt x="13271" y="6226"/>
                </a:cubicBezTo>
                <a:cubicBezTo>
                  <a:pt x="13231" y="6249"/>
                  <a:pt x="13219" y="6246"/>
                  <a:pt x="13171" y="6251"/>
                </a:cubicBezTo>
                <a:cubicBezTo>
                  <a:pt x="13177" y="6196"/>
                  <a:pt x="13171" y="6182"/>
                  <a:pt x="13196" y="6127"/>
                </a:cubicBezTo>
                <a:cubicBezTo>
                  <a:pt x="13224" y="6070"/>
                  <a:pt x="13235" y="6047"/>
                  <a:pt x="13246" y="6003"/>
                </a:cubicBezTo>
              </a:path>
              <a:path w="2878" h="2134">
                <a:moveTo>
                  <a:pt x="13618" y="5482"/>
                </a:moveTo>
                <a:cubicBezTo>
                  <a:pt x="13719" y="5426"/>
                  <a:pt x="13706" y="5428"/>
                  <a:pt x="13791" y="5457"/>
                </a:cubicBezTo>
                <a:cubicBezTo>
                  <a:pt x="13837" y="5472"/>
                  <a:pt x="13861" y="5497"/>
                  <a:pt x="13841" y="5556"/>
                </a:cubicBezTo>
                <a:cubicBezTo>
                  <a:pt x="13825" y="5605"/>
                  <a:pt x="13785" y="5699"/>
                  <a:pt x="13742" y="5730"/>
                </a:cubicBezTo>
                <a:cubicBezTo>
                  <a:pt x="13697" y="5762"/>
                  <a:pt x="13649" y="5769"/>
                  <a:pt x="13643" y="5829"/>
                </a:cubicBezTo>
                <a:cubicBezTo>
                  <a:pt x="13639" y="5871"/>
                  <a:pt x="13707" y="5876"/>
                  <a:pt x="13742" y="5879"/>
                </a:cubicBezTo>
                <a:cubicBezTo>
                  <a:pt x="13815" y="5885"/>
                  <a:pt x="13891" y="5879"/>
                  <a:pt x="13965" y="5879"/>
                </a:cubicBezTo>
                <a:cubicBezTo>
                  <a:pt x="13943" y="5872"/>
                  <a:pt x="13920" y="5840"/>
                  <a:pt x="13940" y="5804"/>
                </a:cubicBezTo>
                <a:cubicBezTo>
                  <a:pt x="13948" y="5796"/>
                  <a:pt x="13957" y="5787"/>
                  <a:pt x="13965" y="577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13240" y="1768320"/>
            <a:ext cx="241560" cy="527040"/>
          </a:xfrm>
          <a:custGeom>
            <a:avLst/>
            <a:gdLst/>
            <a:ahLst/>
            <a:rect l="l" t="t" r="r" b="b"/>
            <a:pathLst>
              <a:path w="671" h="1465">
                <a:moveTo>
                  <a:pt x="14759" y="4986"/>
                </a:moveTo>
                <a:cubicBezTo>
                  <a:pt x="14759" y="5077"/>
                  <a:pt x="14755" y="5150"/>
                  <a:pt x="14784" y="5234"/>
                </a:cubicBezTo>
                <a:cubicBezTo>
                  <a:pt x="14810" y="5311"/>
                  <a:pt x="14830" y="5352"/>
                  <a:pt x="14908" y="5383"/>
                </a:cubicBezTo>
                <a:cubicBezTo>
                  <a:pt x="14960" y="5404"/>
                  <a:pt x="15004" y="5401"/>
                  <a:pt x="15056" y="5383"/>
                </a:cubicBezTo>
                <a:cubicBezTo>
                  <a:pt x="15137" y="5354"/>
                  <a:pt x="15166" y="5339"/>
                  <a:pt x="15230" y="5283"/>
                </a:cubicBezTo>
                <a:cubicBezTo>
                  <a:pt x="15283" y="5236"/>
                  <a:pt x="15321" y="5172"/>
                  <a:pt x="15354" y="5110"/>
                </a:cubicBezTo>
                <a:cubicBezTo>
                  <a:pt x="15380" y="5062"/>
                  <a:pt x="15393" y="5008"/>
                  <a:pt x="15404" y="4961"/>
                </a:cubicBezTo>
                <a:cubicBezTo>
                  <a:pt x="15404" y="4953"/>
                  <a:pt x="15404" y="4944"/>
                  <a:pt x="15404" y="4936"/>
                </a:cubicBezTo>
                <a:cubicBezTo>
                  <a:pt x="15387" y="4988"/>
                  <a:pt x="15367" y="4982"/>
                  <a:pt x="15354" y="5035"/>
                </a:cubicBezTo>
                <a:cubicBezTo>
                  <a:pt x="15344" y="5074"/>
                  <a:pt x="15332" y="5170"/>
                  <a:pt x="15329" y="5209"/>
                </a:cubicBezTo>
                <a:cubicBezTo>
                  <a:pt x="15317" y="5340"/>
                  <a:pt x="15339" y="5456"/>
                  <a:pt x="15354" y="5581"/>
                </a:cubicBezTo>
                <a:cubicBezTo>
                  <a:pt x="15365" y="5673"/>
                  <a:pt x="15376" y="5764"/>
                  <a:pt x="15379" y="5854"/>
                </a:cubicBezTo>
                <a:cubicBezTo>
                  <a:pt x="15383" y="5951"/>
                  <a:pt x="15415" y="6033"/>
                  <a:pt x="15429" y="6127"/>
                </a:cubicBezTo>
                <a:cubicBezTo>
                  <a:pt x="15437" y="6179"/>
                  <a:pt x="15409" y="6263"/>
                  <a:pt x="15379" y="6300"/>
                </a:cubicBezTo>
                <a:cubicBezTo>
                  <a:pt x="15342" y="6345"/>
                  <a:pt x="15259" y="6365"/>
                  <a:pt x="15205" y="6375"/>
                </a:cubicBezTo>
                <a:cubicBezTo>
                  <a:pt x="15127" y="6389"/>
                  <a:pt x="15057" y="6354"/>
                  <a:pt x="14982" y="6350"/>
                </a:cubicBezTo>
                <a:cubicBezTo>
                  <a:pt x="14934" y="6347"/>
                  <a:pt x="14852" y="6342"/>
                  <a:pt x="14808" y="6325"/>
                </a:cubicBezTo>
                <a:cubicBezTo>
                  <a:pt x="14777" y="6313"/>
                  <a:pt x="14782" y="6299"/>
                  <a:pt x="14759" y="627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73680" y="1366920"/>
            <a:ext cx="277560" cy="133200"/>
          </a:xfrm>
          <a:custGeom>
            <a:avLst/>
            <a:gdLst/>
            <a:ahLst/>
            <a:rect l="l" t="t" r="r" b="b"/>
            <a:pathLst>
              <a:path w="770" h="373">
                <a:moveTo>
                  <a:pt x="11038" y="3845"/>
                </a:moveTo>
                <a:cubicBezTo>
                  <a:pt x="11056" y="3915"/>
                  <a:pt x="11105" y="3911"/>
                  <a:pt x="11137" y="3944"/>
                </a:cubicBezTo>
                <a:cubicBezTo>
                  <a:pt x="11194" y="4002"/>
                  <a:pt x="11210" y="4073"/>
                  <a:pt x="11286" y="4118"/>
                </a:cubicBezTo>
                <a:cubicBezTo>
                  <a:pt x="11344" y="4152"/>
                  <a:pt x="11419" y="4164"/>
                  <a:pt x="11485" y="4167"/>
                </a:cubicBezTo>
                <a:cubicBezTo>
                  <a:pt x="11540" y="4170"/>
                  <a:pt x="11611" y="4126"/>
                  <a:pt x="11658" y="4093"/>
                </a:cubicBezTo>
                <a:cubicBezTo>
                  <a:pt x="11724" y="4047"/>
                  <a:pt x="11739" y="4009"/>
                  <a:pt x="11757" y="3944"/>
                </a:cubicBezTo>
                <a:cubicBezTo>
                  <a:pt x="11778" y="3867"/>
                  <a:pt x="11827" y="3855"/>
                  <a:pt x="11782" y="379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55960" y="2554200"/>
            <a:ext cx="554040" cy="276480"/>
          </a:xfrm>
          <a:custGeom>
            <a:avLst/>
            <a:gdLst/>
            <a:ahLst/>
            <a:rect l="l" t="t" r="r" b="b"/>
            <a:pathLst>
              <a:path w="1539" h="770">
                <a:moveTo>
                  <a:pt x="8384" y="7193"/>
                </a:moveTo>
                <a:cubicBezTo>
                  <a:pt x="8384" y="7201"/>
                  <a:pt x="8384" y="7210"/>
                  <a:pt x="8384" y="7218"/>
                </a:cubicBezTo>
              </a:path>
              <a:path w="1539" h="770">
                <a:moveTo>
                  <a:pt x="8384" y="7193"/>
                </a:moveTo>
                <a:cubicBezTo>
                  <a:pt x="8376" y="7210"/>
                  <a:pt x="8367" y="7226"/>
                  <a:pt x="8359" y="7243"/>
                </a:cubicBezTo>
              </a:path>
              <a:path w="1539" h="770">
                <a:moveTo>
                  <a:pt x="8359" y="7243"/>
                </a:moveTo>
                <a:cubicBezTo>
                  <a:pt x="8331" y="7271"/>
                  <a:pt x="8297" y="7307"/>
                  <a:pt x="8285" y="7342"/>
                </a:cubicBezTo>
                <a:cubicBezTo>
                  <a:pt x="8265" y="7400"/>
                  <a:pt x="8261" y="7458"/>
                  <a:pt x="8235" y="7516"/>
                </a:cubicBezTo>
                <a:cubicBezTo>
                  <a:pt x="8211" y="7569"/>
                  <a:pt x="8187" y="7678"/>
                  <a:pt x="8210" y="7739"/>
                </a:cubicBezTo>
                <a:cubicBezTo>
                  <a:pt x="8235" y="7803"/>
                  <a:pt x="8291" y="7849"/>
                  <a:pt x="8359" y="7863"/>
                </a:cubicBezTo>
                <a:cubicBezTo>
                  <a:pt x="8420" y="7875"/>
                  <a:pt x="8491" y="7829"/>
                  <a:pt x="8533" y="7789"/>
                </a:cubicBezTo>
                <a:cubicBezTo>
                  <a:pt x="8597" y="7729"/>
                  <a:pt x="8650" y="7672"/>
                  <a:pt x="8682" y="7590"/>
                </a:cubicBezTo>
                <a:cubicBezTo>
                  <a:pt x="8708" y="7523"/>
                  <a:pt x="8723" y="7414"/>
                  <a:pt x="8706" y="7342"/>
                </a:cubicBezTo>
                <a:cubicBezTo>
                  <a:pt x="8693" y="7285"/>
                  <a:pt x="8646" y="7211"/>
                  <a:pt x="8607" y="7169"/>
                </a:cubicBezTo>
                <a:cubicBezTo>
                  <a:pt x="8588" y="7148"/>
                  <a:pt x="8512" y="7081"/>
                  <a:pt x="8483" y="7094"/>
                </a:cubicBezTo>
                <a:cubicBezTo>
                  <a:pt x="8439" y="7114"/>
                  <a:pt x="8434" y="7123"/>
                  <a:pt x="8434" y="7169"/>
                </a:cubicBezTo>
                <a:cubicBezTo>
                  <a:pt x="8434" y="7193"/>
                  <a:pt x="8434" y="7202"/>
                  <a:pt x="8434" y="7218"/>
                </a:cubicBezTo>
              </a:path>
              <a:path w="1539" h="770">
                <a:moveTo>
                  <a:pt x="9103" y="7342"/>
                </a:moveTo>
                <a:cubicBezTo>
                  <a:pt x="9118" y="7429"/>
                  <a:pt x="9131" y="7516"/>
                  <a:pt x="9153" y="7590"/>
                </a:cubicBezTo>
                <a:cubicBezTo>
                  <a:pt x="9161" y="7617"/>
                  <a:pt x="9153" y="7660"/>
                  <a:pt x="9153" y="7689"/>
                </a:cubicBezTo>
                <a:cubicBezTo>
                  <a:pt x="9191" y="7677"/>
                  <a:pt x="9178" y="7660"/>
                  <a:pt x="9178" y="7615"/>
                </a:cubicBezTo>
                <a:cubicBezTo>
                  <a:pt x="9178" y="7544"/>
                  <a:pt x="9185" y="7500"/>
                  <a:pt x="9203" y="7441"/>
                </a:cubicBezTo>
                <a:cubicBezTo>
                  <a:pt x="9230" y="7355"/>
                  <a:pt x="9239" y="7283"/>
                  <a:pt x="9327" y="7243"/>
                </a:cubicBezTo>
                <a:cubicBezTo>
                  <a:pt x="9393" y="7213"/>
                  <a:pt x="9505" y="7184"/>
                  <a:pt x="9575" y="7169"/>
                </a:cubicBezTo>
                <a:cubicBezTo>
                  <a:pt x="9624" y="7159"/>
                  <a:pt x="9680" y="7149"/>
                  <a:pt x="9723" y="7144"/>
                </a:cubicBezTo>
                <a:cubicBezTo>
                  <a:pt x="9756" y="7140"/>
                  <a:pt x="9707" y="7144"/>
                  <a:pt x="9674" y="714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71800" y="3089160"/>
            <a:ext cx="1349280" cy="642960"/>
          </a:xfrm>
          <a:custGeom>
            <a:avLst/>
            <a:gdLst/>
            <a:ahLst/>
            <a:rect l="l" t="t" r="r" b="b"/>
            <a:pathLst>
              <a:path w="3746" h="1787">
                <a:moveTo>
                  <a:pt x="5779" y="8582"/>
                </a:moveTo>
                <a:cubicBezTo>
                  <a:pt x="5779" y="8935"/>
                  <a:pt x="5808" y="9302"/>
                  <a:pt x="5755" y="9649"/>
                </a:cubicBezTo>
                <a:cubicBezTo>
                  <a:pt x="5750" y="9680"/>
                  <a:pt x="5755" y="9716"/>
                  <a:pt x="5755" y="9748"/>
                </a:cubicBezTo>
                <a:cubicBezTo>
                  <a:pt x="5755" y="9701"/>
                  <a:pt x="5759" y="9698"/>
                  <a:pt x="5779" y="9649"/>
                </a:cubicBezTo>
              </a:path>
              <a:path w="3746" h="1787">
                <a:moveTo>
                  <a:pt x="6127" y="9128"/>
                </a:moveTo>
                <a:cubicBezTo>
                  <a:pt x="6179" y="9128"/>
                  <a:pt x="6176" y="9126"/>
                  <a:pt x="6176" y="9178"/>
                </a:cubicBezTo>
                <a:cubicBezTo>
                  <a:pt x="6176" y="9237"/>
                  <a:pt x="6137" y="9294"/>
                  <a:pt x="6127" y="9351"/>
                </a:cubicBezTo>
                <a:cubicBezTo>
                  <a:pt x="6114" y="9429"/>
                  <a:pt x="6102" y="9492"/>
                  <a:pt x="6102" y="9575"/>
                </a:cubicBezTo>
                <a:cubicBezTo>
                  <a:pt x="6102" y="9659"/>
                  <a:pt x="6122" y="9679"/>
                  <a:pt x="6176" y="9723"/>
                </a:cubicBezTo>
                <a:cubicBezTo>
                  <a:pt x="6234" y="9771"/>
                  <a:pt x="6258" y="9734"/>
                  <a:pt x="6325" y="9723"/>
                </a:cubicBezTo>
                <a:cubicBezTo>
                  <a:pt x="6437" y="9704"/>
                  <a:pt x="6479" y="9621"/>
                  <a:pt x="6524" y="9525"/>
                </a:cubicBezTo>
                <a:cubicBezTo>
                  <a:pt x="6562" y="9443"/>
                  <a:pt x="6555" y="9377"/>
                  <a:pt x="6548" y="9302"/>
                </a:cubicBezTo>
                <a:cubicBezTo>
                  <a:pt x="6538" y="9188"/>
                  <a:pt x="6510" y="9170"/>
                  <a:pt x="6449" y="9079"/>
                </a:cubicBezTo>
                <a:cubicBezTo>
                  <a:pt x="6411" y="9023"/>
                  <a:pt x="6374" y="8984"/>
                  <a:pt x="6300" y="8979"/>
                </a:cubicBezTo>
                <a:cubicBezTo>
                  <a:pt x="6244" y="8975"/>
                  <a:pt x="6208" y="8978"/>
                  <a:pt x="6176" y="9029"/>
                </a:cubicBezTo>
                <a:cubicBezTo>
                  <a:pt x="6142" y="9083"/>
                  <a:pt x="6108" y="9134"/>
                  <a:pt x="6127" y="9203"/>
                </a:cubicBezTo>
                <a:cubicBezTo>
                  <a:pt x="6152" y="9293"/>
                  <a:pt x="6170" y="9393"/>
                  <a:pt x="6226" y="9475"/>
                </a:cubicBezTo>
                <a:cubicBezTo>
                  <a:pt x="6243" y="9492"/>
                  <a:pt x="6259" y="9508"/>
                  <a:pt x="6276" y="9525"/>
                </a:cubicBezTo>
              </a:path>
              <a:path w="3746" h="1787">
                <a:moveTo>
                  <a:pt x="7045" y="9277"/>
                </a:moveTo>
                <a:cubicBezTo>
                  <a:pt x="7059" y="9193"/>
                  <a:pt x="7087" y="9123"/>
                  <a:pt x="7045" y="9054"/>
                </a:cubicBezTo>
                <a:cubicBezTo>
                  <a:pt x="7037" y="9046"/>
                  <a:pt x="7028" y="9037"/>
                  <a:pt x="7020" y="9029"/>
                </a:cubicBezTo>
                <a:cubicBezTo>
                  <a:pt x="6991" y="9046"/>
                  <a:pt x="6921" y="9074"/>
                  <a:pt x="6896" y="9103"/>
                </a:cubicBezTo>
                <a:cubicBezTo>
                  <a:pt x="6840" y="9168"/>
                  <a:pt x="6829" y="9267"/>
                  <a:pt x="6821" y="9351"/>
                </a:cubicBezTo>
                <a:cubicBezTo>
                  <a:pt x="6814" y="9428"/>
                  <a:pt x="6807" y="9532"/>
                  <a:pt x="6846" y="9599"/>
                </a:cubicBezTo>
                <a:cubicBezTo>
                  <a:pt x="6875" y="9649"/>
                  <a:pt x="6863" y="9681"/>
                  <a:pt x="6921" y="9699"/>
                </a:cubicBezTo>
                <a:cubicBezTo>
                  <a:pt x="6962" y="9712"/>
                  <a:pt x="7015" y="9672"/>
                  <a:pt x="7045" y="9649"/>
                </a:cubicBezTo>
                <a:cubicBezTo>
                  <a:pt x="7101" y="9606"/>
                  <a:pt x="7093" y="9533"/>
                  <a:pt x="7119" y="9475"/>
                </a:cubicBezTo>
                <a:cubicBezTo>
                  <a:pt x="7147" y="9413"/>
                  <a:pt x="7165" y="9345"/>
                  <a:pt x="7169" y="9277"/>
                </a:cubicBezTo>
                <a:cubicBezTo>
                  <a:pt x="7172" y="9228"/>
                  <a:pt x="7169" y="9177"/>
                  <a:pt x="7169" y="9128"/>
                </a:cubicBezTo>
                <a:cubicBezTo>
                  <a:pt x="7155" y="9152"/>
                  <a:pt x="7147" y="9150"/>
                  <a:pt x="7144" y="9203"/>
                </a:cubicBezTo>
                <a:cubicBezTo>
                  <a:pt x="7138" y="9308"/>
                  <a:pt x="7119" y="9383"/>
                  <a:pt x="7119" y="9500"/>
                </a:cubicBezTo>
                <a:cubicBezTo>
                  <a:pt x="7119" y="9602"/>
                  <a:pt x="7094" y="9694"/>
                  <a:pt x="7094" y="9798"/>
                </a:cubicBezTo>
                <a:cubicBezTo>
                  <a:pt x="7094" y="9885"/>
                  <a:pt x="7088" y="10011"/>
                  <a:pt x="7069" y="10096"/>
                </a:cubicBezTo>
                <a:cubicBezTo>
                  <a:pt x="7055" y="10158"/>
                  <a:pt x="7047" y="10271"/>
                  <a:pt x="6995" y="10319"/>
                </a:cubicBezTo>
                <a:cubicBezTo>
                  <a:pt x="6987" y="10326"/>
                  <a:pt x="6882" y="10375"/>
                  <a:pt x="6871" y="10368"/>
                </a:cubicBezTo>
                <a:cubicBezTo>
                  <a:pt x="6846" y="10351"/>
                  <a:pt x="6892" y="10300"/>
                  <a:pt x="6896" y="10294"/>
                </a:cubicBezTo>
              </a:path>
              <a:path w="3746" h="1787">
                <a:moveTo>
                  <a:pt x="7417" y="9699"/>
                </a:moveTo>
                <a:cubicBezTo>
                  <a:pt x="7474" y="9674"/>
                  <a:pt x="7506" y="9654"/>
                  <a:pt x="7565" y="9649"/>
                </a:cubicBezTo>
                <a:cubicBezTo>
                  <a:pt x="7587" y="9647"/>
                  <a:pt x="7679" y="9703"/>
                  <a:pt x="7689" y="9723"/>
                </a:cubicBezTo>
                <a:cubicBezTo>
                  <a:pt x="7707" y="9760"/>
                  <a:pt x="7686" y="9821"/>
                  <a:pt x="7665" y="9847"/>
                </a:cubicBezTo>
                <a:cubicBezTo>
                  <a:pt x="7608" y="9919"/>
                  <a:pt x="7488" y="9983"/>
                  <a:pt x="7466" y="10071"/>
                </a:cubicBezTo>
                <a:cubicBezTo>
                  <a:pt x="7511" y="10104"/>
                  <a:pt x="7581" y="10112"/>
                  <a:pt x="7640" y="10096"/>
                </a:cubicBezTo>
                <a:cubicBezTo>
                  <a:pt x="7716" y="10076"/>
                  <a:pt x="7750" y="10064"/>
                  <a:pt x="7813" y="10021"/>
                </a:cubicBezTo>
              </a:path>
              <a:path w="3746" h="1787">
                <a:moveTo>
                  <a:pt x="8210" y="9054"/>
                </a:moveTo>
                <a:cubicBezTo>
                  <a:pt x="8239" y="9092"/>
                  <a:pt x="8242" y="9133"/>
                  <a:pt x="8260" y="9178"/>
                </a:cubicBezTo>
                <a:cubicBezTo>
                  <a:pt x="8294" y="9261"/>
                  <a:pt x="8339" y="9329"/>
                  <a:pt x="8384" y="9401"/>
                </a:cubicBezTo>
                <a:cubicBezTo>
                  <a:pt x="8432" y="9476"/>
                  <a:pt x="8478" y="9531"/>
                  <a:pt x="8558" y="9575"/>
                </a:cubicBezTo>
                <a:cubicBezTo>
                  <a:pt x="8591" y="9593"/>
                  <a:pt x="8693" y="9664"/>
                  <a:pt x="8731" y="9649"/>
                </a:cubicBezTo>
                <a:cubicBezTo>
                  <a:pt x="8801" y="9621"/>
                  <a:pt x="8819" y="9571"/>
                  <a:pt x="8830" y="9500"/>
                </a:cubicBezTo>
              </a:path>
              <a:path w="3746" h="1787">
                <a:moveTo>
                  <a:pt x="8632" y="8930"/>
                </a:moveTo>
                <a:cubicBezTo>
                  <a:pt x="8557" y="9026"/>
                  <a:pt x="8484" y="9097"/>
                  <a:pt x="8434" y="9203"/>
                </a:cubicBezTo>
                <a:cubicBezTo>
                  <a:pt x="8397" y="9280"/>
                  <a:pt x="8331" y="9318"/>
                  <a:pt x="8285" y="9376"/>
                </a:cubicBezTo>
                <a:cubicBezTo>
                  <a:pt x="8249" y="9422"/>
                  <a:pt x="8214" y="9482"/>
                  <a:pt x="8186" y="9525"/>
                </a:cubicBezTo>
                <a:cubicBezTo>
                  <a:pt x="8163" y="9548"/>
                  <a:pt x="8155" y="9552"/>
                  <a:pt x="8161" y="9575"/>
                </a:cubicBezTo>
                <a:cubicBezTo>
                  <a:pt x="8205" y="9575"/>
                  <a:pt x="8200" y="9577"/>
                  <a:pt x="8235" y="9550"/>
                </a:cubicBezTo>
              </a:path>
              <a:path w="3746" h="1787">
                <a:moveTo>
                  <a:pt x="9054" y="9178"/>
                </a:moveTo>
                <a:cubicBezTo>
                  <a:pt x="9143" y="9203"/>
                  <a:pt x="9209" y="9203"/>
                  <a:pt x="9302" y="9203"/>
                </a:cubicBezTo>
                <a:cubicBezTo>
                  <a:pt x="9368" y="9203"/>
                  <a:pt x="9434" y="9203"/>
                  <a:pt x="9500" y="920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9200" y="3000240"/>
            <a:ext cx="1438560" cy="947880"/>
          </a:xfrm>
          <a:custGeom>
            <a:avLst/>
            <a:gdLst/>
            <a:ahLst/>
            <a:rect l="l" t="t" r="r" b="b"/>
            <a:pathLst>
              <a:path w="3995" h="2631">
                <a:moveTo>
                  <a:pt x="10294" y="8409"/>
                </a:moveTo>
                <a:cubicBezTo>
                  <a:pt x="10294" y="8591"/>
                  <a:pt x="10279" y="8781"/>
                  <a:pt x="10319" y="8954"/>
                </a:cubicBezTo>
                <a:cubicBezTo>
                  <a:pt x="10324" y="8975"/>
                  <a:pt x="10349" y="9042"/>
                  <a:pt x="10344" y="9054"/>
                </a:cubicBezTo>
                <a:cubicBezTo>
                  <a:pt x="10336" y="9062"/>
                  <a:pt x="10327" y="9071"/>
                  <a:pt x="10319" y="9079"/>
                </a:cubicBezTo>
              </a:path>
              <a:path w="3995" h="2631">
                <a:moveTo>
                  <a:pt x="9971" y="9103"/>
                </a:moveTo>
                <a:cubicBezTo>
                  <a:pt x="10049" y="9132"/>
                  <a:pt x="10110" y="9128"/>
                  <a:pt x="10195" y="9128"/>
                </a:cubicBezTo>
                <a:cubicBezTo>
                  <a:pt x="10360" y="9128"/>
                  <a:pt x="10526" y="9128"/>
                  <a:pt x="10691" y="9128"/>
                </a:cubicBezTo>
              </a:path>
              <a:path w="3995" h="2631">
                <a:moveTo>
                  <a:pt x="10244" y="9327"/>
                </a:moveTo>
                <a:cubicBezTo>
                  <a:pt x="10222" y="9349"/>
                  <a:pt x="10214" y="9360"/>
                  <a:pt x="10220" y="9327"/>
                </a:cubicBezTo>
                <a:cubicBezTo>
                  <a:pt x="10302" y="9327"/>
                  <a:pt x="10372" y="9331"/>
                  <a:pt x="10443" y="9351"/>
                </a:cubicBezTo>
                <a:cubicBezTo>
                  <a:pt x="10495" y="9366"/>
                  <a:pt x="10531" y="9411"/>
                  <a:pt x="10517" y="9475"/>
                </a:cubicBezTo>
                <a:cubicBezTo>
                  <a:pt x="10505" y="9529"/>
                  <a:pt x="10458" y="9615"/>
                  <a:pt x="10418" y="9649"/>
                </a:cubicBezTo>
                <a:cubicBezTo>
                  <a:pt x="10367" y="9693"/>
                  <a:pt x="10321" y="9726"/>
                  <a:pt x="10269" y="9773"/>
                </a:cubicBezTo>
                <a:cubicBezTo>
                  <a:pt x="10245" y="9795"/>
                  <a:pt x="10182" y="9823"/>
                  <a:pt x="10170" y="9847"/>
                </a:cubicBezTo>
                <a:cubicBezTo>
                  <a:pt x="10170" y="9855"/>
                  <a:pt x="10170" y="9864"/>
                  <a:pt x="10170" y="9872"/>
                </a:cubicBezTo>
                <a:cubicBezTo>
                  <a:pt x="10225" y="9872"/>
                  <a:pt x="10263" y="9895"/>
                  <a:pt x="10319" y="9897"/>
                </a:cubicBezTo>
                <a:cubicBezTo>
                  <a:pt x="10412" y="9901"/>
                  <a:pt x="10529" y="9893"/>
                  <a:pt x="10616" y="9872"/>
                </a:cubicBezTo>
                <a:cubicBezTo>
                  <a:pt x="10633" y="9864"/>
                  <a:pt x="10649" y="9855"/>
                  <a:pt x="10666" y="9847"/>
                </a:cubicBezTo>
              </a:path>
              <a:path w="3995" h="2631">
                <a:moveTo>
                  <a:pt x="11187" y="8409"/>
                </a:moveTo>
                <a:cubicBezTo>
                  <a:pt x="11187" y="8367"/>
                  <a:pt x="11187" y="8359"/>
                  <a:pt x="11187" y="8334"/>
                </a:cubicBezTo>
                <a:cubicBezTo>
                  <a:pt x="11246" y="8354"/>
                  <a:pt x="11198" y="8407"/>
                  <a:pt x="11187" y="8458"/>
                </a:cubicBezTo>
                <a:cubicBezTo>
                  <a:pt x="11159" y="8588"/>
                  <a:pt x="11125" y="8724"/>
                  <a:pt x="11112" y="8855"/>
                </a:cubicBezTo>
                <a:cubicBezTo>
                  <a:pt x="11101" y="8964"/>
                  <a:pt x="11088" y="9067"/>
                  <a:pt x="11088" y="9178"/>
                </a:cubicBezTo>
                <a:cubicBezTo>
                  <a:pt x="11088" y="9298"/>
                  <a:pt x="11093" y="9418"/>
                  <a:pt x="11112" y="9525"/>
                </a:cubicBezTo>
                <a:cubicBezTo>
                  <a:pt x="11120" y="9572"/>
                  <a:pt x="11127" y="9583"/>
                  <a:pt x="11137" y="9624"/>
                </a:cubicBezTo>
                <a:cubicBezTo>
                  <a:pt x="11173" y="9615"/>
                  <a:pt x="11214" y="9586"/>
                  <a:pt x="11237" y="9550"/>
                </a:cubicBezTo>
                <a:cubicBezTo>
                  <a:pt x="11266" y="9504"/>
                  <a:pt x="11267" y="9451"/>
                  <a:pt x="11286" y="9401"/>
                </a:cubicBezTo>
              </a:path>
              <a:path w="3995" h="2631">
                <a:moveTo>
                  <a:pt x="11435" y="9128"/>
                </a:moveTo>
                <a:cubicBezTo>
                  <a:pt x="11408" y="9203"/>
                  <a:pt x="11364" y="9272"/>
                  <a:pt x="11361" y="9351"/>
                </a:cubicBezTo>
                <a:cubicBezTo>
                  <a:pt x="11358" y="9422"/>
                  <a:pt x="11346" y="9512"/>
                  <a:pt x="11385" y="9575"/>
                </a:cubicBezTo>
                <a:cubicBezTo>
                  <a:pt x="11404" y="9607"/>
                  <a:pt x="11478" y="9666"/>
                  <a:pt x="11509" y="9674"/>
                </a:cubicBezTo>
                <a:cubicBezTo>
                  <a:pt x="11581" y="9693"/>
                  <a:pt x="11675" y="9669"/>
                  <a:pt x="11733" y="9624"/>
                </a:cubicBezTo>
                <a:cubicBezTo>
                  <a:pt x="11789" y="9580"/>
                  <a:pt x="11868" y="9501"/>
                  <a:pt x="11881" y="9426"/>
                </a:cubicBezTo>
                <a:cubicBezTo>
                  <a:pt x="11894" y="9347"/>
                  <a:pt x="11906" y="9279"/>
                  <a:pt x="11881" y="9203"/>
                </a:cubicBezTo>
                <a:cubicBezTo>
                  <a:pt x="11846" y="9095"/>
                  <a:pt x="11761" y="9024"/>
                  <a:pt x="11658" y="8979"/>
                </a:cubicBezTo>
                <a:cubicBezTo>
                  <a:pt x="11601" y="8954"/>
                  <a:pt x="11530" y="9043"/>
                  <a:pt x="11509" y="9079"/>
                </a:cubicBezTo>
                <a:cubicBezTo>
                  <a:pt x="11466" y="9152"/>
                  <a:pt x="11425" y="9244"/>
                  <a:pt x="11410" y="9327"/>
                </a:cubicBezTo>
                <a:cubicBezTo>
                  <a:pt x="11394" y="9414"/>
                  <a:pt x="11422" y="9476"/>
                  <a:pt x="11460" y="9550"/>
                </a:cubicBezTo>
                <a:cubicBezTo>
                  <a:pt x="11492" y="9613"/>
                  <a:pt x="11499" y="9615"/>
                  <a:pt x="11559" y="9649"/>
                </a:cubicBezTo>
              </a:path>
              <a:path w="3995" h="2631">
                <a:moveTo>
                  <a:pt x="12278" y="9203"/>
                </a:moveTo>
                <a:cubicBezTo>
                  <a:pt x="12306" y="8964"/>
                  <a:pt x="12304" y="9143"/>
                  <a:pt x="12278" y="9029"/>
                </a:cubicBezTo>
                <a:cubicBezTo>
                  <a:pt x="12228" y="9036"/>
                  <a:pt x="12198" y="9043"/>
                  <a:pt x="12154" y="9079"/>
                </a:cubicBezTo>
                <a:cubicBezTo>
                  <a:pt x="12092" y="9130"/>
                  <a:pt x="12065" y="9207"/>
                  <a:pt x="12030" y="9277"/>
                </a:cubicBezTo>
                <a:cubicBezTo>
                  <a:pt x="11996" y="9345"/>
                  <a:pt x="11997" y="9390"/>
                  <a:pt x="12030" y="9451"/>
                </a:cubicBezTo>
                <a:cubicBezTo>
                  <a:pt x="12051" y="9491"/>
                  <a:pt x="12054" y="9513"/>
                  <a:pt x="12105" y="9525"/>
                </a:cubicBezTo>
                <a:cubicBezTo>
                  <a:pt x="12157" y="9537"/>
                  <a:pt x="12201" y="9490"/>
                  <a:pt x="12229" y="9451"/>
                </a:cubicBezTo>
                <a:cubicBezTo>
                  <a:pt x="12270" y="9395"/>
                  <a:pt x="12314" y="9320"/>
                  <a:pt x="12328" y="9252"/>
                </a:cubicBezTo>
                <a:cubicBezTo>
                  <a:pt x="12340" y="9198"/>
                  <a:pt x="12336" y="9140"/>
                  <a:pt x="12328" y="9103"/>
                </a:cubicBezTo>
                <a:cubicBezTo>
                  <a:pt x="12328" y="9095"/>
                  <a:pt x="12328" y="9087"/>
                  <a:pt x="12328" y="9079"/>
                </a:cubicBezTo>
                <a:cubicBezTo>
                  <a:pt x="12311" y="9106"/>
                  <a:pt x="12287" y="9151"/>
                  <a:pt x="12278" y="9203"/>
                </a:cubicBezTo>
                <a:cubicBezTo>
                  <a:pt x="12263" y="9293"/>
                  <a:pt x="12247" y="9381"/>
                  <a:pt x="12254" y="9475"/>
                </a:cubicBezTo>
                <a:cubicBezTo>
                  <a:pt x="12267" y="9654"/>
                  <a:pt x="12278" y="9818"/>
                  <a:pt x="12278" y="9996"/>
                </a:cubicBezTo>
                <a:cubicBezTo>
                  <a:pt x="12278" y="10085"/>
                  <a:pt x="12268" y="10213"/>
                  <a:pt x="12229" y="10294"/>
                </a:cubicBezTo>
                <a:cubicBezTo>
                  <a:pt x="12209" y="10335"/>
                  <a:pt x="12150" y="10406"/>
                  <a:pt x="12105" y="10418"/>
                </a:cubicBezTo>
                <a:cubicBezTo>
                  <a:pt x="12081" y="10425"/>
                  <a:pt x="11991" y="10429"/>
                  <a:pt x="11981" y="10393"/>
                </a:cubicBezTo>
                <a:cubicBezTo>
                  <a:pt x="11969" y="10350"/>
                  <a:pt x="11986" y="10327"/>
                  <a:pt x="12005" y="10294"/>
                </a:cubicBezTo>
              </a:path>
              <a:path w="3995" h="2631">
                <a:moveTo>
                  <a:pt x="12650" y="9550"/>
                </a:moveTo>
                <a:cubicBezTo>
                  <a:pt x="12720" y="9575"/>
                  <a:pt x="12804" y="9589"/>
                  <a:pt x="12824" y="9674"/>
                </a:cubicBezTo>
                <a:cubicBezTo>
                  <a:pt x="12840" y="9740"/>
                  <a:pt x="12766" y="9782"/>
                  <a:pt x="12725" y="9823"/>
                </a:cubicBezTo>
                <a:cubicBezTo>
                  <a:pt x="12687" y="9861"/>
                  <a:pt x="12642" y="9871"/>
                  <a:pt x="12626" y="9922"/>
                </a:cubicBezTo>
                <a:cubicBezTo>
                  <a:pt x="12626" y="9930"/>
                  <a:pt x="12626" y="9939"/>
                  <a:pt x="12626" y="9947"/>
                </a:cubicBezTo>
                <a:cubicBezTo>
                  <a:pt x="12680" y="9960"/>
                  <a:pt x="12733" y="9984"/>
                  <a:pt x="12799" y="9971"/>
                </a:cubicBezTo>
                <a:cubicBezTo>
                  <a:pt x="12866" y="9958"/>
                  <a:pt x="12934" y="9920"/>
                  <a:pt x="12998" y="9897"/>
                </a:cubicBezTo>
              </a:path>
              <a:path w="3995" h="2631">
                <a:moveTo>
                  <a:pt x="13370" y="9128"/>
                </a:moveTo>
                <a:cubicBezTo>
                  <a:pt x="13370" y="9238"/>
                  <a:pt x="13330" y="9433"/>
                  <a:pt x="13395" y="9525"/>
                </a:cubicBezTo>
                <a:cubicBezTo>
                  <a:pt x="13435" y="9581"/>
                  <a:pt x="13480" y="9617"/>
                  <a:pt x="13543" y="9624"/>
                </a:cubicBezTo>
                <a:cubicBezTo>
                  <a:pt x="13594" y="9630"/>
                  <a:pt x="13676" y="9582"/>
                  <a:pt x="13717" y="9550"/>
                </a:cubicBezTo>
                <a:cubicBezTo>
                  <a:pt x="13777" y="9503"/>
                  <a:pt x="13830" y="9416"/>
                  <a:pt x="13866" y="9351"/>
                </a:cubicBezTo>
                <a:cubicBezTo>
                  <a:pt x="13902" y="9287"/>
                  <a:pt x="13918" y="9244"/>
                  <a:pt x="13940" y="9178"/>
                </a:cubicBezTo>
                <a:cubicBezTo>
                  <a:pt x="13948" y="9161"/>
                  <a:pt x="13957" y="9145"/>
                  <a:pt x="13965" y="9128"/>
                </a:cubicBezTo>
                <a:cubicBezTo>
                  <a:pt x="13960" y="9176"/>
                  <a:pt x="13952" y="9205"/>
                  <a:pt x="13940" y="9252"/>
                </a:cubicBezTo>
                <a:cubicBezTo>
                  <a:pt x="13910" y="9366"/>
                  <a:pt x="13894" y="9480"/>
                  <a:pt x="13891" y="9599"/>
                </a:cubicBezTo>
                <a:cubicBezTo>
                  <a:pt x="13887" y="9744"/>
                  <a:pt x="13912" y="9878"/>
                  <a:pt x="13915" y="10021"/>
                </a:cubicBezTo>
                <a:cubicBezTo>
                  <a:pt x="13918" y="10172"/>
                  <a:pt x="13940" y="10315"/>
                  <a:pt x="13940" y="10468"/>
                </a:cubicBezTo>
                <a:cubicBezTo>
                  <a:pt x="13940" y="10582"/>
                  <a:pt x="13944" y="10706"/>
                  <a:pt x="13915" y="10815"/>
                </a:cubicBezTo>
                <a:cubicBezTo>
                  <a:pt x="13899" y="10875"/>
                  <a:pt x="13827" y="10945"/>
                  <a:pt x="13767" y="10964"/>
                </a:cubicBezTo>
                <a:cubicBezTo>
                  <a:pt x="13694" y="10987"/>
                  <a:pt x="13584" y="10934"/>
                  <a:pt x="13519" y="10914"/>
                </a:cubicBezTo>
                <a:cubicBezTo>
                  <a:pt x="13444" y="10891"/>
                  <a:pt x="13365" y="10864"/>
                  <a:pt x="13295" y="10840"/>
                </a:cubicBezTo>
                <a:cubicBezTo>
                  <a:pt x="13246" y="10815"/>
                  <a:pt x="13229" y="10806"/>
                  <a:pt x="13196" y="1079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19160" y="4098960"/>
            <a:ext cx="3179880" cy="973080"/>
          </a:xfrm>
          <a:custGeom>
            <a:avLst/>
            <a:gdLst/>
            <a:ahLst/>
            <a:rect l="l" t="t" r="r" b="b"/>
            <a:pathLst>
              <a:path w="8831" h="2705">
                <a:moveTo>
                  <a:pt x="5383" y="11385"/>
                </a:moveTo>
                <a:cubicBezTo>
                  <a:pt x="5357" y="11429"/>
                  <a:pt x="5342" y="11505"/>
                  <a:pt x="5333" y="11559"/>
                </a:cubicBezTo>
                <a:cubicBezTo>
                  <a:pt x="5279" y="11883"/>
                  <a:pt x="5314" y="12307"/>
                  <a:pt x="5358" y="12626"/>
                </a:cubicBezTo>
                <a:cubicBezTo>
                  <a:pt x="5368" y="12697"/>
                  <a:pt x="5367" y="12755"/>
                  <a:pt x="5383" y="12824"/>
                </a:cubicBezTo>
                <a:cubicBezTo>
                  <a:pt x="5389" y="12851"/>
                  <a:pt x="5362" y="12964"/>
                  <a:pt x="5407" y="12948"/>
                </a:cubicBezTo>
                <a:cubicBezTo>
                  <a:pt x="5407" y="12940"/>
                  <a:pt x="5407" y="12931"/>
                  <a:pt x="5407" y="12923"/>
                </a:cubicBezTo>
              </a:path>
              <a:path w="8831" h="2705">
                <a:moveTo>
                  <a:pt x="5804" y="12378"/>
                </a:moveTo>
                <a:cubicBezTo>
                  <a:pt x="5804" y="12462"/>
                  <a:pt x="5789" y="12513"/>
                  <a:pt x="5779" y="12601"/>
                </a:cubicBezTo>
                <a:cubicBezTo>
                  <a:pt x="5769" y="12690"/>
                  <a:pt x="5768" y="12794"/>
                  <a:pt x="5804" y="12874"/>
                </a:cubicBezTo>
                <a:cubicBezTo>
                  <a:pt x="5840" y="12953"/>
                  <a:pt x="5886" y="12952"/>
                  <a:pt x="5953" y="12998"/>
                </a:cubicBezTo>
                <a:cubicBezTo>
                  <a:pt x="6005" y="13034"/>
                  <a:pt x="6069" y="13033"/>
                  <a:pt x="6127" y="12998"/>
                </a:cubicBezTo>
                <a:cubicBezTo>
                  <a:pt x="6249" y="12924"/>
                  <a:pt x="6320" y="12865"/>
                  <a:pt x="6350" y="12725"/>
                </a:cubicBezTo>
                <a:cubicBezTo>
                  <a:pt x="6368" y="12638"/>
                  <a:pt x="6337" y="12559"/>
                  <a:pt x="6325" y="12477"/>
                </a:cubicBezTo>
                <a:cubicBezTo>
                  <a:pt x="6317" y="12420"/>
                  <a:pt x="6298" y="12321"/>
                  <a:pt x="6251" y="12278"/>
                </a:cubicBezTo>
                <a:cubicBezTo>
                  <a:pt x="6204" y="12235"/>
                  <a:pt x="6138" y="12209"/>
                  <a:pt x="6077" y="12204"/>
                </a:cubicBezTo>
                <a:cubicBezTo>
                  <a:pt x="6019" y="12200"/>
                  <a:pt x="5997" y="12204"/>
                  <a:pt x="5953" y="12229"/>
                </a:cubicBezTo>
                <a:cubicBezTo>
                  <a:pt x="5896" y="12262"/>
                  <a:pt x="5845" y="12333"/>
                  <a:pt x="5829" y="12402"/>
                </a:cubicBezTo>
                <a:cubicBezTo>
                  <a:pt x="5809" y="12491"/>
                  <a:pt x="5784" y="12607"/>
                  <a:pt x="5804" y="12700"/>
                </a:cubicBezTo>
                <a:cubicBezTo>
                  <a:pt x="5817" y="12759"/>
                  <a:pt x="5868" y="12829"/>
                  <a:pt x="5904" y="12874"/>
                </a:cubicBezTo>
              </a:path>
              <a:path w="8831" h="2705">
                <a:moveTo>
                  <a:pt x="6970" y="12477"/>
                </a:moveTo>
                <a:cubicBezTo>
                  <a:pt x="6964" y="12399"/>
                  <a:pt x="6981" y="12343"/>
                  <a:pt x="6896" y="12328"/>
                </a:cubicBezTo>
                <a:cubicBezTo>
                  <a:pt x="6836" y="12317"/>
                  <a:pt x="6794" y="12344"/>
                  <a:pt x="6747" y="12378"/>
                </a:cubicBezTo>
                <a:cubicBezTo>
                  <a:pt x="6664" y="12439"/>
                  <a:pt x="6628" y="12555"/>
                  <a:pt x="6623" y="12650"/>
                </a:cubicBezTo>
                <a:cubicBezTo>
                  <a:pt x="6619" y="12734"/>
                  <a:pt x="6635" y="12798"/>
                  <a:pt x="6648" y="12874"/>
                </a:cubicBezTo>
                <a:cubicBezTo>
                  <a:pt x="6657" y="12930"/>
                  <a:pt x="6674" y="13029"/>
                  <a:pt x="6747" y="13047"/>
                </a:cubicBezTo>
                <a:cubicBezTo>
                  <a:pt x="6807" y="13062"/>
                  <a:pt x="6832" y="13036"/>
                  <a:pt x="6871" y="12998"/>
                </a:cubicBezTo>
                <a:cubicBezTo>
                  <a:pt x="6927" y="12943"/>
                  <a:pt x="6917" y="12884"/>
                  <a:pt x="6945" y="12824"/>
                </a:cubicBezTo>
                <a:cubicBezTo>
                  <a:pt x="6970" y="12770"/>
                  <a:pt x="6991" y="12716"/>
                  <a:pt x="6995" y="12650"/>
                </a:cubicBezTo>
                <a:cubicBezTo>
                  <a:pt x="6999" y="12573"/>
                  <a:pt x="7007" y="12489"/>
                  <a:pt x="6970" y="12427"/>
                </a:cubicBezTo>
                <a:cubicBezTo>
                  <a:pt x="6938" y="12468"/>
                  <a:pt x="6924" y="12496"/>
                  <a:pt x="6921" y="12551"/>
                </a:cubicBezTo>
                <a:cubicBezTo>
                  <a:pt x="6913" y="12695"/>
                  <a:pt x="6930" y="12834"/>
                  <a:pt x="6945" y="12973"/>
                </a:cubicBezTo>
                <a:cubicBezTo>
                  <a:pt x="6957" y="13089"/>
                  <a:pt x="6983" y="13204"/>
                  <a:pt x="6995" y="13320"/>
                </a:cubicBezTo>
                <a:cubicBezTo>
                  <a:pt x="7006" y="13432"/>
                  <a:pt x="7001" y="13556"/>
                  <a:pt x="7020" y="13667"/>
                </a:cubicBezTo>
                <a:cubicBezTo>
                  <a:pt x="7038" y="13777"/>
                  <a:pt x="7037" y="13834"/>
                  <a:pt x="7020" y="13940"/>
                </a:cubicBezTo>
                <a:cubicBezTo>
                  <a:pt x="7009" y="14006"/>
                  <a:pt x="6995" y="14029"/>
                  <a:pt x="6945" y="14064"/>
                </a:cubicBezTo>
                <a:cubicBezTo>
                  <a:pt x="6893" y="14101"/>
                  <a:pt x="6832" y="14089"/>
                  <a:pt x="6772" y="14089"/>
                </a:cubicBezTo>
                <a:cubicBezTo>
                  <a:pt x="6699" y="14089"/>
                  <a:pt x="6660" y="14039"/>
                  <a:pt x="6623" y="13990"/>
                </a:cubicBezTo>
                <a:cubicBezTo>
                  <a:pt x="6615" y="13973"/>
                  <a:pt x="6606" y="13957"/>
                  <a:pt x="6598" y="13940"/>
                </a:cubicBezTo>
              </a:path>
              <a:path w="8831" h="2705">
                <a:moveTo>
                  <a:pt x="7268" y="13047"/>
                </a:moveTo>
                <a:cubicBezTo>
                  <a:pt x="7298" y="13024"/>
                  <a:pt x="7328" y="13001"/>
                  <a:pt x="7367" y="12998"/>
                </a:cubicBezTo>
                <a:cubicBezTo>
                  <a:pt x="7451" y="12992"/>
                  <a:pt x="7427" y="13019"/>
                  <a:pt x="7491" y="13047"/>
                </a:cubicBezTo>
                <a:cubicBezTo>
                  <a:pt x="7527" y="13063"/>
                  <a:pt x="7516" y="13075"/>
                  <a:pt x="7516" y="13122"/>
                </a:cubicBezTo>
                <a:cubicBezTo>
                  <a:pt x="7516" y="13159"/>
                  <a:pt x="7506" y="13217"/>
                  <a:pt x="7491" y="13246"/>
                </a:cubicBezTo>
                <a:cubicBezTo>
                  <a:pt x="7474" y="13280"/>
                  <a:pt x="7419" y="13318"/>
                  <a:pt x="7392" y="13345"/>
                </a:cubicBezTo>
                <a:cubicBezTo>
                  <a:pt x="7372" y="13366"/>
                  <a:pt x="7351" y="13412"/>
                  <a:pt x="7342" y="13419"/>
                </a:cubicBezTo>
                <a:cubicBezTo>
                  <a:pt x="7317" y="13419"/>
                  <a:pt x="7309" y="13419"/>
                  <a:pt x="7317" y="13444"/>
                </a:cubicBezTo>
                <a:cubicBezTo>
                  <a:pt x="7438" y="13444"/>
                  <a:pt x="7548" y="13445"/>
                  <a:pt x="7665" y="13469"/>
                </a:cubicBezTo>
                <a:cubicBezTo>
                  <a:pt x="7707" y="13478"/>
                  <a:pt x="7729" y="13475"/>
                  <a:pt x="7739" y="13444"/>
                </a:cubicBezTo>
              </a:path>
              <a:path w="8831" h="2705">
                <a:moveTo>
                  <a:pt x="8310" y="11559"/>
                </a:moveTo>
                <a:cubicBezTo>
                  <a:pt x="8315" y="11589"/>
                  <a:pt x="8327" y="11668"/>
                  <a:pt x="8310" y="11733"/>
                </a:cubicBezTo>
                <a:cubicBezTo>
                  <a:pt x="8284" y="11834"/>
                  <a:pt x="8264" y="11928"/>
                  <a:pt x="8235" y="12030"/>
                </a:cubicBezTo>
                <a:cubicBezTo>
                  <a:pt x="8203" y="12143"/>
                  <a:pt x="8171" y="12263"/>
                  <a:pt x="8161" y="12378"/>
                </a:cubicBezTo>
                <a:cubicBezTo>
                  <a:pt x="8150" y="12501"/>
                  <a:pt x="8153" y="12633"/>
                  <a:pt x="8186" y="12750"/>
                </a:cubicBezTo>
                <a:cubicBezTo>
                  <a:pt x="8215" y="12855"/>
                  <a:pt x="8257" y="12929"/>
                  <a:pt x="8310" y="13022"/>
                </a:cubicBezTo>
                <a:cubicBezTo>
                  <a:pt x="8333" y="13063"/>
                  <a:pt x="8386" y="13125"/>
                  <a:pt x="8434" y="13146"/>
                </a:cubicBezTo>
                <a:cubicBezTo>
                  <a:pt x="8442" y="13146"/>
                  <a:pt x="8450" y="13146"/>
                  <a:pt x="8458" y="13146"/>
                </a:cubicBezTo>
              </a:path>
              <a:path w="8831" h="2705">
                <a:moveTo>
                  <a:pt x="8731" y="11981"/>
                </a:moveTo>
                <a:cubicBezTo>
                  <a:pt x="8759" y="12018"/>
                  <a:pt x="8767" y="12062"/>
                  <a:pt x="8781" y="12105"/>
                </a:cubicBezTo>
                <a:cubicBezTo>
                  <a:pt x="8798" y="12158"/>
                  <a:pt x="8822" y="12240"/>
                  <a:pt x="8855" y="12278"/>
                </a:cubicBezTo>
                <a:cubicBezTo>
                  <a:pt x="8911" y="12342"/>
                  <a:pt x="8979" y="12386"/>
                  <a:pt x="9029" y="12452"/>
                </a:cubicBezTo>
                <a:cubicBezTo>
                  <a:pt x="9081" y="12520"/>
                  <a:pt x="9129" y="12577"/>
                  <a:pt x="9203" y="12626"/>
                </a:cubicBezTo>
                <a:cubicBezTo>
                  <a:pt x="9225" y="12641"/>
                  <a:pt x="9359" y="12726"/>
                  <a:pt x="9376" y="12725"/>
                </a:cubicBezTo>
                <a:cubicBezTo>
                  <a:pt x="9393" y="12717"/>
                  <a:pt x="9409" y="12708"/>
                  <a:pt x="9426" y="12700"/>
                </a:cubicBezTo>
              </a:path>
              <a:path w="8831" h="2705">
                <a:moveTo>
                  <a:pt x="9277" y="12005"/>
                </a:moveTo>
                <a:cubicBezTo>
                  <a:pt x="9230" y="12053"/>
                  <a:pt x="9198" y="12106"/>
                  <a:pt x="9153" y="12154"/>
                </a:cubicBezTo>
                <a:cubicBezTo>
                  <a:pt x="9097" y="12214"/>
                  <a:pt x="9038" y="12302"/>
                  <a:pt x="9004" y="12378"/>
                </a:cubicBezTo>
                <a:cubicBezTo>
                  <a:pt x="8971" y="12453"/>
                  <a:pt x="8942" y="12527"/>
                  <a:pt x="8905" y="12601"/>
                </a:cubicBezTo>
                <a:cubicBezTo>
                  <a:pt x="8879" y="12653"/>
                  <a:pt x="8818" y="12729"/>
                  <a:pt x="8880" y="12750"/>
                </a:cubicBezTo>
              </a:path>
              <a:path w="8831" h="2705">
                <a:moveTo>
                  <a:pt x="9475" y="12402"/>
                </a:moveTo>
                <a:cubicBezTo>
                  <a:pt x="9604" y="12402"/>
                  <a:pt x="9733" y="12400"/>
                  <a:pt x="9847" y="12378"/>
                </a:cubicBezTo>
                <a:cubicBezTo>
                  <a:pt x="9899" y="12378"/>
                  <a:pt x="9917" y="12377"/>
                  <a:pt x="9947" y="12353"/>
                </a:cubicBezTo>
              </a:path>
              <a:path w="8831" h="2705">
                <a:moveTo>
                  <a:pt x="10071" y="12105"/>
                </a:moveTo>
                <a:cubicBezTo>
                  <a:pt x="10183" y="12053"/>
                  <a:pt x="10191" y="12044"/>
                  <a:pt x="10294" y="12055"/>
                </a:cubicBezTo>
                <a:cubicBezTo>
                  <a:pt x="10353" y="12062"/>
                  <a:pt x="10401" y="12084"/>
                  <a:pt x="10418" y="12154"/>
                </a:cubicBezTo>
                <a:cubicBezTo>
                  <a:pt x="10438" y="12237"/>
                  <a:pt x="10437" y="12316"/>
                  <a:pt x="10418" y="12402"/>
                </a:cubicBezTo>
                <a:cubicBezTo>
                  <a:pt x="10402" y="12471"/>
                  <a:pt x="10360" y="12567"/>
                  <a:pt x="10319" y="12626"/>
                </a:cubicBezTo>
                <a:cubicBezTo>
                  <a:pt x="10290" y="12667"/>
                  <a:pt x="10266" y="12675"/>
                  <a:pt x="10220" y="12675"/>
                </a:cubicBezTo>
                <a:cubicBezTo>
                  <a:pt x="10220" y="12637"/>
                  <a:pt x="10201" y="12548"/>
                  <a:pt x="10244" y="12526"/>
                </a:cubicBezTo>
                <a:cubicBezTo>
                  <a:pt x="10297" y="12499"/>
                  <a:pt x="10338" y="12571"/>
                  <a:pt x="10368" y="12601"/>
                </a:cubicBezTo>
                <a:cubicBezTo>
                  <a:pt x="10462" y="12695"/>
                  <a:pt x="10500" y="12688"/>
                  <a:pt x="10616" y="12725"/>
                </a:cubicBezTo>
                <a:cubicBezTo>
                  <a:pt x="10689" y="12748"/>
                  <a:pt x="10724" y="12765"/>
                  <a:pt x="10790" y="12725"/>
                </a:cubicBezTo>
              </a:path>
              <a:path w="8831" h="2705">
                <a:moveTo>
                  <a:pt x="10716" y="11584"/>
                </a:moveTo>
                <a:cubicBezTo>
                  <a:pt x="10783" y="11709"/>
                  <a:pt x="10835" y="11827"/>
                  <a:pt x="10889" y="11956"/>
                </a:cubicBezTo>
                <a:cubicBezTo>
                  <a:pt x="10953" y="12109"/>
                  <a:pt x="10965" y="12240"/>
                  <a:pt x="10988" y="12402"/>
                </a:cubicBezTo>
                <a:cubicBezTo>
                  <a:pt x="11011" y="12563"/>
                  <a:pt x="11014" y="12668"/>
                  <a:pt x="10964" y="12824"/>
                </a:cubicBezTo>
                <a:cubicBezTo>
                  <a:pt x="10932" y="12923"/>
                  <a:pt x="10910" y="12996"/>
                  <a:pt x="10840" y="13072"/>
                </a:cubicBezTo>
                <a:cubicBezTo>
                  <a:pt x="10791" y="13126"/>
                  <a:pt x="10773" y="13157"/>
                  <a:pt x="10790" y="13072"/>
                </a:cubicBezTo>
              </a:path>
              <a:path w="8831" h="2705">
                <a:moveTo>
                  <a:pt x="11485" y="11807"/>
                </a:moveTo>
                <a:cubicBezTo>
                  <a:pt x="11461" y="11947"/>
                  <a:pt x="11424" y="12089"/>
                  <a:pt x="11410" y="12229"/>
                </a:cubicBezTo>
                <a:cubicBezTo>
                  <a:pt x="11398" y="12352"/>
                  <a:pt x="11425" y="12460"/>
                  <a:pt x="11460" y="12576"/>
                </a:cubicBezTo>
                <a:cubicBezTo>
                  <a:pt x="11494" y="12689"/>
                  <a:pt x="11555" y="12789"/>
                  <a:pt x="11633" y="12874"/>
                </a:cubicBezTo>
                <a:cubicBezTo>
                  <a:pt x="11683" y="12929"/>
                  <a:pt x="11774" y="13017"/>
                  <a:pt x="11857" y="12998"/>
                </a:cubicBezTo>
                <a:cubicBezTo>
                  <a:pt x="11900" y="12976"/>
                  <a:pt x="11912" y="12972"/>
                  <a:pt x="11931" y="12948"/>
                </a:cubicBezTo>
              </a:path>
              <a:path w="8831" h="2705">
                <a:moveTo>
                  <a:pt x="11881" y="12254"/>
                </a:moveTo>
                <a:cubicBezTo>
                  <a:pt x="11934" y="12346"/>
                  <a:pt x="12002" y="12476"/>
                  <a:pt x="12080" y="12551"/>
                </a:cubicBezTo>
                <a:cubicBezTo>
                  <a:pt x="12161" y="12629"/>
                  <a:pt x="12263" y="12706"/>
                  <a:pt x="12353" y="12774"/>
                </a:cubicBezTo>
                <a:cubicBezTo>
                  <a:pt x="12434" y="12835"/>
                  <a:pt x="12480" y="12841"/>
                  <a:pt x="12576" y="12849"/>
                </a:cubicBezTo>
              </a:path>
              <a:path w="8831" h="2705">
                <a:moveTo>
                  <a:pt x="12229" y="12278"/>
                </a:moveTo>
                <a:cubicBezTo>
                  <a:pt x="12154" y="12398"/>
                  <a:pt x="12090" y="12534"/>
                  <a:pt x="12055" y="12675"/>
                </a:cubicBezTo>
                <a:cubicBezTo>
                  <a:pt x="12050" y="12697"/>
                  <a:pt x="12009" y="12804"/>
                  <a:pt x="12030" y="12824"/>
                </a:cubicBezTo>
                <a:cubicBezTo>
                  <a:pt x="12038" y="12824"/>
                  <a:pt x="12047" y="12824"/>
                  <a:pt x="12055" y="12824"/>
                </a:cubicBezTo>
              </a:path>
              <a:path w="8831" h="2705">
                <a:moveTo>
                  <a:pt x="12725" y="12179"/>
                </a:moveTo>
                <a:cubicBezTo>
                  <a:pt x="12788" y="12288"/>
                  <a:pt x="12826" y="12403"/>
                  <a:pt x="12849" y="12526"/>
                </a:cubicBezTo>
                <a:cubicBezTo>
                  <a:pt x="12862" y="12597"/>
                  <a:pt x="12893" y="12658"/>
                  <a:pt x="12898" y="12725"/>
                </a:cubicBezTo>
                <a:cubicBezTo>
                  <a:pt x="12898" y="12733"/>
                  <a:pt x="12898" y="12742"/>
                  <a:pt x="12898" y="12750"/>
                </a:cubicBezTo>
              </a:path>
              <a:path w="8831" h="2705">
                <a:moveTo>
                  <a:pt x="12626" y="12452"/>
                </a:moveTo>
                <a:cubicBezTo>
                  <a:pt x="12731" y="12452"/>
                  <a:pt x="12817" y="12468"/>
                  <a:pt x="12923" y="12477"/>
                </a:cubicBezTo>
                <a:cubicBezTo>
                  <a:pt x="12948" y="12477"/>
                  <a:pt x="12973" y="12477"/>
                  <a:pt x="12998" y="12477"/>
                </a:cubicBezTo>
              </a:path>
              <a:path w="8831" h="2705">
                <a:moveTo>
                  <a:pt x="13345" y="12278"/>
                </a:moveTo>
                <a:cubicBezTo>
                  <a:pt x="13385" y="12260"/>
                  <a:pt x="13462" y="12208"/>
                  <a:pt x="13519" y="12229"/>
                </a:cubicBezTo>
                <a:cubicBezTo>
                  <a:pt x="13572" y="12256"/>
                  <a:pt x="13592" y="12268"/>
                  <a:pt x="13618" y="12303"/>
                </a:cubicBezTo>
                <a:cubicBezTo>
                  <a:pt x="13540" y="12381"/>
                  <a:pt x="13353" y="12507"/>
                  <a:pt x="13345" y="12626"/>
                </a:cubicBezTo>
                <a:cubicBezTo>
                  <a:pt x="13340" y="12697"/>
                  <a:pt x="13422" y="12767"/>
                  <a:pt x="13469" y="12799"/>
                </a:cubicBezTo>
                <a:cubicBezTo>
                  <a:pt x="13557" y="12860"/>
                  <a:pt x="13618" y="12866"/>
                  <a:pt x="13717" y="12824"/>
                </a:cubicBezTo>
                <a:cubicBezTo>
                  <a:pt x="13777" y="12794"/>
                  <a:pt x="13803" y="12780"/>
                  <a:pt x="13841" y="12750"/>
                </a:cubicBezTo>
              </a:path>
              <a:path w="8831" h="2705">
                <a:moveTo>
                  <a:pt x="13816" y="11708"/>
                </a:moveTo>
                <a:cubicBezTo>
                  <a:pt x="13979" y="11812"/>
                  <a:pt x="14053" y="11961"/>
                  <a:pt x="14114" y="12154"/>
                </a:cubicBezTo>
                <a:cubicBezTo>
                  <a:pt x="14151" y="12272"/>
                  <a:pt x="14179" y="12477"/>
                  <a:pt x="14163" y="12601"/>
                </a:cubicBezTo>
                <a:cubicBezTo>
                  <a:pt x="14152" y="12687"/>
                  <a:pt x="14138" y="12822"/>
                  <a:pt x="14089" y="12898"/>
                </a:cubicBezTo>
                <a:cubicBezTo>
                  <a:pt x="14027" y="12995"/>
                  <a:pt x="13947" y="13012"/>
                  <a:pt x="13841" y="130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40080" y="4973760"/>
            <a:ext cx="473040" cy="233280"/>
          </a:xfrm>
          <a:custGeom>
            <a:avLst/>
            <a:gdLst/>
            <a:ahLst/>
            <a:rect l="l" t="t" r="r" b="b"/>
            <a:pathLst>
              <a:path w="1316" h="646">
                <a:moveTo>
                  <a:pt x="9302" y="14039"/>
                </a:moveTo>
                <a:cubicBezTo>
                  <a:pt x="9282" y="14113"/>
                  <a:pt x="9256" y="14209"/>
                  <a:pt x="9277" y="14288"/>
                </a:cubicBezTo>
                <a:cubicBezTo>
                  <a:pt x="9293" y="14348"/>
                  <a:pt x="9368" y="14420"/>
                  <a:pt x="9426" y="14436"/>
                </a:cubicBezTo>
                <a:cubicBezTo>
                  <a:pt x="9492" y="14454"/>
                  <a:pt x="9585" y="14466"/>
                  <a:pt x="9649" y="14436"/>
                </a:cubicBezTo>
                <a:cubicBezTo>
                  <a:pt x="9715" y="14405"/>
                  <a:pt x="9785" y="14313"/>
                  <a:pt x="9798" y="14238"/>
                </a:cubicBezTo>
                <a:cubicBezTo>
                  <a:pt x="9811" y="14162"/>
                  <a:pt x="9778" y="14058"/>
                  <a:pt x="9748" y="13990"/>
                </a:cubicBezTo>
                <a:cubicBezTo>
                  <a:pt x="9717" y="13921"/>
                  <a:pt x="9661" y="13879"/>
                  <a:pt x="9599" y="13841"/>
                </a:cubicBezTo>
                <a:cubicBezTo>
                  <a:pt x="9562" y="13818"/>
                  <a:pt x="9483" y="13802"/>
                  <a:pt x="9451" y="13841"/>
                </a:cubicBezTo>
                <a:cubicBezTo>
                  <a:pt x="9426" y="13872"/>
                  <a:pt x="9414" y="13974"/>
                  <a:pt x="9426" y="14015"/>
                </a:cubicBezTo>
                <a:cubicBezTo>
                  <a:pt x="9451" y="14103"/>
                  <a:pt x="9500" y="14183"/>
                  <a:pt x="9575" y="14238"/>
                </a:cubicBezTo>
                <a:cubicBezTo>
                  <a:pt x="9618" y="14260"/>
                  <a:pt x="9630" y="14264"/>
                  <a:pt x="9649" y="14288"/>
                </a:cubicBezTo>
              </a:path>
              <a:path w="1316" h="646">
                <a:moveTo>
                  <a:pt x="10071" y="14213"/>
                </a:moveTo>
                <a:cubicBezTo>
                  <a:pt x="10090" y="14274"/>
                  <a:pt x="10096" y="14284"/>
                  <a:pt x="10096" y="14337"/>
                </a:cubicBezTo>
                <a:cubicBezTo>
                  <a:pt x="10096" y="14248"/>
                  <a:pt x="10088" y="14207"/>
                  <a:pt x="10096" y="14114"/>
                </a:cubicBezTo>
                <a:cubicBezTo>
                  <a:pt x="10104" y="14022"/>
                  <a:pt x="10129" y="13995"/>
                  <a:pt x="10195" y="13940"/>
                </a:cubicBezTo>
                <a:cubicBezTo>
                  <a:pt x="10252" y="13893"/>
                  <a:pt x="10316" y="13873"/>
                  <a:pt x="10393" y="13891"/>
                </a:cubicBezTo>
                <a:cubicBezTo>
                  <a:pt x="10460" y="13906"/>
                  <a:pt x="10526" y="13948"/>
                  <a:pt x="10592" y="139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71800" y="5375160"/>
            <a:ext cx="803160" cy="920880"/>
          </a:xfrm>
          <a:custGeom>
            <a:avLst/>
            <a:gdLst/>
            <a:ahLst/>
            <a:rect l="l" t="t" r="r" b="b"/>
            <a:pathLst>
              <a:path w="2233" h="2556">
                <a:moveTo>
                  <a:pt x="5779" y="14932"/>
                </a:moveTo>
                <a:cubicBezTo>
                  <a:pt x="5779" y="15039"/>
                  <a:pt x="5758" y="15125"/>
                  <a:pt x="5755" y="15230"/>
                </a:cubicBezTo>
                <a:cubicBezTo>
                  <a:pt x="5746" y="15537"/>
                  <a:pt x="5754" y="15844"/>
                  <a:pt x="5779" y="16148"/>
                </a:cubicBezTo>
                <a:cubicBezTo>
                  <a:pt x="5779" y="16149"/>
                  <a:pt x="5781" y="16301"/>
                  <a:pt x="5804" y="16297"/>
                </a:cubicBezTo>
                <a:cubicBezTo>
                  <a:pt x="5832" y="16269"/>
                  <a:pt x="5841" y="16255"/>
                  <a:pt x="5829" y="16222"/>
                </a:cubicBezTo>
              </a:path>
              <a:path w="2233" h="2556">
                <a:moveTo>
                  <a:pt x="6325" y="15503"/>
                </a:moveTo>
                <a:cubicBezTo>
                  <a:pt x="6305" y="15603"/>
                  <a:pt x="6266" y="15702"/>
                  <a:pt x="6251" y="15801"/>
                </a:cubicBezTo>
                <a:cubicBezTo>
                  <a:pt x="6238" y="15884"/>
                  <a:pt x="6252" y="15995"/>
                  <a:pt x="6276" y="16073"/>
                </a:cubicBezTo>
                <a:cubicBezTo>
                  <a:pt x="6293" y="16129"/>
                  <a:pt x="6369" y="16207"/>
                  <a:pt x="6424" y="16222"/>
                </a:cubicBezTo>
                <a:cubicBezTo>
                  <a:pt x="6500" y="16242"/>
                  <a:pt x="6546" y="16220"/>
                  <a:pt x="6598" y="16173"/>
                </a:cubicBezTo>
                <a:cubicBezTo>
                  <a:pt x="6648" y="16127"/>
                  <a:pt x="6687" y="15992"/>
                  <a:pt x="6697" y="15925"/>
                </a:cubicBezTo>
                <a:cubicBezTo>
                  <a:pt x="6715" y="15805"/>
                  <a:pt x="6713" y="15718"/>
                  <a:pt x="6697" y="15602"/>
                </a:cubicBezTo>
                <a:cubicBezTo>
                  <a:pt x="6688" y="15534"/>
                  <a:pt x="6655" y="15449"/>
                  <a:pt x="6598" y="15404"/>
                </a:cubicBezTo>
                <a:cubicBezTo>
                  <a:pt x="6543" y="15360"/>
                  <a:pt x="6477" y="15410"/>
                  <a:pt x="6424" y="15453"/>
                </a:cubicBezTo>
                <a:cubicBezTo>
                  <a:pt x="6340" y="15521"/>
                  <a:pt x="6304" y="15571"/>
                  <a:pt x="6300" y="15677"/>
                </a:cubicBezTo>
                <a:cubicBezTo>
                  <a:pt x="6296" y="15787"/>
                  <a:pt x="6303" y="15818"/>
                  <a:pt x="6375" y="15900"/>
                </a:cubicBezTo>
              </a:path>
              <a:path w="2233" h="2556">
                <a:moveTo>
                  <a:pt x="7169" y="15553"/>
                </a:moveTo>
                <a:cubicBezTo>
                  <a:pt x="7169" y="15536"/>
                  <a:pt x="7169" y="15520"/>
                  <a:pt x="7169" y="15503"/>
                </a:cubicBezTo>
                <a:cubicBezTo>
                  <a:pt x="7122" y="15527"/>
                  <a:pt x="7053" y="15547"/>
                  <a:pt x="7020" y="15602"/>
                </a:cubicBezTo>
                <a:cubicBezTo>
                  <a:pt x="6971" y="15685"/>
                  <a:pt x="6970" y="15783"/>
                  <a:pt x="6970" y="15875"/>
                </a:cubicBezTo>
                <a:cubicBezTo>
                  <a:pt x="6970" y="15998"/>
                  <a:pt x="7029" y="16079"/>
                  <a:pt x="7094" y="16173"/>
                </a:cubicBezTo>
                <a:cubicBezTo>
                  <a:pt x="7140" y="16163"/>
                  <a:pt x="7180" y="16164"/>
                  <a:pt x="7218" y="16123"/>
                </a:cubicBezTo>
                <a:cubicBezTo>
                  <a:pt x="7276" y="16060"/>
                  <a:pt x="7265" y="15950"/>
                  <a:pt x="7293" y="15875"/>
                </a:cubicBezTo>
                <a:cubicBezTo>
                  <a:pt x="7304" y="15847"/>
                  <a:pt x="7346" y="15720"/>
                  <a:pt x="7342" y="15701"/>
                </a:cubicBezTo>
                <a:cubicBezTo>
                  <a:pt x="7342" y="15673"/>
                  <a:pt x="7339" y="15668"/>
                  <a:pt x="7317" y="15701"/>
                </a:cubicBezTo>
                <a:cubicBezTo>
                  <a:pt x="7317" y="15824"/>
                  <a:pt x="7296" y="15922"/>
                  <a:pt x="7293" y="16049"/>
                </a:cubicBezTo>
                <a:cubicBezTo>
                  <a:pt x="7290" y="16185"/>
                  <a:pt x="7291" y="16313"/>
                  <a:pt x="7317" y="16446"/>
                </a:cubicBezTo>
                <a:cubicBezTo>
                  <a:pt x="7348" y="16606"/>
                  <a:pt x="7376" y="16779"/>
                  <a:pt x="7392" y="16942"/>
                </a:cubicBezTo>
                <a:cubicBezTo>
                  <a:pt x="7407" y="17093"/>
                  <a:pt x="7387" y="17243"/>
                  <a:pt x="7367" y="17388"/>
                </a:cubicBezTo>
                <a:cubicBezTo>
                  <a:pt x="7359" y="17444"/>
                  <a:pt x="7358" y="17469"/>
                  <a:pt x="7317" y="17487"/>
                </a:cubicBezTo>
                <a:cubicBezTo>
                  <a:pt x="7280" y="17503"/>
                  <a:pt x="7252" y="17468"/>
                  <a:pt x="7243" y="17438"/>
                </a:cubicBezTo>
                <a:cubicBezTo>
                  <a:pt x="7243" y="17380"/>
                  <a:pt x="7243" y="17355"/>
                  <a:pt x="7243" y="17314"/>
                </a:cubicBezTo>
              </a:path>
              <a:path w="2233" h="2556">
                <a:moveTo>
                  <a:pt x="7590" y="16321"/>
                </a:moveTo>
                <a:cubicBezTo>
                  <a:pt x="7652" y="16321"/>
                  <a:pt x="7716" y="16308"/>
                  <a:pt x="7764" y="16346"/>
                </a:cubicBezTo>
                <a:cubicBezTo>
                  <a:pt x="7797" y="16372"/>
                  <a:pt x="7887" y="16411"/>
                  <a:pt x="7863" y="16470"/>
                </a:cubicBezTo>
                <a:cubicBezTo>
                  <a:pt x="7849" y="16506"/>
                  <a:pt x="7790" y="16565"/>
                  <a:pt x="7764" y="16594"/>
                </a:cubicBezTo>
                <a:cubicBezTo>
                  <a:pt x="7708" y="16655"/>
                  <a:pt x="7714" y="16651"/>
                  <a:pt x="7714" y="16743"/>
                </a:cubicBezTo>
                <a:cubicBezTo>
                  <a:pt x="7714" y="16803"/>
                  <a:pt x="7791" y="16842"/>
                  <a:pt x="7838" y="16867"/>
                </a:cubicBezTo>
                <a:cubicBezTo>
                  <a:pt x="7906" y="16903"/>
                  <a:pt x="7923" y="16875"/>
                  <a:pt x="7987" y="168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90880" y="5322960"/>
            <a:ext cx="1144440" cy="704880"/>
          </a:xfrm>
          <a:custGeom>
            <a:avLst/>
            <a:gdLst/>
            <a:ahLst/>
            <a:rect l="l" t="t" r="r" b="b"/>
            <a:pathLst>
              <a:path w="3176" h="1960">
                <a:moveTo>
                  <a:pt x="8582" y="14784"/>
                </a:moveTo>
                <a:cubicBezTo>
                  <a:pt x="8546" y="14831"/>
                  <a:pt x="8520" y="14893"/>
                  <a:pt x="8483" y="14957"/>
                </a:cubicBezTo>
                <a:cubicBezTo>
                  <a:pt x="8420" y="15067"/>
                  <a:pt x="8391" y="15181"/>
                  <a:pt x="8359" y="15304"/>
                </a:cubicBezTo>
                <a:cubicBezTo>
                  <a:pt x="8325" y="15435"/>
                  <a:pt x="8292" y="15564"/>
                  <a:pt x="8310" y="15701"/>
                </a:cubicBezTo>
                <a:cubicBezTo>
                  <a:pt x="8329" y="15840"/>
                  <a:pt x="8362" y="15980"/>
                  <a:pt x="8434" y="16098"/>
                </a:cubicBezTo>
                <a:cubicBezTo>
                  <a:pt x="8498" y="16204"/>
                  <a:pt x="8537" y="16270"/>
                  <a:pt x="8657" y="16297"/>
                </a:cubicBezTo>
              </a:path>
              <a:path w="3176" h="1960">
                <a:moveTo>
                  <a:pt x="8855" y="15329"/>
                </a:moveTo>
                <a:cubicBezTo>
                  <a:pt x="8867" y="15399"/>
                  <a:pt x="8896" y="15489"/>
                  <a:pt x="8930" y="15553"/>
                </a:cubicBezTo>
                <a:cubicBezTo>
                  <a:pt x="9003" y="15690"/>
                  <a:pt x="9103" y="15831"/>
                  <a:pt x="9203" y="15949"/>
                </a:cubicBezTo>
                <a:cubicBezTo>
                  <a:pt x="9283" y="16043"/>
                  <a:pt x="9378" y="16087"/>
                  <a:pt x="9475" y="16148"/>
                </a:cubicBezTo>
                <a:cubicBezTo>
                  <a:pt x="9483" y="16156"/>
                  <a:pt x="9492" y="16165"/>
                  <a:pt x="9500" y="16173"/>
                </a:cubicBezTo>
              </a:path>
              <a:path w="3176" h="1960">
                <a:moveTo>
                  <a:pt x="9302" y="15280"/>
                </a:moveTo>
                <a:cubicBezTo>
                  <a:pt x="9244" y="15382"/>
                  <a:pt x="9187" y="15464"/>
                  <a:pt x="9153" y="15577"/>
                </a:cubicBezTo>
                <a:cubicBezTo>
                  <a:pt x="9121" y="15684"/>
                  <a:pt x="9068" y="15771"/>
                  <a:pt x="9029" y="15875"/>
                </a:cubicBezTo>
                <a:cubicBezTo>
                  <a:pt x="9006" y="15935"/>
                  <a:pt x="8960" y="16010"/>
                  <a:pt x="8954" y="16073"/>
                </a:cubicBezTo>
                <a:cubicBezTo>
                  <a:pt x="8948" y="16131"/>
                  <a:pt x="8990" y="16063"/>
                  <a:pt x="9004" y="16049"/>
                </a:cubicBezTo>
              </a:path>
              <a:path w="3176" h="1960">
                <a:moveTo>
                  <a:pt x="9451" y="14982"/>
                </a:moveTo>
                <a:cubicBezTo>
                  <a:pt x="9465" y="14976"/>
                  <a:pt x="9655" y="14846"/>
                  <a:pt x="9699" y="14932"/>
                </a:cubicBezTo>
                <a:cubicBezTo>
                  <a:pt x="9719" y="14972"/>
                  <a:pt x="9689" y="15027"/>
                  <a:pt x="9674" y="15056"/>
                </a:cubicBezTo>
                <a:cubicBezTo>
                  <a:pt x="9643" y="15114"/>
                  <a:pt x="9622" y="15112"/>
                  <a:pt x="9599" y="15156"/>
                </a:cubicBezTo>
                <a:cubicBezTo>
                  <a:pt x="9559" y="15234"/>
                  <a:pt x="9633" y="15254"/>
                  <a:pt x="9674" y="15280"/>
                </a:cubicBezTo>
                <a:cubicBezTo>
                  <a:pt x="9740" y="15322"/>
                  <a:pt x="9766" y="15329"/>
                  <a:pt x="9847" y="15329"/>
                </a:cubicBezTo>
                <a:cubicBezTo>
                  <a:pt x="9855" y="15329"/>
                  <a:pt x="9864" y="15329"/>
                  <a:pt x="9872" y="15329"/>
                </a:cubicBezTo>
              </a:path>
              <a:path w="3176" h="1960">
                <a:moveTo>
                  <a:pt x="9922" y="15627"/>
                </a:moveTo>
                <a:cubicBezTo>
                  <a:pt x="10049" y="15648"/>
                  <a:pt x="10125" y="15660"/>
                  <a:pt x="10244" y="15627"/>
                </a:cubicBezTo>
                <a:cubicBezTo>
                  <a:pt x="10277" y="15619"/>
                  <a:pt x="10311" y="15610"/>
                  <a:pt x="10344" y="15602"/>
                </a:cubicBezTo>
              </a:path>
              <a:path w="3176" h="1960">
                <a:moveTo>
                  <a:pt x="10592" y="15329"/>
                </a:moveTo>
                <a:cubicBezTo>
                  <a:pt x="10565" y="15396"/>
                  <a:pt x="10542" y="15455"/>
                  <a:pt x="10542" y="15528"/>
                </a:cubicBezTo>
                <a:cubicBezTo>
                  <a:pt x="10542" y="15583"/>
                  <a:pt x="10535" y="15603"/>
                  <a:pt x="10567" y="15627"/>
                </a:cubicBezTo>
                <a:cubicBezTo>
                  <a:pt x="10612" y="15661"/>
                  <a:pt x="10680" y="15674"/>
                  <a:pt x="10740" y="15677"/>
                </a:cubicBezTo>
                <a:cubicBezTo>
                  <a:pt x="10803" y="15681"/>
                  <a:pt x="10832" y="15674"/>
                  <a:pt x="10889" y="15652"/>
                </a:cubicBezTo>
              </a:path>
              <a:path w="3176" h="1960">
                <a:moveTo>
                  <a:pt x="10914" y="15205"/>
                </a:moveTo>
                <a:cubicBezTo>
                  <a:pt x="10888" y="15404"/>
                  <a:pt x="10873" y="15535"/>
                  <a:pt x="10889" y="15726"/>
                </a:cubicBezTo>
                <a:cubicBezTo>
                  <a:pt x="10900" y="15856"/>
                  <a:pt x="10921" y="15971"/>
                  <a:pt x="10939" y="16098"/>
                </a:cubicBezTo>
                <a:cubicBezTo>
                  <a:pt x="10949" y="16170"/>
                  <a:pt x="10947" y="16215"/>
                  <a:pt x="10988" y="16272"/>
                </a:cubicBezTo>
              </a:path>
              <a:path w="3176" h="1960">
                <a:moveTo>
                  <a:pt x="11137" y="14858"/>
                </a:moveTo>
                <a:cubicBezTo>
                  <a:pt x="11248" y="14913"/>
                  <a:pt x="11288" y="15007"/>
                  <a:pt x="11336" y="15131"/>
                </a:cubicBezTo>
                <a:cubicBezTo>
                  <a:pt x="11413" y="15328"/>
                  <a:pt x="11470" y="15540"/>
                  <a:pt x="11485" y="15751"/>
                </a:cubicBezTo>
                <a:cubicBezTo>
                  <a:pt x="11502" y="15982"/>
                  <a:pt x="11470" y="16230"/>
                  <a:pt x="11385" y="16446"/>
                </a:cubicBezTo>
                <a:cubicBezTo>
                  <a:pt x="11330" y="16586"/>
                  <a:pt x="11246" y="16646"/>
                  <a:pt x="11137" y="1674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76160" y="3894120"/>
            <a:ext cx="501840" cy="669960"/>
          </a:xfrm>
          <a:custGeom>
            <a:avLst/>
            <a:gdLst/>
            <a:ahLst/>
            <a:rect l="l" t="t" r="r" b="b"/>
            <a:pathLst>
              <a:path w="1390" h="1861">
                <a:moveTo>
                  <a:pt x="2158" y="11112"/>
                </a:moveTo>
                <a:cubicBezTo>
                  <a:pt x="2176" y="11195"/>
                  <a:pt x="2165" y="11281"/>
                  <a:pt x="2183" y="11361"/>
                </a:cubicBezTo>
                <a:cubicBezTo>
                  <a:pt x="2203" y="11452"/>
                  <a:pt x="2190" y="11543"/>
                  <a:pt x="2208" y="11633"/>
                </a:cubicBezTo>
                <a:cubicBezTo>
                  <a:pt x="2234" y="11760"/>
                  <a:pt x="2213" y="11850"/>
                  <a:pt x="2208" y="11981"/>
                </a:cubicBezTo>
                <a:cubicBezTo>
                  <a:pt x="2208" y="11991"/>
                  <a:pt x="2208" y="12146"/>
                  <a:pt x="2208" y="12080"/>
                </a:cubicBezTo>
                <a:cubicBezTo>
                  <a:pt x="2208" y="12037"/>
                  <a:pt x="2213" y="12012"/>
                  <a:pt x="2232" y="11981"/>
                </a:cubicBezTo>
              </a:path>
              <a:path w="1390" h="1861">
                <a:moveTo>
                  <a:pt x="2580" y="11212"/>
                </a:moveTo>
                <a:cubicBezTo>
                  <a:pt x="2707" y="11212"/>
                  <a:pt x="2840" y="11221"/>
                  <a:pt x="2952" y="11187"/>
                </a:cubicBezTo>
                <a:cubicBezTo>
                  <a:pt x="2977" y="11187"/>
                  <a:pt x="2985" y="11187"/>
                  <a:pt x="2977" y="11162"/>
                </a:cubicBezTo>
              </a:path>
              <a:path w="1390" h="1861">
                <a:moveTo>
                  <a:pt x="2679" y="11162"/>
                </a:moveTo>
                <a:cubicBezTo>
                  <a:pt x="2652" y="11224"/>
                  <a:pt x="2633" y="11294"/>
                  <a:pt x="2629" y="11361"/>
                </a:cubicBezTo>
                <a:cubicBezTo>
                  <a:pt x="2625" y="11430"/>
                  <a:pt x="2609" y="11471"/>
                  <a:pt x="2604" y="11534"/>
                </a:cubicBezTo>
                <a:cubicBezTo>
                  <a:pt x="2601" y="11575"/>
                  <a:pt x="2604" y="11617"/>
                  <a:pt x="2604" y="11658"/>
                </a:cubicBezTo>
                <a:cubicBezTo>
                  <a:pt x="2636" y="11647"/>
                  <a:pt x="2634" y="11618"/>
                  <a:pt x="2654" y="11609"/>
                </a:cubicBezTo>
                <a:cubicBezTo>
                  <a:pt x="2679" y="11597"/>
                  <a:pt x="2691" y="11545"/>
                  <a:pt x="2729" y="11534"/>
                </a:cubicBezTo>
                <a:cubicBezTo>
                  <a:pt x="2766" y="11523"/>
                  <a:pt x="2849" y="11545"/>
                  <a:pt x="2877" y="11559"/>
                </a:cubicBezTo>
                <a:cubicBezTo>
                  <a:pt x="2917" y="11579"/>
                  <a:pt x="2956" y="11648"/>
                  <a:pt x="2977" y="11683"/>
                </a:cubicBezTo>
                <a:cubicBezTo>
                  <a:pt x="3018" y="11753"/>
                  <a:pt x="3026" y="11802"/>
                  <a:pt x="3026" y="11881"/>
                </a:cubicBezTo>
                <a:cubicBezTo>
                  <a:pt x="3026" y="11963"/>
                  <a:pt x="2999" y="12007"/>
                  <a:pt x="2927" y="12055"/>
                </a:cubicBezTo>
                <a:cubicBezTo>
                  <a:pt x="2871" y="12092"/>
                  <a:pt x="2795" y="12125"/>
                  <a:pt x="2729" y="12129"/>
                </a:cubicBezTo>
                <a:cubicBezTo>
                  <a:pt x="2691" y="12131"/>
                  <a:pt x="2577" y="12150"/>
                  <a:pt x="2555" y="12105"/>
                </a:cubicBezTo>
                <a:cubicBezTo>
                  <a:pt x="2548" y="12090"/>
                  <a:pt x="2555" y="12047"/>
                  <a:pt x="2555" y="12030"/>
                </a:cubicBezTo>
              </a:path>
              <a:path w="1390" h="1861">
                <a:moveTo>
                  <a:pt x="2952" y="10815"/>
                </a:moveTo>
                <a:cubicBezTo>
                  <a:pt x="3082" y="10945"/>
                  <a:pt x="3197" y="11063"/>
                  <a:pt x="3299" y="11212"/>
                </a:cubicBezTo>
                <a:cubicBezTo>
                  <a:pt x="3415" y="11382"/>
                  <a:pt x="3527" y="11546"/>
                  <a:pt x="3547" y="11757"/>
                </a:cubicBezTo>
                <a:cubicBezTo>
                  <a:pt x="3564" y="11934"/>
                  <a:pt x="3510" y="12125"/>
                  <a:pt x="3423" y="12278"/>
                </a:cubicBezTo>
                <a:cubicBezTo>
                  <a:pt x="3379" y="12355"/>
                  <a:pt x="3312" y="12492"/>
                  <a:pt x="3249" y="12551"/>
                </a:cubicBezTo>
                <a:cubicBezTo>
                  <a:pt x="3205" y="12592"/>
                  <a:pt x="3181" y="12625"/>
                  <a:pt x="3150" y="126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18080" y="1295280"/>
            <a:ext cx="750960" cy="1150920"/>
          </a:xfrm>
          <a:custGeom>
            <a:avLst/>
            <a:gdLst/>
            <a:ahLst/>
            <a:rect l="l" t="t" r="r" b="b"/>
            <a:pathLst>
              <a:path w="2085" h="3200">
                <a:moveTo>
                  <a:pt x="16247" y="3597"/>
                </a:moveTo>
                <a:cubicBezTo>
                  <a:pt x="16298" y="3600"/>
                  <a:pt x="16358" y="3618"/>
                  <a:pt x="16396" y="3621"/>
                </a:cubicBezTo>
                <a:cubicBezTo>
                  <a:pt x="16705" y="3649"/>
                  <a:pt x="17048" y="3577"/>
                  <a:pt x="17338" y="3646"/>
                </a:cubicBezTo>
                <a:cubicBezTo>
                  <a:pt x="17389" y="3658"/>
                  <a:pt x="17390" y="3630"/>
                  <a:pt x="17413" y="3671"/>
                </a:cubicBezTo>
                <a:cubicBezTo>
                  <a:pt x="17602" y="4018"/>
                  <a:pt x="17394" y="4994"/>
                  <a:pt x="17363" y="5358"/>
                </a:cubicBezTo>
                <a:cubicBezTo>
                  <a:pt x="17349" y="5523"/>
                  <a:pt x="17338" y="5688"/>
                  <a:pt x="17338" y="5854"/>
                </a:cubicBezTo>
                <a:cubicBezTo>
                  <a:pt x="17338" y="6036"/>
                  <a:pt x="17324" y="6179"/>
                  <a:pt x="17314" y="6350"/>
                </a:cubicBezTo>
                <a:cubicBezTo>
                  <a:pt x="17309" y="6441"/>
                  <a:pt x="17296" y="6546"/>
                  <a:pt x="17289" y="6623"/>
                </a:cubicBezTo>
                <a:cubicBezTo>
                  <a:pt x="17284" y="6680"/>
                  <a:pt x="17293" y="6739"/>
                  <a:pt x="17289" y="6796"/>
                </a:cubicBezTo>
                <a:cubicBezTo>
                  <a:pt x="17250" y="6789"/>
                  <a:pt x="17207" y="6774"/>
                  <a:pt x="17140" y="6772"/>
                </a:cubicBezTo>
                <a:cubicBezTo>
                  <a:pt x="17037" y="6770"/>
                  <a:pt x="16943" y="6758"/>
                  <a:pt x="16842" y="6747"/>
                </a:cubicBezTo>
                <a:cubicBezTo>
                  <a:pt x="16704" y="6733"/>
                  <a:pt x="16559" y="6740"/>
                  <a:pt x="16421" y="6722"/>
                </a:cubicBezTo>
                <a:cubicBezTo>
                  <a:pt x="16271" y="6703"/>
                  <a:pt x="16128" y="6697"/>
                  <a:pt x="15974" y="6697"/>
                </a:cubicBezTo>
                <a:cubicBezTo>
                  <a:pt x="15868" y="6697"/>
                  <a:pt x="15779" y="6679"/>
                  <a:pt x="15677" y="6672"/>
                </a:cubicBezTo>
                <a:cubicBezTo>
                  <a:pt x="15599" y="6666"/>
                  <a:pt x="15545" y="6664"/>
                  <a:pt x="15478" y="6648"/>
                </a:cubicBezTo>
                <a:cubicBezTo>
                  <a:pt x="15427" y="6636"/>
                  <a:pt x="15388" y="6631"/>
                  <a:pt x="15329" y="66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04960" y="830160"/>
            <a:ext cx="2448000" cy="590760"/>
          </a:xfrm>
          <a:custGeom>
            <a:avLst/>
            <a:gdLst/>
            <a:ahLst/>
            <a:rect l="l" t="t" r="r" b="b"/>
            <a:pathLst>
              <a:path w="6797" h="1638">
                <a:moveTo>
                  <a:pt x="4738" y="2952"/>
                </a:moveTo>
                <a:cubicBezTo>
                  <a:pt x="4776" y="2900"/>
                  <a:pt x="4761" y="2880"/>
                  <a:pt x="4812" y="2828"/>
                </a:cubicBezTo>
                <a:cubicBezTo>
                  <a:pt x="4883" y="2755"/>
                  <a:pt x="4990" y="2690"/>
                  <a:pt x="5085" y="2654"/>
                </a:cubicBezTo>
                <a:cubicBezTo>
                  <a:pt x="5325" y="2562"/>
                  <a:pt x="5577" y="2487"/>
                  <a:pt x="5829" y="2431"/>
                </a:cubicBezTo>
                <a:cubicBezTo>
                  <a:pt x="6036" y="2385"/>
                  <a:pt x="6241" y="2377"/>
                  <a:pt x="6449" y="2356"/>
                </a:cubicBezTo>
                <a:cubicBezTo>
                  <a:pt x="6672" y="2333"/>
                  <a:pt x="6894" y="2311"/>
                  <a:pt x="7119" y="2307"/>
                </a:cubicBezTo>
                <a:cubicBezTo>
                  <a:pt x="7414" y="2302"/>
                  <a:pt x="7719" y="2324"/>
                  <a:pt x="8012" y="2356"/>
                </a:cubicBezTo>
                <a:cubicBezTo>
                  <a:pt x="8244" y="2381"/>
                  <a:pt x="8480" y="2422"/>
                  <a:pt x="8706" y="2480"/>
                </a:cubicBezTo>
                <a:cubicBezTo>
                  <a:pt x="8945" y="2542"/>
                  <a:pt x="9188" y="2583"/>
                  <a:pt x="9426" y="2654"/>
                </a:cubicBezTo>
                <a:cubicBezTo>
                  <a:pt x="9644" y="2719"/>
                  <a:pt x="9866" y="2805"/>
                  <a:pt x="10071" y="2902"/>
                </a:cubicBezTo>
                <a:cubicBezTo>
                  <a:pt x="10320" y="3020"/>
                  <a:pt x="10538" y="3173"/>
                  <a:pt x="10765" y="3324"/>
                </a:cubicBezTo>
                <a:cubicBezTo>
                  <a:pt x="10913" y="3422"/>
                  <a:pt x="11054" y="3528"/>
                  <a:pt x="11187" y="3646"/>
                </a:cubicBezTo>
                <a:cubicBezTo>
                  <a:pt x="11271" y="3721"/>
                  <a:pt x="11346" y="3799"/>
                  <a:pt x="11435" y="3870"/>
                </a:cubicBezTo>
                <a:cubicBezTo>
                  <a:pt x="11626" y="4023"/>
                  <a:pt x="11492" y="3899"/>
                  <a:pt x="11460" y="3944"/>
                </a:cubicBezTo>
                <a:cubicBezTo>
                  <a:pt x="11443" y="3927"/>
                  <a:pt x="11427" y="3911"/>
                  <a:pt x="11410" y="38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54080" y="1544760"/>
            <a:ext cx="401760" cy="554040"/>
          </a:xfrm>
          <a:custGeom>
            <a:avLst/>
            <a:gdLst/>
            <a:ahLst/>
            <a:rect l="l" t="t" r="r" b="b"/>
            <a:pathLst>
              <a:path w="1117" h="1539">
                <a:moveTo>
                  <a:pt x="2927" y="4291"/>
                </a:moveTo>
                <a:cubicBezTo>
                  <a:pt x="2927" y="4336"/>
                  <a:pt x="2949" y="4350"/>
                  <a:pt x="2952" y="4390"/>
                </a:cubicBezTo>
                <a:cubicBezTo>
                  <a:pt x="2984" y="4839"/>
                  <a:pt x="2983" y="5336"/>
                  <a:pt x="2927" y="5779"/>
                </a:cubicBezTo>
                <a:cubicBezTo>
                  <a:pt x="2912" y="5901"/>
                  <a:pt x="2927" y="5733"/>
                  <a:pt x="2927" y="5705"/>
                </a:cubicBezTo>
              </a:path>
              <a:path w="1117" h="1539">
                <a:moveTo>
                  <a:pt x="3274" y="4465"/>
                </a:moveTo>
                <a:cubicBezTo>
                  <a:pt x="3274" y="4569"/>
                  <a:pt x="3260" y="4662"/>
                  <a:pt x="3249" y="4762"/>
                </a:cubicBezTo>
                <a:cubicBezTo>
                  <a:pt x="3227" y="4957"/>
                  <a:pt x="3230" y="5194"/>
                  <a:pt x="3274" y="5383"/>
                </a:cubicBezTo>
                <a:cubicBezTo>
                  <a:pt x="3301" y="5500"/>
                  <a:pt x="3302" y="5647"/>
                  <a:pt x="3398" y="5730"/>
                </a:cubicBezTo>
                <a:cubicBezTo>
                  <a:pt x="3435" y="5762"/>
                  <a:pt x="3527" y="5768"/>
                  <a:pt x="3572" y="5755"/>
                </a:cubicBezTo>
                <a:cubicBezTo>
                  <a:pt x="3623" y="5741"/>
                  <a:pt x="3700" y="5653"/>
                  <a:pt x="3721" y="5606"/>
                </a:cubicBezTo>
                <a:cubicBezTo>
                  <a:pt x="3745" y="5554"/>
                  <a:pt x="3808" y="5442"/>
                  <a:pt x="3795" y="5383"/>
                </a:cubicBezTo>
                <a:cubicBezTo>
                  <a:pt x="3787" y="5347"/>
                  <a:pt x="3766" y="5305"/>
                  <a:pt x="3721" y="5308"/>
                </a:cubicBezTo>
                <a:cubicBezTo>
                  <a:pt x="3660" y="5312"/>
                  <a:pt x="3632" y="5366"/>
                  <a:pt x="3597" y="5407"/>
                </a:cubicBezTo>
                <a:cubicBezTo>
                  <a:pt x="3557" y="5455"/>
                  <a:pt x="3554" y="5542"/>
                  <a:pt x="3547" y="5606"/>
                </a:cubicBezTo>
                <a:cubicBezTo>
                  <a:pt x="3542" y="5647"/>
                  <a:pt x="3559" y="5671"/>
                  <a:pt x="3572" y="5705"/>
                </a:cubicBezTo>
              </a:path>
              <a:path w="1117" h="1539">
                <a:moveTo>
                  <a:pt x="4043" y="5680"/>
                </a:moveTo>
                <a:cubicBezTo>
                  <a:pt x="4043" y="5705"/>
                  <a:pt x="4043" y="5713"/>
                  <a:pt x="4018" y="570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14720" y="1374840"/>
            <a:ext cx="1687320" cy="706320"/>
          </a:xfrm>
          <a:custGeom>
            <a:avLst/>
            <a:gdLst/>
            <a:ahLst/>
            <a:rect l="l" t="t" r="r" b="b"/>
            <a:pathLst>
              <a:path w="4689" h="1960">
                <a:moveTo>
                  <a:pt x="6251" y="5209"/>
                </a:moveTo>
                <a:cubicBezTo>
                  <a:pt x="6294" y="5244"/>
                  <a:pt x="6339" y="5277"/>
                  <a:pt x="6400" y="5259"/>
                </a:cubicBezTo>
                <a:cubicBezTo>
                  <a:pt x="6452" y="5244"/>
                  <a:pt x="6517" y="5212"/>
                  <a:pt x="6573" y="5184"/>
                </a:cubicBezTo>
                <a:cubicBezTo>
                  <a:pt x="6646" y="5147"/>
                  <a:pt x="6712" y="5090"/>
                  <a:pt x="6772" y="5035"/>
                </a:cubicBezTo>
                <a:cubicBezTo>
                  <a:pt x="6809" y="5001"/>
                  <a:pt x="6838" y="4927"/>
                  <a:pt x="6846" y="4887"/>
                </a:cubicBezTo>
                <a:cubicBezTo>
                  <a:pt x="6855" y="4841"/>
                  <a:pt x="6824" y="4793"/>
                  <a:pt x="6796" y="4762"/>
                </a:cubicBezTo>
                <a:cubicBezTo>
                  <a:pt x="6749" y="4710"/>
                  <a:pt x="6739" y="4717"/>
                  <a:pt x="6672" y="4713"/>
                </a:cubicBezTo>
                <a:cubicBezTo>
                  <a:pt x="6590" y="4708"/>
                  <a:pt x="6568" y="4726"/>
                  <a:pt x="6499" y="4762"/>
                </a:cubicBezTo>
                <a:cubicBezTo>
                  <a:pt x="6404" y="4812"/>
                  <a:pt x="6339" y="4861"/>
                  <a:pt x="6300" y="4961"/>
                </a:cubicBezTo>
                <a:cubicBezTo>
                  <a:pt x="6260" y="5065"/>
                  <a:pt x="6226" y="5124"/>
                  <a:pt x="6201" y="5234"/>
                </a:cubicBezTo>
                <a:cubicBezTo>
                  <a:pt x="6183" y="5314"/>
                  <a:pt x="6139" y="5425"/>
                  <a:pt x="6152" y="5507"/>
                </a:cubicBezTo>
                <a:cubicBezTo>
                  <a:pt x="6163" y="5575"/>
                  <a:pt x="6214" y="5693"/>
                  <a:pt x="6276" y="5730"/>
                </a:cubicBezTo>
                <a:cubicBezTo>
                  <a:pt x="6369" y="5785"/>
                  <a:pt x="6469" y="5779"/>
                  <a:pt x="6573" y="5779"/>
                </a:cubicBezTo>
                <a:cubicBezTo>
                  <a:pt x="6687" y="5779"/>
                  <a:pt x="6787" y="5769"/>
                  <a:pt x="6896" y="5755"/>
                </a:cubicBezTo>
                <a:cubicBezTo>
                  <a:pt x="6965" y="5746"/>
                  <a:pt x="7010" y="5748"/>
                  <a:pt x="7045" y="5730"/>
                </a:cubicBezTo>
              </a:path>
              <a:path w="4689" h="1960">
                <a:moveTo>
                  <a:pt x="7045" y="4539"/>
                </a:moveTo>
                <a:cubicBezTo>
                  <a:pt x="7104" y="4539"/>
                  <a:pt x="7277" y="4563"/>
                  <a:pt x="7293" y="4514"/>
                </a:cubicBezTo>
                <a:cubicBezTo>
                  <a:pt x="7293" y="4539"/>
                  <a:pt x="7293" y="4547"/>
                  <a:pt x="7293" y="4514"/>
                </a:cubicBezTo>
              </a:path>
              <a:path w="4689" h="1960">
                <a:moveTo>
                  <a:pt x="7541" y="4118"/>
                </a:moveTo>
                <a:cubicBezTo>
                  <a:pt x="7514" y="4153"/>
                  <a:pt x="7494" y="4194"/>
                  <a:pt x="7491" y="4242"/>
                </a:cubicBezTo>
                <a:cubicBezTo>
                  <a:pt x="7487" y="4306"/>
                  <a:pt x="7466" y="4344"/>
                  <a:pt x="7466" y="4415"/>
                </a:cubicBezTo>
                <a:cubicBezTo>
                  <a:pt x="7466" y="4456"/>
                  <a:pt x="7471" y="4495"/>
                  <a:pt x="7516" y="4514"/>
                </a:cubicBezTo>
                <a:cubicBezTo>
                  <a:pt x="7541" y="4525"/>
                  <a:pt x="7598" y="4480"/>
                  <a:pt x="7615" y="4465"/>
                </a:cubicBezTo>
                <a:cubicBezTo>
                  <a:pt x="7651" y="4433"/>
                  <a:pt x="7661" y="4362"/>
                  <a:pt x="7665" y="4316"/>
                </a:cubicBezTo>
                <a:cubicBezTo>
                  <a:pt x="7669" y="4264"/>
                  <a:pt x="7673" y="4229"/>
                  <a:pt x="7640" y="4192"/>
                </a:cubicBezTo>
                <a:cubicBezTo>
                  <a:pt x="7612" y="4160"/>
                  <a:pt x="7583" y="4123"/>
                  <a:pt x="7541" y="4118"/>
                </a:cubicBezTo>
                <a:cubicBezTo>
                  <a:pt x="7501" y="4114"/>
                  <a:pt x="7483" y="4045"/>
                  <a:pt x="7516" y="4142"/>
                </a:cubicBezTo>
              </a:path>
              <a:path w="4689" h="1960">
                <a:moveTo>
                  <a:pt x="7764" y="4341"/>
                </a:moveTo>
                <a:cubicBezTo>
                  <a:pt x="7739" y="4341"/>
                  <a:pt x="7731" y="4341"/>
                  <a:pt x="7764" y="4341"/>
                </a:cubicBezTo>
              </a:path>
              <a:path w="4689" h="1960">
                <a:moveTo>
                  <a:pt x="8086" y="3994"/>
                </a:moveTo>
                <a:cubicBezTo>
                  <a:pt x="8058" y="4032"/>
                  <a:pt x="8055" y="4074"/>
                  <a:pt x="8037" y="4118"/>
                </a:cubicBezTo>
                <a:cubicBezTo>
                  <a:pt x="8011" y="4183"/>
                  <a:pt x="7992" y="4246"/>
                  <a:pt x="7987" y="4316"/>
                </a:cubicBezTo>
                <a:cubicBezTo>
                  <a:pt x="7984" y="4359"/>
                  <a:pt x="8025" y="4386"/>
                  <a:pt x="8062" y="4390"/>
                </a:cubicBezTo>
                <a:cubicBezTo>
                  <a:pt x="8114" y="4396"/>
                  <a:pt x="8164" y="4394"/>
                  <a:pt x="8210" y="4366"/>
                </a:cubicBezTo>
                <a:cubicBezTo>
                  <a:pt x="8242" y="4346"/>
                  <a:pt x="8302" y="4274"/>
                  <a:pt x="8310" y="4242"/>
                </a:cubicBezTo>
                <a:cubicBezTo>
                  <a:pt x="8323" y="4195"/>
                  <a:pt x="8314" y="4126"/>
                  <a:pt x="8285" y="4093"/>
                </a:cubicBezTo>
                <a:cubicBezTo>
                  <a:pt x="8280" y="4087"/>
                  <a:pt x="8192" y="3979"/>
                  <a:pt x="8161" y="4018"/>
                </a:cubicBezTo>
                <a:cubicBezTo>
                  <a:pt x="8161" y="4026"/>
                  <a:pt x="8161" y="4035"/>
                  <a:pt x="8161" y="4043"/>
                </a:cubicBezTo>
              </a:path>
              <a:path w="4689" h="1960">
                <a:moveTo>
                  <a:pt x="8483" y="4043"/>
                </a:moveTo>
                <a:cubicBezTo>
                  <a:pt x="8447" y="4106"/>
                  <a:pt x="8413" y="4143"/>
                  <a:pt x="8409" y="4217"/>
                </a:cubicBezTo>
                <a:cubicBezTo>
                  <a:pt x="8407" y="4261"/>
                  <a:pt x="8388" y="4367"/>
                  <a:pt x="8434" y="4390"/>
                </a:cubicBezTo>
                <a:cubicBezTo>
                  <a:pt x="8484" y="4415"/>
                  <a:pt x="8447" y="4410"/>
                  <a:pt x="8508" y="4390"/>
                </a:cubicBezTo>
                <a:cubicBezTo>
                  <a:pt x="8557" y="4374"/>
                  <a:pt x="8563" y="4361"/>
                  <a:pt x="8582" y="4316"/>
                </a:cubicBezTo>
                <a:cubicBezTo>
                  <a:pt x="8614" y="4240"/>
                  <a:pt x="8603" y="4236"/>
                  <a:pt x="8582" y="4167"/>
                </a:cubicBezTo>
                <a:cubicBezTo>
                  <a:pt x="8567" y="4118"/>
                  <a:pt x="8560" y="4118"/>
                  <a:pt x="8508" y="4118"/>
                </a:cubicBezTo>
              </a:path>
              <a:path w="4689" h="1960">
                <a:moveTo>
                  <a:pt x="9054" y="3870"/>
                </a:moveTo>
                <a:cubicBezTo>
                  <a:pt x="9046" y="3853"/>
                  <a:pt x="9037" y="3837"/>
                  <a:pt x="9029" y="3820"/>
                </a:cubicBezTo>
                <a:cubicBezTo>
                  <a:pt x="8996" y="3853"/>
                  <a:pt x="8915" y="3926"/>
                  <a:pt x="8905" y="3944"/>
                </a:cubicBezTo>
                <a:cubicBezTo>
                  <a:pt x="8858" y="4028"/>
                  <a:pt x="8884" y="4031"/>
                  <a:pt x="8905" y="4093"/>
                </a:cubicBezTo>
                <a:cubicBezTo>
                  <a:pt x="8912" y="4115"/>
                  <a:pt x="8943" y="4138"/>
                  <a:pt x="8979" y="4118"/>
                </a:cubicBezTo>
                <a:cubicBezTo>
                  <a:pt x="9020" y="4095"/>
                  <a:pt x="9026" y="3958"/>
                  <a:pt x="9029" y="3944"/>
                </a:cubicBezTo>
                <a:cubicBezTo>
                  <a:pt x="9029" y="4027"/>
                  <a:pt x="9008" y="4088"/>
                  <a:pt x="9004" y="4167"/>
                </a:cubicBezTo>
                <a:cubicBezTo>
                  <a:pt x="9000" y="4237"/>
                  <a:pt x="9012" y="4284"/>
                  <a:pt x="9029" y="4341"/>
                </a:cubicBezTo>
                <a:cubicBezTo>
                  <a:pt x="9032" y="4350"/>
                  <a:pt x="9029" y="4459"/>
                  <a:pt x="9029" y="4390"/>
                </a:cubicBezTo>
                <a:cubicBezTo>
                  <a:pt x="9029" y="4362"/>
                  <a:pt x="9032" y="4352"/>
                  <a:pt x="9054" y="4341"/>
                </a:cubicBezTo>
              </a:path>
              <a:path w="4689" h="1960">
                <a:moveTo>
                  <a:pt x="9302" y="3845"/>
                </a:moveTo>
                <a:cubicBezTo>
                  <a:pt x="9401" y="3845"/>
                  <a:pt x="9403" y="3828"/>
                  <a:pt x="9475" y="3820"/>
                </a:cubicBezTo>
                <a:cubicBezTo>
                  <a:pt x="9526" y="3814"/>
                  <a:pt x="9524" y="3813"/>
                  <a:pt x="9500" y="3845"/>
                </a:cubicBezTo>
                <a:cubicBezTo>
                  <a:pt x="9455" y="3904"/>
                  <a:pt x="9417" y="3937"/>
                  <a:pt x="9401" y="4018"/>
                </a:cubicBezTo>
                <a:cubicBezTo>
                  <a:pt x="9388" y="4085"/>
                  <a:pt x="9362" y="4151"/>
                  <a:pt x="9351" y="4217"/>
                </a:cubicBezTo>
                <a:cubicBezTo>
                  <a:pt x="9343" y="4263"/>
                  <a:pt x="9351" y="4319"/>
                  <a:pt x="9351" y="4366"/>
                </a:cubicBezTo>
                <a:cubicBezTo>
                  <a:pt x="9380" y="4337"/>
                  <a:pt x="9392" y="4328"/>
                  <a:pt x="9401" y="4291"/>
                </a:cubicBezTo>
              </a:path>
              <a:path w="4689" h="1960">
                <a:moveTo>
                  <a:pt x="9699" y="3944"/>
                </a:moveTo>
                <a:cubicBezTo>
                  <a:pt x="9724" y="4047"/>
                  <a:pt x="9729" y="4092"/>
                  <a:pt x="9798" y="4167"/>
                </a:cubicBezTo>
                <a:cubicBezTo>
                  <a:pt x="9816" y="4187"/>
                  <a:pt x="9891" y="4282"/>
                  <a:pt x="9922" y="4291"/>
                </a:cubicBezTo>
                <a:cubicBezTo>
                  <a:pt x="9969" y="4305"/>
                  <a:pt x="10012" y="4291"/>
                  <a:pt x="10046" y="4266"/>
                </a:cubicBezTo>
              </a:path>
              <a:path w="4689" h="1960">
                <a:moveTo>
                  <a:pt x="9947" y="3944"/>
                </a:moveTo>
                <a:cubicBezTo>
                  <a:pt x="9878" y="4050"/>
                  <a:pt x="9793" y="4139"/>
                  <a:pt x="9723" y="4242"/>
                </a:cubicBezTo>
                <a:cubicBezTo>
                  <a:pt x="9695" y="4283"/>
                  <a:pt x="9666" y="4326"/>
                  <a:pt x="9649" y="4366"/>
                </a:cubicBezTo>
                <a:cubicBezTo>
                  <a:pt x="9629" y="4406"/>
                  <a:pt x="9620" y="4412"/>
                  <a:pt x="9624" y="4440"/>
                </a:cubicBezTo>
              </a:path>
              <a:path w="4689" h="1960">
                <a:moveTo>
                  <a:pt x="10418" y="4688"/>
                </a:moveTo>
                <a:cubicBezTo>
                  <a:pt x="10482" y="4712"/>
                  <a:pt x="10523" y="4713"/>
                  <a:pt x="10592" y="4713"/>
                </a:cubicBezTo>
                <a:cubicBezTo>
                  <a:pt x="10628" y="4713"/>
                  <a:pt x="10881" y="4710"/>
                  <a:pt x="10815" y="4738"/>
                </a:cubicBezTo>
                <a:cubicBezTo>
                  <a:pt x="10807" y="4738"/>
                  <a:pt x="10798" y="4738"/>
                  <a:pt x="10790" y="4738"/>
                </a:cubicBezTo>
              </a:path>
              <a:path w="4689" h="1960">
                <a:moveTo>
                  <a:pt x="10517" y="4887"/>
                </a:moveTo>
                <a:cubicBezTo>
                  <a:pt x="10531" y="4927"/>
                  <a:pt x="10566" y="4911"/>
                  <a:pt x="10616" y="4911"/>
                </a:cubicBezTo>
                <a:cubicBezTo>
                  <a:pt x="10682" y="4911"/>
                  <a:pt x="10749" y="4911"/>
                  <a:pt x="10815" y="49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08120" y="2419200"/>
            <a:ext cx="892080" cy="563760"/>
          </a:xfrm>
          <a:custGeom>
            <a:avLst/>
            <a:gdLst/>
            <a:ahLst/>
            <a:rect l="l" t="t" r="r" b="b"/>
            <a:pathLst>
              <a:path w="2481" h="1564">
                <a:moveTo>
                  <a:pt x="4539" y="6772"/>
                </a:moveTo>
                <a:cubicBezTo>
                  <a:pt x="4539" y="6730"/>
                  <a:pt x="4531" y="6714"/>
                  <a:pt x="4564" y="6722"/>
                </a:cubicBezTo>
                <a:cubicBezTo>
                  <a:pt x="4564" y="6850"/>
                  <a:pt x="4553" y="6970"/>
                  <a:pt x="4539" y="7094"/>
                </a:cubicBezTo>
                <a:cubicBezTo>
                  <a:pt x="4525" y="7216"/>
                  <a:pt x="4517" y="7344"/>
                  <a:pt x="4514" y="7466"/>
                </a:cubicBezTo>
                <a:cubicBezTo>
                  <a:pt x="4510" y="7593"/>
                  <a:pt x="4490" y="7710"/>
                  <a:pt x="4490" y="7838"/>
                </a:cubicBezTo>
                <a:cubicBezTo>
                  <a:pt x="4490" y="7951"/>
                  <a:pt x="4471" y="8055"/>
                  <a:pt x="4465" y="8161"/>
                </a:cubicBezTo>
                <a:cubicBezTo>
                  <a:pt x="4463" y="8194"/>
                  <a:pt x="4465" y="8227"/>
                  <a:pt x="4465" y="8260"/>
                </a:cubicBezTo>
                <a:cubicBezTo>
                  <a:pt x="4475" y="8252"/>
                  <a:pt x="4509" y="8215"/>
                  <a:pt x="4539" y="8210"/>
                </a:cubicBezTo>
                <a:cubicBezTo>
                  <a:pt x="4598" y="8201"/>
                  <a:pt x="4657" y="8195"/>
                  <a:pt x="4713" y="8186"/>
                </a:cubicBezTo>
                <a:cubicBezTo>
                  <a:pt x="4830" y="8167"/>
                  <a:pt x="4966" y="8186"/>
                  <a:pt x="5085" y="8186"/>
                </a:cubicBezTo>
                <a:cubicBezTo>
                  <a:pt x="5091" y="8135"/>
                  <a:pt x="5082" y="8129"/>
                  <a:pt x="5110" y="8086"/>
                </a:cubicBezTo>
                <a:cubicBezTo>
                  <a:pt x="5148" y="8027"/>
                  <a:pt x="5198" y="7972"/>
                  <a:pt x="5234" y="7913"/>
                </a:cubicBezTo>
                <a:cubicBezTo>
                  <a:pt x="5242" y="7896"/>
                  <a:pt x="5251" y="7880"/>
                  <a:pt x="5259" y="7863"/>
                </a:cubicBezTo>
              </a:path>
              <a:path w="2481" h="1564">
                <a:moveTo>
                  <a:pt x="5333" y="7665"/>
                </a:moveTo>
                <a:cubicBezTo>
                  <a:pt x="5333" y="7785"/>
                  <a:pt x="5340" y="7898"/>
                  <a:pt x="5358" y="8012"/>
                </a:cubicBezTo>
                <a:cubicBezTo>
                  <a:pt x="5371" y="8092"/>
                  <a:pt x="5362" y="8164"/>
                  <a:pt x="5383" y="8235"/>
                </a:cubicBezTo>
                <a:cubicBezTo>
                  <a:pt x="5383" y="8260"/>
                  <a:pt x="5383" y="8268"/>
                  <a:pt x="5383" y="8285"/>
                </a:cubicBezTo>
                <a:cubicBezTo>
                  <a:pt x="5372" y="8240"/>
                  <a:pt x="5358" y="8215"/>
                  <a:pt x="5358" y="8161"/>
                </a:cubicBezTo>
                <a:cubicBezTo>
                  <a:pt x="5358" y="8084"/>
                  <a:pt x="5398" y="8012"/>
                  <a:pt x="5407" y="7938"/>
                </a:cubicBezTo>
                <a:cubicBezTo>
                  <a:pt x="5416" y="7862"/>
                  <a:pt x="5433" y="7785"/>
                  <a:pt x="5457" y="7714"/>
                </a:cubicBezTo>
                <a:cubicBezTo>
                  <a:pt x="5478" y="7652"/>
                  <a:pt x="5543" y="7586"/>
                  <a:pt x="5606" y="7565"/>
                </a:cubicBezTo>
                <a:cubicBezTo>
                  <a:pt x="5642" y="7553"/>
                  <a:pt x="5728" y="7619"/>
                  <a:pt x="5755" y="7640"/>
                </a:cubicBezTo>
                <a:cubicBezTo>
                  <a:pt x="5803" y="7677"/>
                  <a:pt x="5827" y="7760"/>
                  <a:pt x="5854" y="7813"/>
                </a:cubicBezTo>
                <a:cubicBezTo>
                  <a:pt x="5887" y="7879"/>
                  <a:pt x="5879" y="7939"/>
                  <a:pt x="5879" y="8012"/>
                </a:cubicBezTo>
                <a:cubicBezTo>
                  <a:pt x="5879" y="8065"/>
                  <a:pt x="5854" y="8144"/>
                  <a:pt x="5904" y="8111"/>
                </a:cubicBezTo>
              </a:path>
              <a:path w="2481" h="1564">
                <a:moveTo>
                  <a:pt x="6672" y="7813"/>
                </a:moveTo>
                <a:cubicBezTo>
                  <a:pt x="6753" y="7805"/>
                  <a:pt x="6758" y="7791"/>
                  <a:pt x="6821" y="7764"/>
                </a:cubicBezTo>
                <a:cubicBezTo>
                  <a:pt x="6874" y="7741"/>
                  <a:pt x="6924" y="7694"/>
                  <a:pt x="6945" y="7640"/>
                </a:cubicBezTo>
                <a:cubicBezTo>
                  <a:pt x="6960" y="7600"/>
                  <a:pt x="6944" y="7545"/>
                  <a:pt x="6921" y="7516"/>
                </a:cubicBezTo>
                <a:cubicBezTo>
                  <a:pt x="6882" y="7467"/>
                  <a:pt x="6815" y="7484"/>
                  <a:pt x="6772" y="7491"/>
                </a:cubicBezTo>
                <a:cubicBezTo>
                  <a:pt x="6711" y="7501"/>
                  <a:pt x="6660" y="7537"/>
                  <a:pt x="6623" y="7590"/>
                </a:cubicBezTo>
                <a:cubicBezTo>
                  <a:pt x="6581" y="7650"/>
                  <a:pt x="6515" y="7766"/>
                  <a:pt x="6499" y="7838"/>
                </a:cubicBezTo>
                <a:cubicBezTo>
                  <a:pt x="6486" y="7898"/>
                  <a:pt x="6493" y="7986"/>
                  <a:pt x="6524" y="8037"/>
                </a:cubicBezTo>
                <a:cubicBezTo>
                  <a:pt x="6561" y="8099"/>
                  <a:pt x="6615" y="8092"/>
                  <a:pt x="6672" y="8111"/>
                </a:cubicBezTo>
                <a:cubicBezTo>
                  <a:pt x="6733" y="8132"/>
                  <a:pt x="6781" y="8136"/>
                  <a:pt x="6846" y="8136"/>
                </a:cubicBezTo>
                <a:cubicBezTo>
                  <a:pt x="6900" y="8136"/>
                  <a:pt x="6883" y="8124"/>
                  <a:pt x="6921" y="81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1490760"/>
            <a:ext cx="455400" cy="474480"/>
          </a:xfrm>
          <a:custGeom>
            <a:avLst/>
            <a:gdLst/>
            <a:ahLst/>
            <a:rect l="l" t="t" r="r" b="b"/>
            <a:pathLst>
              <a:path w="1266" h="1316">
                <a:moveTo>
                  <a:pt x="12353" y="4142"/>
                </a:moveTo>
                <a:cubicBezTo>
                  <a:pt x="12312" y="4224"/>
                  <a:pt x="12303" y="4273"/>
                  <a:pt x="12303" y="4366"/>
                </a:cubicBezTo>
                <a:cubicBezTo>
                  <a:pt x="12303" y="4477"/>
                  <a:pt x="12282" y="4578"/>
                  <a:pt x="12278" y="4688"/>
                </a:cubicBezTo>
                <a:cubicBezTo>
                  <a:pt x="12274" y="4795"/>
                  <a:pt x="12291" y="4885"/>
                  <a:pt x="12303" y="4986"/>
                </a:cubicBezTo>
                <a:cubicBezTo>
                  <a:pt x="12313" y="5068"/>
                  <a:pt x="12324" y="5153"/>
                  <a:pt x="12328" y="5234"/>
                </a:cubicBezTo>
                <a:cubicBezTo>
                  <a:pt x="12330" y="5264"/>
                  <a:pt x="12322" y="5383"/>
                  <a:pt x="12378" y="5383"/>
                </a:cubicBezTo>
                <a:cubicBezTo>
                  <a:pt x="12378" y="5375"/>
                  <a:pt x="12378" y="5366"/>
                  <a:pt x="12378" y="5358"/>
                </a:cubicBezTo>
              </a:path>
              <a:path w="1266" h="1316">
                <a:moveTo>
                  <a:pt x="12824" y="4366"/>
                </a:moveTo>
                <a:cubicBezTo>
                  <a:pt x="12879" y="4327"/>
                  <a:pt x="12952" y="4257"/>
                  <a:pt x="13022" y="4242"/>
                </a:cubicBezTo>
                <a:cubicBezTo>
                  <a:pt x="13100" y="4225"/>
                  <a:pt x="13229" y="4225"/>
                  <a:pt x="13295" y="4266"/>
                </a:cubicBezTo>
                <a:cubicBezTo>
                  <a:pt x="13330" y="4287"/>
                  <a:pt x="13409" y="4376"/>
                  <a:pt x="13419" y="4415"/>
                </a:cubicBezTo>
                <a:cubicBezTo>
                  <a:pt x="13436" y="4481"/>
                  <a:pt x="13418" y="4578"/>
                  <a:pt x="13395" y="4638"/>
                </a:cubicBezTo>
                <a:cubicBezTo>
                  <a:pt x="13362" y="4724"/>
                  <a:pt x="13311" y="4786"/>
                  <a:pt x="13271" y="4862"/>
                </a:cubicBezTo>
                <a:cubicBezTo>
                  <a:pt x="13227" y="4946"/>
                  <a:pt x="13215" y="4990"/>
                  <a:pt x="13146" y="5060"/>
                </a:cubicBezTo>
                <a:cubicBezTo>
                  <a:pt x="13092" y="5115"/>
                  <a:pt x="13021" y="5179"/>
                  <a:pt x="12973" y="5234"/>
                </a:cubicBezTo>
                <a:cubicBezTo>
                  <a:pt x="12929" y="5285"/>
                  <a:pt x="12896" y="5332"/>
                  <a:pt x="12849" y="5383"/>
                </a:cubicBezTo>
                <a:cubicBezTo>
                  <a:pt x="12835" y="5399"/>
                  <a:pt x="12838" y="5415"/>
                  <a:pt x="12824" y="5432"/>
                </a:cubicBezTo>
                <a:cubicBezTo>
                  <a:pt x="12891" y="5473"/>
                  <a:pt x="12870" y="5445"/>
                  <a:pt x="12948" y="5432"/>
                </a:cubicBezTo>
                <a:cubicBezTo>
                  <a:pt x="13054" y="5414"/>
                  <a:pt x="13164" y="5410"/>
                  <a:pt x="13271" y="5407"/>
                </a:cubicBezTo>
                <a:cubicBezTo>
                  <a:pt x="13323" y="5405"/>
                  <a:pt x="13463" y="5438"/>
                  <a:pt x="13494" y="5432"/>
                </a:cubicBezTo>
                <a:cubicBezTo>
                  <a:pt x="13567" y="5417"/>
                  <a:pt x="13521" y="5409"/>
                  <a:pt x="13494" y="538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81200" y="2286000"/>
            <a:ext cx="1660680" cy="473040"/>
          </a:xfrm>
          <a:custGeom>
            <a:avLst/>
            <a:gdLst/>
            <a:ahLst/>
            <a:rect l="l" t="t" r="r" b="b"/>
            <a:pathLst>
              <a:path w="4614" h="1316">
                <a:moveTo>
                  <a:pt x="7169" y="7045"/>
                </a:moveTo>
                <a:cubicBezTo>
                  <a:pt x="7229" y="7045"/>
                  <a:pt x="7376" y="7068"/>
                  <a:pt x="7392" y="7020"/>
                </a:cubicBezTo>
              </a:path>
              <a:path w="4614" h="1316">
                <a:moveTo>
                  <a:pt x="7764" y="6648"/>
                </a:moveTo>
                <a:cubicBezTo>
                  <a:pt x="7738" y="6707"/>
                  <a:pt x="7718" y="6756"/>
                  <a:pt x="7714" y="6821"/>
                </a:cubicBezTo>
                <a:cubicBezTo>
                  <a:pt x="7711" y="6882"/>
                  <a:pt x="7665" y="6957"/>
                  <a:pt x="7689" y="7020"/>
                </a:cubicBezTo>
                <a:cubicBezTo>
                  <a:pt x="7710" y="7073"/>
                  <a:pt x="7756" y="7113"/>
                  <a:pt x="7813" y="7119"/>
                </a:cubicBezTo>
                <a:cubicBezTo>
                  <a:pt x="7840" y="7122"/>
                  <a:pt x="7942" y="7091"/>
                  <a:pt x="7962" y="7069"/>
                </a:cubicBezTo>
                <a:cubicBezTo>
                  <a:pt x="7997" y="7032"/>
                  <a:pt x="8009" y="6943"/>
                  <a:pt x="8012" y="6896"/>
                </a:cubicBezTo>
                <a:cubicBezTo>
                  <a:pt x="8015" y="6846"/>
                  <a:pt x="7989" y="6767"/>
                  <a:pt x="7962" y="6722"/>
                </a:cubicBezTo>
                <a:cubicBezTo>
                  <a:pt x="7937" y="6680"/>
                  <a:pt x="7894" y="6669"/>
                  <a:pt x="7863" y="6648"/>
                </a:cubicBezTo>
                <a:cubicBezTo>
                  <a:pt x="7818" y="6618"/>
                  <a:pt x="7784" y="6613"/>
                  <a:pt x="7813" y="6672"/>
                </a:cubicBezTo>
              </a:path>
              <a:path w="4614" h="1316">
                <a:moveTo>
                  <a:pt x="8210" y="6995"/>
                </a:moveTo>
                <a:cubicBezTo>
                  <a:pt x="8166" y="7041"/>
                  <a:pt x="8225" y="7024"/>
                  <a:pt x="8235" y="6995"/>
                </a:cubicBezTo>
              </a:path>
              <a:path w="4614" h="1316">
                <a:moveTo>
                  <a:pt x="8458" y="6573"/>
                </a:moveTo>
                <a:cubicBezTo>
                  <a:pt x="8435" y="6637"/>
                  <a:pt x="8434" y="6679"/>
                  <a:pt x="8434" y="6747"/>
                </a:cubicBezTo>
                <a:cubicBezTo>
                  <a:pt x="8434" y="6808"/>
                  <a:pt x="8422" y="6868"/>
                  <a:pt x="8458" y="6921"/>
                </a:cubicBezTo>
                <a:cubicBezTo>
                  <a:pt x="8486" y="6962"/>
                  <a:pt x="8534" y="6992"/>
                  <a:pt x="8582" y="6995"/>
                </a:cubicBezTo>
                <a:cubicBezTo>
                  <a:pt x="8667" y="7001"/>
                  <a:pt x="8669" y="6984"/>
                  <a:pt x="8731" y="6945"/>
                </a:cubicBezTo>
                <a:cubicBezTo>
                  <a:pt x="8822" y="6888"/>
                  <a:pt x="8830" y="6856"/>
                  <a:pt x="8830" y="6747"/>
                </a:cubicBezTo>
                <a:cubicBezTo>
                  <a:pt x="8830" y="6681"/>
                  <a:pt x="8828" y="6649"/>
                  <a:pt x="8781" y="6598"/>
                </a:cubicBezTo>
                <a:cubicBezTo>
                  <a:pt x="8734" y="6548"/>
                  <a:pt x="8721" y="6524"/>
                  <a:pt x="8657" y="6524"/>
                </a:cubicBezTo>
                <a:cubicBezTo>
                  <a:pt x="8604" y="6524"/>
                  <a:pt x="8565" y="6511"/>
                  <a:pt x="8558" y="6573"/>
                </a:cubicBezTo>
                <a:cubicBezTo>
                  <a:pt x="8553" y="6618"/>
                  <a:pt x="8557" y="6638"/>
                  <a:pt x="8582" y="6672"/>
                </a:cubicBezTo>
              </a:path>
              <a:path w="4614" h="1316">
                <a:moveTo>
                  <a:pt x="8905" y="6573"/>
                </a:moveTo>
                <a:cubicBezTo>
                  <a:pt x="8885" y="6627"/>
                  <a:pt x="8844" y="6697"/>
                  <a:pt x="8830" y="6747"/>
                </a:cubicBezTo>
                <a:cubicBezTo>
                  <a:pt x="8816" y="6799"/>
                  <a:pt x="8836" y="6887"/>
                  <a:pt x="8880" y="6921"/>
                </a:cubicBezTo>
                <a:cubicBezTo>
                  <a:pt x="8911" y="6945"/>
                  <a:pt x="8962" y="6945"/>
                  <a:pt x="9004" y="6945"/>
                </a:cubicBezTo>
                <a:cubicBezTo>
                  <a:pt x="9053" y="6945"/>
                  <a:pt x="9114" y="6900"/>
                  <a:pt x="9153" y="6871"/>
                </a:cubicBezTo>
                <a:cubicBezTo>
                  <a:pt x="9213" y="6826"/>
                  <a:pt x="9203" y="6762"/>
                  <a:pt x="9203" y="6697"/>
                </a:cubicBezTo>
                <a:cubicBezTo>
                  <a:pt x="9203" y="6631"/>
                  <a:pt x="9200" y="6599"/>
                  <a:pt x="9153" y="6548"/>
                </a:cubicBezTo>
                <a:cubicBezTo>
                  <a:pt x="9119" y="6511"/>
                  <a:pt x="9075" y="6524"/>
                  <a:pt x="9029" y="6524"/>
                </a:cubicBezTo>
                <a:cubicBezTo>
                  <a:pt x="8954" y="6524"/>
                  <a:pt x="8958" y="6593"/>
                  <a:pt x="8954" y="6648"/>
                </a:cubicBezTo>
                <a:cubicBezTo>
                  <a:pt x="8954" y="6683"/>
                  <a:pt x="8959" y="6700"/>
                  <a:pt x="8979" y="6722"/>
                </a:cubicBezTo>
              </a:path>
              <a:path w="4614" h="1316">
                <a:moveTo>
                  <a:pt x="9624" y="6424"/>
                </a:moveTo>
                <a:cubicBezTo>
                  <a:pt x="9569" y="6409"/>
                  <a:pt x="9525" y="6405"/>
                  <a:pt x="9475" y="6449"/>
                </a:cubicBezTo>
                <a:cubicBezTo>
                  <a:pt x="9439" y="6480"/>
                  <a:pt x="9347" y="6569"/>
                  <a:pt x="9351" y="6623"/>
                </a:cubicBezTo>
                <a:cubicBezTo>
                  <a:pt x="9353" y="6643"/>
                  <a:pt x="9405" y="6712"/>
                  <a:pt x="9426" y="6722"/>
                </a:cubicBezTo>
                <a:cubicBezTo>
                  <a:pt x="9460" y="6737"/>
                  <a:pt x="9581" y="6734"/>
                  <a:pt x="9599" y="6697"/>
                </a:cubicBezTo>
                <a:cubicBezTo>
                  <a:pt x="9617" y="6661"/>
                  <a:pt x="9607" y="6608"/>
                  <a:pt x="9624" y="6573"/>
                </a:cubicBezTo>
                <a:cubicBezTo>
                  <a:pt x="9649" y="6548"/>
                  <a:pt x="9657" y="6540"/>
                  <a:pt x="9624" y="6524"/>
                </a:cubicBezTo>
                <a:cubicBezTo>
                  <a:pt x="9624" y="6579"/>
                  <a:pt x="9613" y="6595"/>
                  <a:pt x="9599" y="6648"/>
                </a:cubicBezTo>
                <a:cubicBezTo>
                  <a:pt x="9580" y="6724"/>
                  <a:pt x="9608" y="6802"/>
                  <a:pt x="9624" y="6871"/>
                </a:cubicBezTo>
                <a:cubicBezTo>
                  <a:pt x="9632" y="6907"/>
                  <a:pt x="9629" y="6940"/>
                  <a:pt x="9649" y="6970"/>
                </a:cubicBezTo>
                <a:cubicBezTo>
                  <a:pt x="9692" y="7035"/>
                  <a:pt x="9711" y="6925"/>
                  <a:pt x="9723" y="6896"/>
                </a:cubicBezTo>
              </a:path>
              <a:path w="4614" h="1316">
                <a:moveTo>
                  <a:pt x="9872" y="6400"/>
                </a:moveTo>
                <a:cubicBezTo>
                  <a:pt x="9929" y="6390"/>
                  <a:pt x="10087" y="6398"/>
                  <a:pt x="10145" y="6375"/>
                </a:cubicBezTo>
                <a:cubicBezTo>
                  <a:pt x="10189" y="6358"/>
                  <a:pt x="10216" y="6350"/>
                  <a:pt x="10269" y="6350"/>
                </a:cubicBezTo>
                <a:cubicBezTo>
                  <a:pt x="10258" y="6394"/>
                  <a:pt x="10242" y="6433"/>
                  <a:pt x="10220" y="6474"/>
                </a:cubicBezTo>
                <a:cubicBezTo>
                  <a:pt x="10189" y="6533"/>
                  <a:pt x="10175" y="6607"/>
                  <a:pt x="10170" y="6672"/>
                </a:cubicBezTo>
                <a:cubicBezTo>
                  <a:pt x="10165" y="6734"/>
                  <a:pt x="10180" y="6772"/>
                  <a:pt x="10195" y="6821"/>
                </a:cubicBezTo>
                <a:cubicBezTo>
                  <a:pt x="10207" y="6862"/>
                  <a:pt x="10195" y="6928"/>
                  <a:pt x="10195" y="6970"/>
                </a:cubicBezTo>
              </a:path>
              <a:path w="4614" h="1316">
                <a:moveTo>
                  <a:pt x="10592" y="6424"/>
                </a:moveTo>
                <a:cubicBezTo>
                  <a:pt x="10592" y="6519"/>
                  <a:pt x="10598" y="6563"/>
                  <a:pt x="10641" y="6648"/>
                </a:cubicBezTo>
                <a:cubicBezTo>
                  <a:pt x="10686" y="6737"/>
                  <a:pt x="10773" y="6822"/>
                  <a:pt x="10840" y="6896"/>
                </a:cubicBezTo>
                <a:cubicBezTo>
                  <a:pt x="10864" y="6923"/>
                  <a:pt x="10932" y="6963"/>
                  <a:pt x="10964" y="6970"/>
                </a:cubicBezTo>
                <a:cubicBezTo>
                  <a:pt x="11029" y="6984"/>
                  <a:pt x="11013" y="6963"/>
                  <a:pt x="11013" y="6921"/>
                </a:cubicBezTo>
              </a:path>
              <a:path w="4614" h="1316">
                <a:moveTo>
                  <a:pt x="10914" y="6474"/>
                </a:moveTo>
                <a:cubicBezTo>
                  <a:pt x="10857" y="6531"/>
                  <a:pt x="10804" y="6578"/>
                  <a:pt x="10765" y="6648"/>
                </a:cubicBezTo>
                <a:cubicBezTo>
                  <a:pt x="10731" y="6709"/>
                  <a:pt x="10667" y="6802"/>
                  <a:pt x="10616" y="6846"/>
                </a:cubicBezTo>
                <a:cubicBezTo>
                  <a:pt x="10565" y="6891"/>
                  <a:pt x="10517" y="6897"/>
                  <a:pt x="10492" y="6970"/>
                </a:cubicBezTo>
                <a:cubicBezTo>
                  <a:pt x="10492" y="6998"/>
                  <a:pt x="10494" y="7009"/>
                  <a:pt x="10517" y="7020"/>
                </a:cubicBezTo>
              </a:path>
              <a:path w="4614" h="1316">
                <a:moveTo>
                  <a:pt x="11336" y="7392"/>
                </a:moveTo>
                <a:cubicBezTo>
                  <a:pt x="11387" y="7392"/>
                  <a:pt x="11412" y="7374"/>
                  <a:pt x="11460" y="7367"/>
                </a:cubicBezTo>
                <a:cubicBezTo>
                  <a:pt x="11549" y="7355"/>
                  <a:pt x="11635" y="7377"/>
                  <a:pt x="11708" y="7392"/>
                </a:cubicBezTo>
                <a:cubicBezTo>
                  <a:pt x="11749" y="7392"/>
                  <a:pt x="11765" y="7384"/>
                  <a:pt x="11757" y="7417"/>
                </a:cubicBezTo>
              </a:path>
              <a:path w="4614" h="1316">
                <a:moveTo>
                  <a:pt x="11410" y="7640"/>
                </a:moveTo>
                <a:cubicBezTo>
                  <a:pt x="11490" y="7640"/>
                  <a:pt x="11557" y="7656"/>
                  <a:pt x="11633" y="7665"/>
                </a:cubicBezTo>
                <a:cubicBezTo>
                  <a:pt x="11708" y="7665"/>
                  <a:pt x="11732" y="7665"/>
                  <a:pt x="11782" y="76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62640" y="2384280"/>
            <a:ext cx="385560" cy="598680"/>
          </a:xfrm>
          <a:custGeom>
            <a:avLst/>
            <a:gdLst/>
            <a:ahLst/>
            <a:rect l="l" t="t" r="r" b="b"/>
            <a:pathLst>
              <a:path w="1068" h="1663">
                <a:moveTo>
                  <a:pt x="12750" y="6623"/>
                </a:moveTo>
                <a:cubicBezTo>
                  <a:pt x="12743" y="6726"/>
                  <a:pt x="12725" y="6817"/>
                  <a:pt x="12725" y="6921"/>
                </a:cubicBezTo>
                <a:cubicBezTo>
                  <a:pt x="12725" y="7065"/>
                  <a:pt x="12704" y="7199"/>
                  <a:pt x="12700" y="7342"/>
                </a:cubicBezTo>
                <a:cubicBezTo>
                  <a:pt x="12696" y="7485"/>
                  <a:pt x="12675" y="7619"/>
                  <a:pt x="12675" y="7764"/>
                </a:cubicBezTo>
                <a:cubicBezTo>
                  <a:pt x="12675" y="7899"/>
                  <a:pt x="12676" y="8090"/>
                  <a:pt x="12700" y="8186"/>
                </a:cubicBezTo>
                <a:cubicBezTo>
                  <a:pt x="12700" y="8194"/>
                  <a:pt x="12700" y="8202"/>
                  <a:pt x="12700" y="8210"/>
                </a:cubicBezTo>
                <a:cubicBezTo>
                  <a:pt x="12717" y="8189"/>
                  <a:pt x="12751" y="8150"/>
                  <a:pt x="12774" y="8111"/>
                </a:cubicBezTo>
                <a:cubicBezTo>
                  <a:pt x="12782" y="8095"/>
                  <a:pt x="12791" y="8078"/>
                  <a:pt x="12799" y="8062"/>
                </a:cubicBezTo>
              </a:path>
              <a:path w="1068" h="1663">
                <a:moveTo>
                  <a:pt x="13047" y="7640"/>
                </a:moveTo>
                <a:cubicBezTo>
                  <a:pt x="13030" y="7755"/>
                  <a:pt x="13022" y="7847"/>
                  <a:pt x="13022" y="7962"/>
                </a:cubicBezTo>
                <a:cubicBezTo>
                  <a:pt x="13022" y="8036"/>
                  <a:pt x="13030" y="8099"/>
                  <a:pt x="13047" y="8161"/>
                </a:cubicBezTo>
                <a:cubicBezTo>
                  <a:pt x="13047" y="8169"/>
                  <a:pt x="13047" y="8178"/>
                  <a:pt x="13047" y="8186"/>
                </a:cubicBezTo>
                <a:cubicBezTo>
                  <a:pt x="13087" y="8173"/>
                  <a:pt x="13072" y="8137"/>
                  <a:pt x="13072" y="8086"/>
                </a:cubicBezTo>
                <a:cubicBezTo>
                  <a:pt x="13072" y="8012"/>
                  <a:pt x="13088" y="7955"/>
                  <a:pt x="13097" y="7888"/>
                </a:cubicBezTo>
                <a:cubicBezTo>
                  <a:pt x="13106" y="7821"/>
                  <a:pt x="13114" y="7718"/>
                  <a:pt x="13171" y="7665"/>
                </a:cubicBezTo>
                <a:cubicBezTo>
                  <a:pt x="13242" y="7600"/>
                  <a:pt x="13382" y="7577"/>
                  <a:pt x="13469" y="7590"/>
                </a:cubicBezTo>
                <a:cubicBezTo>
                  <a:pt x="13571" y="7605"/>
                  <a:pt x="13581" y="7720"/>
                  <a:pt x="13618" y="7789"/>
                </a:cubicBezTo>
                <a:cubicBezTo>
                  <a:pt x="13674" y="7893"/>
                  <a:pt x="13692" y="7943"/>
                  <a:pt x="13692" y="8062"/>
                </a:cubicBezTo>
                <a:cubicBezTo>
                  <a:pt x="13692" y="8137"/>
                  <a:pt x="13717" y="8186"/>
                  <a:pt x="13717" y="8260"/>
                </a:cubicBezTo>
                <a:cubicBezTo>
                  <a:pt x="13717" y="8297"/>
                  <a:pt x="13737" y="8246"/>
                  <a:pt x="13742" y="82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05240" y="2554200"/>
            <a:ext cx="482760" cy="446040"/>
          </a:xfrm>
          <a:custGeom>
            <a:avLst/>
            <a:gdLst/>
            <a:ahLst/>
            <a:rect l="l" t="t" r="r" b="b"/>
            <a:pathLst>
              <a:path w="1341" h="1241">
                <a:moveTo>
                  <a:pt x="14486" y="7094"/>
                </a:moveTo>
                <a:cubicBezTo>
                  <a:pt x="14463" y="7206"/>
                  <a:pt x="14461" y="7303"/>
                  <a:pt x="14461" y="7417"/>
                </a:cubicBezTo>
                <a:cubicBezTo>
                  <a:pt x="14461" y="7681"/>
                  <a:pt x="14461" y="7946"/>
                  <a:pt x="14461" y="8210"/>
                </a:cubicBezTo>
                <a:cubicBezTo>
                  <a:pt x="14461" y="8167"/>
                  <a:pt x="14472" y="8124"/>
                  <a:pt x="14486" y="8086"/>
                </a:cubicBezTo>
                <a:cubicBezTo>
                  <a:pt x="14494" y="8070"/>
                  <a:pt x="14503" y="8053"/>
                  <a:pt x="14511" y="8037"/>
                </a:cubicBezTo>
              </a:path>
              <a:path w="1341" h="1241">
                <a:moveTo>
                  <a:pt x="14858" y="7243"/>
                </a:moveTo>
                <a:cubicBezTo>
                  <a:pt x="14952" y="7171"/>
                  <a:pt x="15027" y="7085"/>
                  <a:pt x="15156" y="7119"/>
                </a:cubicBezTo>
                <a:cubicBezTo>
                  <a:pt x="15237" y="7141"/>
                  <a:pt x="15260" y="7184"/>
                  <a:pt x="15304" y="7243"/>
                </a:cubicBezTo>
                <a:cubicBezTo>
                  <a:pt x="15353" y="7309"/>
                  <a:pt x="15354" y="7361"/>
                  <a:pt x="15354" y="7441"/>
                </a:cubicBezTo>
                <a:cubicBezTo>
                  <a:pt x="15354" y="7528"/>
                  <a:pt x="15338" y="7584"/>
                  <a:pt x="15304" y="7665"/>
                </a:cubicBezTo>
                <a:cubicBezTo>
                  <a:pt x="15275" y="7734"/>
                  <a:pt x="15204" y="7828"/>
                  <a:pt x="15156" y="7888"/>
                </a:cubicBezTo>
                <a:cubicBezTo>
                  <a:pt x="15080" y="7982"/>
                  <a:pt x="14990" y="8072"/>
                  <a:pt x="14908" y="8161"/>
                </a:cubicBezTo>
                <a:cubicBezTo>
                  <a:pt x="14879" y="8193"/>
                  <a:pt x="14876" y="8225"/>
                  <a:pt x="14858" y="8260"/>
                </a:cubicBezTo>
                <a:cubicBezTo>
                  <a:pt x="14891" y="8260"/>
                  <a:pt x="14968" y="8234"/>
                  <a:pt x="14982" y="8235"/>
                </a:cubicBezTo>
                <a:cubicBezTo>
                  <a:pt x="15034" y="8240"/>
                  <a:pt x="15103" y="8248"/>
                  <a:pt x="15156" y="8260"/>
                </a:cubicBezTo>
                <a:cubicBezTo>
                  <a:pt x="15260" y="8283"/>
                  <a:pt x="15343" y="8323"/>
                  <a:pt x="15453" y="8334"/>
                </a:cubicBezTo>
                <a:cubicBezTo>
                  <a:pt x="15567" y="8345"/>
                  <a:pt x="15687" y="8334"/>
                  <a:pt x="15801" y="8334"/>
                </a:cubicBezTo>
                <a:cubicBezTo>
                  <a:pt x="15791" y="8269"/>
                  <a:pt x="15793" y="8271"/>
                  <a:pt x="15726" y="8235"/>
                </a:cubicBezTo>
                <a:cubicBezTo>
                  <a:pt x="15710" y="8227"/>
                  <a:pt x="15693" y="8218"/>
                  <a:pt x="15677" y="82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60720" y="3687840"/>
            <a:ext cx="196560" cy="9360"/>
          </a:xfrm>
          <a:custGeom>
            <a:avLst/>
            <a:gdLst/>
            <a:ahLst/>
            <a:rect l="l" t="t" r="r" b="b"/>
            <a:pathLst>
              <a:path w="546" h="26">
                <a:moveTo>
                  <a:pt x="6003" y="10269"/>
                </a:moveTo>
                <a:cubicBezTo>
                  <a:pt x="6151" y="10269"/>
                  <a:pt x="6440" y="10269"/>
                  <a:pt x="6499" y="10269"/>
                </a:cubicBezTo>
                <a:cubicBezTo>
                  <a:pt x="6527" y="10269"/>
                  <a:pt x="6538" y="10267"/>
                  <a:pt x="6548" y="1024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17840" y="3463920"/>
            <a:ext cx="1760400" cy="403200"/>
          </a:xfrm>
          <a:custGeom>
            <a:avLst/>
            <a:gdLst/>
            <a:ahLst/>
            <a:rect l="l" t="t" r="r" b="b"/>
            <a:pathLst>
              <a:path w="4887" h="1117">
                <a:moveTo>
                  <a:pt x="7119" y="9872"/>
                </a:moveTo>
                <a:cubicBezTo>
                  <a:pt x="7091" y="9909"/>
                  <a:pt x="7039" y="9925"/>
                  <a:pt x="7045" y="9971"/>
                </a:cubicBezTo>
                <a:cubicBezTo>
                  <a:pt x="7053" y="10030"/>
                  <a:pt x="7029" y="10075"/>
                  <a:pt x="7020" y="10145"/>
                </a:cubicBezTo>
                <a:cubicBezTo>
                  <a:pt x="7009" y="10225"/>
                  <a:pt x="6981" y="10309"/>
                  <a:pt x="6995" y="10393"/>
                </a:cubicBezTo>
                <a:cubicBezTo>
                  <a:pt x="7009" y="10482"/>
                  <a:pt x="7040" y="10570"/>
                  <a:pt x="7094" y="10641"/>
                </a:cubicBezTo>
                <a:cubicBezTo>
                  <a:pt x="7140" y="10702"/>
                  <a:pt x="7249" y="10705"/>
                  <a:pt x="7317" y="10691"/>
                </a:cubicBezTo>
                <a:cubicBezTo>
                  <a:pt x="7400" y="10674"/>
                  <a:pt x="7420" y="10622"/>
                  <a:pt x="7466" y="10567"/>
                </a:cubicBezTo>
                <a:cubicBezTo>
                  <a:pt x="7511" y="10512"/>
                  <a:pt x="7558" y="10425"/>
                  <a:pt x="7541" y="10344"/>
                </a:cubicBezTo>
                <a:cubicBezTo>
                  <a:pt x="7522" y="10255"/>
                  <a:pt x="7461" y="10173"/>
                  <a:pt x="7417" y="10096"/>
                </a:cubicBezTo>
                <a:cubicBezTo>
                  <a:pt x="7382" y="10034"/>
                  <a:pt x="7320" y="9963"/>
                  <a:pt x="7268" y="9922"/>
                </a:cubicBezTo>
                <a:cubicBezTo>
                  <a:pt x="7236" y="9896"/>
                  <a:pt x="7158" y="9876"/>
                  <a:pt x="7119" y="9872"/>
                </a:cubicBezTo>
                <a:cubicBezTo>
                  <a:pt x="7094" y="9872"/>
                  <a:pt x="7086" y="9872"/>
                  <a:pt x="7094" y="9897"/>
                </a:cubicBezTo>
              </a:path>
              <a:path w="4887" h="1117">
                <a:moveTo>
                  <a:pt x="7689" y="10592"/>
                </a:moveTo>
                <a:cubicBezTo>
                  <a:pt x="7697" y="10584"/>
                  <a:pt x="7706" y="10575"/>
                  <a:pt x="7714" y="10567"/>
                </a:cubicBezTo>
              </a:path>
              <a:path w="4887" h="1117">
                <a:moveTo>
                  <a:pt x="8161" y="9922"/>
                </a:moveTo>
                <a:cubicBezTo>
                  <a:pt x="8120" y="10057"/>
                  <a:pt x="8111" y="10112"/>
                  <a:pt x="8111" y="10244"/>
                </a:cubicBezTo>
                <a:cubicBezTo>
                  <a:pt x="8111" y="10332"/>
                  <a:pt x="8102" y="10411"/>
                  <a:pt x="8136" y="10492"/>
                </a:cubicBezTo>
                <a:cubicBezTo>
                  <a:pt x="8167" y="10564"/>
                  <a:pt x="8219" y="10606"/>
                  <a:pt x="8285" y="10641"/>
                </a:cubicBezTo>
                <a:cubicBezTo>
                  <a:pt x="8368" y="10685"/>
                  <a:pt x="8405" y="10655"/>
                  <a:pt x="8483" y="10616"/>
                </a:cubicBezTo>
                <a:cubicBezTo>
                  <a:pt x="8564" y="10576"/>
                  <a:pt x="8598" y="10555"/>
                  <a:pt x="8632" y="10468"/>
                </a:cubicBezTo>
                <a:cubicBezTo>
                  <a:pt x="8667" y="10378"/>
                  <a:pt x="8700" y="10294"/>
                  <a:pt x="8682" y="10195"/>
                </a:cubicBezTo>
                <a:cubicBezTo>
                  <a:pt x="8671" y="10136"/>
                  <a:pt x="8624" y="9989"/>
                  <a:pt x="8582" y="9947"/>
                </a:cubicBezTo>
                <a:cubicBezTo>
                  <a:pt x="8529" y="9894"/>
                  <a:pt x="8489" y="9852"/>
                  <a:pt x="8409" y="9847"/>
                </a:cubicBezTo>
                <a:cubicBezTo>
                  <a:pt x="8346" y="9843"/>
                  <a:pt x="8297" y="9839"/>
                  <a:pt x="8260" y="9897"/>
                </a:cubicBezTo>
                <a:cubicBezTo>
                  <a:pt x="8234" y="9938"/>
                  <a:pt x="8199" y="10048"/>
                  <a:pt x="8210" y="10096"/>
                </a:cubicBezTo>
                <a:cubicBezTo>
                  <a:pt x="8218" y="10112"/>
                  <a:pt x="8227" y="10129"/>
                  <a:pt x="8235" y="10145"/>
                </a:cubicBezTo>
              </a:path>
              <a:path w="4887" h="1117">
                <a:moveTo>
                  <a:pt x="8954" y="10046"/>
                </a:moveTo>
                <a:cubicBezTo>
                  <a:pt x="8886" y="10183"/>
                  <a:pt x="8855" y="10226"/>
                  <a:pt x="8855" y="10368"/>
                </a:cubicBezTo>
                <a:cubicBezTo>
                  <a:pt x="8855" y="10453"/>
                  <a:pt x="8898" y="10506"/>
                  <a:pt x="8954" y="10567"/>
                </a:cubicBezTo>
                <a:cubicBezTo>
                  <a:pt x="9005" y="10623"/>
                  <a:pt x="9058" y="10616"/>
                  <a:pt x="9128" y="10616"/>
                </a:cubicBezTo>
                <a:cubicBezTo>
                  <a:pt x="9192" y="10616"/>
                  <a:pt x="9275" y="10583"/>
                  <a:pt x="9327" y="10542"/>
                </a:cubicBezTo>
                <a:cubicBezTo>
                  <a:pt x="9397" y="10487"/>
                  <a:pt x="9422" y="10425"/>
                  <a:pt x="9426" y="10344"/>
                </a:cubicBezTo>
                <a:cubicBezTo>
                  <a:pt x="9430" y="10258"/>
                  <a:pt x="9432" y="10177"/>
                  <a:pt x="9401" y="10096"/>
                </a:cubicBezTo>
                <a:cubicBezTo>
                  <a:pt x="9369" y="10013"/>
                  <a:pt x="9329" y="9965"/>
                  <a:pt x="9252" y="9922"/>
                </a:cubicBezTo>
                <a:cubicBezTo>
                  <a:pt x="9182" y="9883"/>
                  <a:pt x="9162" y="9872"/>
                  <a:pt x="9079" y="9872"/>
                </a:cubicBezTo>
                <a:cubicBezTo>
                  <a:pt x="9020" y="9872"/>
                  <a:pt x="8975" y="9890"/>
                  <a:pt x="8954" y="9947"/>
                </a:cubicBezTo>
                <a:cubicBezTo>
                  <a:pt x="8954" y="9955"/>
                  <a:pt x="8954" y="9963"/>
                  <a:pt x="8954" y="9971"/>
                </a:cubicBezTo>
              </a:path>
              <a:path w="4887" h="1117">
                <a:moveTo>
                  <a:pt x="10195" y="9823"/>
                </a:moveTo>
                <a:cubicBezTo>
                  <a:pt x="10162" y="9693"/>
                  <a:pt x="10150" y="9612"/>
                  <a:pt x="9996" y="9649"/>
                </a:cubicBezTo>
                <a:cubicBezTo>
                  <a:pt x="9888" y="9675"/>
                  <a:pt x="9828" y="9729"/>
                  <a:pt x="9773" y="9823"/>
                </a:cubicBezTo>
                <a:cubicBezTo>
                  <a:pt x="9742" y="9876"/>
                  <a:pt x="9763" y="9944"/>
                  <a:pt x="9798" y="9996"/>
                </a:cubicBezTo>
                <a:cubicBezTo>
                  <a:pt x="9825" y="10036"/>
                  <a:pt x="9910" y="10064"/>
                  <a:pt x="9947" y="10071"/>
                </a:cubicBezTo>
                <a:cubicBezTo>
                  <a:pt x="10004" y="10082"/>
                  <a:pt x="10077" y="10044"/>
                  <a:pt x="10120" y="10021"/>
                </a:cubicBezTo>
                <a:cubicBezTo>
                  <a:pt x="10180" y="9989"/>
                  <a:pt x="10191" y="9950"/>
                  <a:pt x="10220" y="9897"/>
                </a:cubicBezTo>
                <a:cubicBezTo>
                  <a:pt x="10249" y="9845"/>
                  <a:pt x="10244" y="9830"/>
                  <a:pt x="10244" y="9773"/>
                </a:cubicBezTo>
                <a:cubicBezTo>
                  <a:pt x="10244" y="9714"/>
                  <a:pt x="10223" y="9833"/>
                  <a:pt x="10220" y="9847"/>
                </a:cubicBezTo>
                <a:cubicBezTo>
                  <a:pt x="10203" y="9935"/>
                  <a:pt x="10235" y="10013"/>
                  <a:pt x="10244" y="10096"/>
                </a:cubicBezTo>
                <a:cubicBezTo>
                  <a:pt x="10257" y="10209"/>
                  <a:pt x="10276" y="10305"/>
                  <a:pt x="10294" y="10418"/>
                </a:cubicBezTo>
                <a:cubicBezTo>
                  <a:pt x="10296" y="10428"/>
                  <a:pt x="10301" y="10545"/>
                  <a:pt x="10319" y="10542"/>
                </a:cubicBezTo>
                <a:cubicBezTo>
                  <a:pt x="10336" y="10539"/>
                  <a:pt x="10358" y="10481"/>
                  <a:pt x="10368" y="10468"/>
                </a:cubicBezTo>
              </a:path>
              <a:path w="4887" h="1117">
                <a:moveTo>
                  <a:pt x="10542" y="9723"/>
                </a:moveTo>
                <a:cubicBezTo>
                  <a:pt x="10677" y="9688"/>
                  <a:pt x="10737" y="9674"/>
                  <a:pt x="10864" y="9674"/>
                </a:cubicBezTo>
                <a:cubicBezTo>
                  <a:pt x="10937" y="9674"/>
                  <a:pt x="10911" y="9648"/>
                  <a:pt x="10964" y="9674"/>
                </a:cubicBezTo>
                <a:cubicBezTo>
                  <a:pt x="10985" y="9717"/>
                  <a:pt x="10966" y="9741"/>
                  <a:pt x="10939" y="9798"/>
                </a:cubicBezTo>
                <a:cubicBezTo>
                  <a:pt x="10912" y="9854"/>
                  <a:pt x="10884" y="9988"/>
                  <a:pt x="10889" y="10046"/>
                </a:cubicBezTo>
                <a:cubicBezTo>
                  <a:pt x="10896" y="10124"/>
                  <a:pt x="10899" y="10238"/>
                  <a:pt x="10914" y="10319"/>
                </a:cubicBezTo>
                <a:cubicBezTo>
                  <a:pt x="10926" y="10381"/>
                  <a:pt x="10940" y="10487"/>
                  <a:pt x="10964" y="10542"/>
                </a:cubicBezTo>
                <a:cubicBezTo>
                  <a:pt x="10975" y="10567"/>
                  <a:pt x="11001" y="10638"/>
                  <a:pt x="11013" y="10641"/>
                </a:cubicBezTo>
                <a:cubicBezTo>
                  <a:pt x="11070" y="10656"/>
                  <a:pt x="11061" y="10626"/>
                  <a:pt x="11088" y="10592"/>
                </a:cubicBezTo>
              </a:path>
              <a:path w="4887" h="1117">
                <a:moveTo>
                  <a:pt x="11311" y="10220"/>
                </a:moveTo>
                <a:cubicBezTo>
                  <a:pt x="11342" y="10320"/>
                  <a:pt x="11362" y="10367"/>
                  <a:pt x="11435" y="10443"/>
                </a:cubicBezTo>
                <a:cubicBezTo>
                  <a:pt x="11490" y="10500"/>
                  <a:pt x="11569" y="10570"/>
                  <a:pt x="11633" y="10616"/>
                </a:cubicBezTo>
                <a:cubicBezTo>
                  <a:pt x="11669" y="10642"/>
                  <a:pt x="11791" y="10704"/>
                  <a:pt x="11832" y="10666"/>
                </a:cubicBezTo>
                <a:cubicBezTo>
                  <a:pt x="11854" y="10623"/>
                  <a:pt x="11857" y="10611"/>
                  <a:pt x="11881" y="10592"/>
                </a:cubicBezTo>
              </a:path>
              <a:path w="4887" h="1117">
                <a:moveTo>
                  <a:pt x="11559" y="10046"/>
                </a:moveTo>
                <a:cubicBezTo>
                  <a:pt x="11495" y="10142"/>
                  <a:pt x="11468" y="10252"/>
                  <a:pt x="11410" y="10344"/>
                </a:cubicBezTo>
                <a:cubicBezTo>
                  <a:pt x="11362" y="10420"/>
                  <a:pt x="11324" y="10553"/>
                  <a:pt x="11261" y="10616"/>
                </a:cubicBezTo>
                <a:cubicBezTo>
                  <a:pt x="11241" y="10636"/>
                  <a:pt x="11118" y="10726"/>
                  <a:pt x="11212" y="10740"/>
                </a:cubicBezTo>
                <a:cubicBezTo>
                  <a:pt x="11253" y="10740"/>
                  <a:pt x="11261" y="10740"/>
                  <a:pt x="11286" y="1074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46720" y="3625920"/>
            <a:ext cx="134640" cy="88920"/>
          </a:xfrm>
          <a:custGeom>
            <a:avLst/>
            <a:gdLst/>
            <a:ahLst/>
            <a:rect l="l" t="t" r="r" b="b"/>
            <a:pathLst>
              <a:path w="373" h="249">
                <a:moveTo>
                  <a:pt x="12353" y="10071"/>
                </a:moveTo>
                <a:cubicBezTo>
                  <a:pt x="12436" y="10079"/>
                  <a:pt x="12518" y="10088"/>
                  <a:pt x="12601" y="10096"/>
                </a:cubicBezTo>
              </a:path>
              <a:path w="373" h="249">
                <a:moveTo>
                  <a:pt x="12427" y="10319"/>
                </a:moveTo>
                <a:cubicBezTo>
                  <a:pt x="12526" y="10319"/>
                  <a:pt x="12626" y="10319"/>
                  <a:pt x="12725" y="1031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40200" y="3510000"/>
            <a:ext cx="1125720" cy="392040"/>
          </a:xfrm>
          <a:custGeom>
            <a:avLst/>
            <a:gdLst/>
            <a:ahLst/>
            <a:rect l="l" t="t" r="r" b="b"/>
            <a:pathLst>
              <a:path w="3127" h="1093">
                <a:moveTo>
                  <a:pt x="13494" y="9922"/>
                </a:moveTo>
                <a:cubicBezTo>
                  <a:pt x="13494" y="9852"/>
                  <a:pt x="13495" y="9846"/>
                  <a:pt x="13543" y="9798"/>
                </a:cubicBezTo>
                <a:cubicBezTo>
                  <a:pt x="13578" y="9763"/>
                  <a:pt x="13618" y="9752"/>
                  <a:pt x="13667" y="9748"/>
                </a:cubicBezTo>
                <a:cubicBezTo>
                  <a:pt x="13735" y="9742"/>
                  <a:pt x="13793" y="9815"/>
                  <a:pt x="13816" y="9872"/>
                </a:cubicBezTo>
                <a:cubicBezTo>
                  <a:pt x="13853" y="9962"/>
                  <a:pt x="13855" y="10099"/>
                  <a:pt x="13841" y="10195"/>
                </a:cubicBezTo>
                <a:cubicBezTo>
                  <a:pt x="13828" y="10282"/>
                  <a:pt x="13790" y="10441"/>
                  <a:pt x="13742" y="10517"/>
                </a:cubicBezTo>
                <a:cubicBezTo>
                  <a:pt x="13701" y="10581"/>
                  <a:pt x="13665" y="10654"/>
                  <a:pt x="13618" y="10716"/>
                </a:cubicBezTo>
                <a:cubicBezTo>
                  <a:pt x="13587" y="10756"/>
                  <a:pt x="13566" y="10765"/>
                  <a:pt x="13519" y="10765"/>
                </a:cubicBezTo>
                <a:cubicBezTo>
                  <a:pt x="13485" y="10765"/>
                  <a:pt x="13446" y="10743"/>
                  <a:pt x="13444" y="10716"/>
                </a:cubicBezTo>
                <a:cubicBezTo>
                  <a:pt x="13440" y="10664"/>
                  <a:pt x="13436" y="10629"/>
                  <a:pt x="13469" y="10592"/>
                </a:cubicBezTo>
                <a:cubicBezTo>
                  <a:pt x="13493" y="10565"/>
                  <a:pt x="13555" y="10529"/>
                  <a:pt x="13593" y="10542"/>
                </a:cubicBezTo>
                <a:cubicBezTo>
                  <a:pt x="13638" y="10557"/>
                  <a:pt x="13713" y="10628"/>
                  <a:pt x="13742" y="10666"/>
                </a:cubicBezTo>
                <a:cubicBezTo>
                  <a:pt x="13746" y="10671"/>
                  <a:pt x="13808" y="10809"/>
                  <a:pt x="13816" y="10815"/>
                </a:cubicBezTo>
                <a:cubicBezTo>
                  <a:pt x="13841" y="10815"/>
                  <a:pt x="13849" y="10815"/>
                  <a:pt x="13841" y="10840"/>
                </a:cubicBezTo>
                <a:cubicBezTo>
                  <a:pt x="13868" y="10804"/>
                  <a:pt x="13871" y="10787"/>
                  <a:pt x="13891" y="10740"/>
                </a:cubicBezTo>
              </a:path>
              <a:path w="3127" h="1093">
                <a:moveTo>
                  <a:pt x="14188" y="10691"/>
                </a:moveTo>
                <a:cubicBezTo>
                  <a:pt x="14188" y="10762"/>
                  <a:pt x="14195" y="10747"/>
                  <a:pt x="14238" y="10716"/>
                </a:cubicBezTo>
              </a:path>
              <a:path w="3127" h="1093">
                <a:moveTo>
                  <a:pt x="14560" y="9922"/>
                </a:moveTo>
                <a:cubicBezTo>
                  <a:pt x="14560" y="9959"/>
                  <a:pt x="14550" y="10017"/>
                  <a:pt x="14536" y="10046"/>
                </a:cubicBezTo>
                <a:cubicBezTo>
                  <a:pt x="14518" y="10081"/>
                  <a:pt x="14471" y="10150"/>
                  <a:pt x="14486" y="10195"/>
                </a:cubicBezTo>
                <a:cubicBezTo>
                  <a:pt x="14501" y="10241"/>
                  <a:pt x="14566" y="10283"/>
                  <a:pt x="14610" y="10294"/>
                </a:cubicBezTo>
                <a:cubicBezTo>
                  <a:pt x="14674" y="10310"/>
                  <a:pt x="14723" y="10319"/>
                  <a:pt x="14784" y="10294"/>
                </a:cubicBezTo>
                <a:cubicBezTo>
                  <a:pt x="14824" y="10274"/>
                  <a:pt x="14830" y="10265"/>
                  <a:pt x="14858" y="10269"/>
                </a:cubicBezTo>
              </a:path>
              <a:path w="3127" h="1093">
                <a:moveTo>
                  <a:pt x="14932" y="9748"/>
                </a:moveTo>
                <a:cubicBezTo>
                  <a:pt x="14886" y="9888"/>
                  <a:pt x="14858" y="9976"/>
                  <a:pt x="14858" y="10120"/>
                </a:cubicBezTo>
                <a:cubicBezTo>
                  <a:pt x="14858" y="10235"/>
                  <a:pt x="14868" y="10332"/>
                  <a:pt x="14883" y="10443"/>
                </a:cubicBezTo>
                <a:cubicBezTo>
                  <a:pt x="14894" y="10519"/>
                  <a:pt x="14908" y="10588"/>
                  <a:pt x="14908" y="10666"/>
                </a:cubicBezTo>
                <a:cubicBezTo>
                  <a:pt x="14908" y="10727"/>
                  <a:pt x="14899" y="10712"/>
                  <a:pt x="14932" y="10666"/>
                </a:cubicBezTo>
              </a:path>
              <a:path w="3127" h="1093">
                <a:moveTo>
                  <a:pt x="15577" y="9922"/>
                </a:moveTo>
                <a:cubicBezTo>
                  <a:pt x="15485" y="9872"/>
                  <a:pt x="15456" y="9872"/>
                  <a:pt x="15354" y="9872"/>
                </a:cubicBezTo>
                <a:cubicBezTo>
                  <a:pt x="15290" y="9872"/>
                  <a:pt x="15231" y="9908"/>
                  <a:pt x="15205" y="9971"/>
                </a:cubicBezTo>
                <a:cubicBezTo>
                  <a:pt x="15188" y="10011"/>
                  <a:pt x="15238" y="10119"/>
                  <a:pt x="15255" y="10145"/>
                </a:cubicBezTo>
                <a:cubicBezTo>
                  <a:pt x="15307" y="10224"/>
                  <a:pt x="15384" y="10310"/>
                  <a:pt x="15429" y="10393"/>
                </a:cubicBezTo>
                <a:cubicBezTo>
                  <a:pt x="15467" y="10464"/>
                  <a:pt x="15499" y="10561"/>
                  <a:pt x="15503" y="10641"/>
                </a:cubicBezTo>
                <a:cubicBezTo>
                  <a:pt x="15506" y="10702"/>
                  <a:pt x="15491" y="10715"/>
                  <a:pt x="15478" y="10765"/>
                </a:cubicBezTo>
                <a:cubicBezTo>
                  <a:pt x="15438" y="10759"/>
                  <a:pt x="15380" y="10754"/>
                  <a:pt x="15354" y="10716"/>
                </a:cubicBezTo>
                <a:cubicBezTo>
                  <a:pt x="15319" y="10666"/>
                  <a:pt x="15288" y="10602"/>
                  <a:pt x="15280" y="10542"/>
                </a:cubicBezTo>
                <a:cubicBezTo>
                  <a:pt x="15268" y="10445"/>
                  <a:pt x="15320" y="10363"/>
                  <a:pt x="15379" y="10294"/>
                </a:cubicBezTo>
                <a:cubicBezTo>
                  <a:pt x="15434" y="10230"/>
                  <a:pt x="15503" y="10165"/>
                  <a:pt x="15553" y="10096"/>
                </a:cubicBezTo>
                <a:cubicBezTo>
                  <a:pt x="15586" y="10051"/>
                  <a:pt x="15611" y="10012"/>
                  <a:pt x="15652" y="9971"/>
                </a:cubicBezTo>
              </a:path>
              <a:path w="3127" h="1093">
                <a:moveTo>
                  <a:pt x="16098" y="9872"/>
                </a:moveTo>
                <a:cubicBezTo>
                  <a:pt x="16215" y="9897"/>
                  <a:pt x="16261" y="9889"/>
                  <a:pt x="16371" y="9872"/>
                </a:cubicBezTo>
                <a:cubicBezTo>
                  <a:pt x="16434" y="9872"/>
                  <a:pt x="16461" y="9865"/>
                  <a:pt x="16495" y="9823"/>
                </a:cubicBezTo>
              </a:path>
              <a:path w="3127" h="1093">
                <a:moveTo>
                  <a:pt x="16049" y="9773"/>
                </a:moveTo>
                <a:cubicBezTo>
                  <a:pt x="16027" y="9919"/>
                  <a:pt x="16042" y="9946"/>
                  <a:pt x="16049" y="10071"/>
                </a:cubicBezTo>
                <a:cubicBezTo>
                  <a:pt x="16052" y="10129"/>
                  <a:pt x="16070" y="10172"/>
                  <a:pt x="16073" y="10220"/>
                </a:cubicBezTo>
                <a:cubicBezTo>
                  <a:pt x="16073" y="10236"/>
                  <a:pt x="16073" y="10253"/>
                  <a:pt x="16073" y="10269"/>
                </a:cubicBezTo>
                <a:cubicBezTo>
                  <a:pt x="16107" y="10258"/>
                  <a:pt x="16104" y="10234"/>
                  <a:pt x="16148" y="10220"/>
                </a:cubicBezTo>
                <a:cubicBezTo>
                  <a:pt x="16179" y="10210"/>
                  <a:pt x="16217" y="10198"/>
                  <a:pt x="16247" y="10195"/>
                </a:cubicBezTo>
                <a:cubicBezTo>
                  <a:pt x="16287" y="10191"/>
                  <a:pt x="16340" y="10203"/>
                  <a:pt x="16371" y="10220"/>
                </a:cubicBezTo>
                <a:cubicBezTo>
                  <a:pt x="16458" y="10267"/>
                  <a:pt x="16478" y="10309"/>
                  <a:pt x="16520" y="10393"/>
                </a:cubicBezTo>
                <a:cubicBezTo>
                  <a:pt x="16544" y="10440"/>
                  <a:pt x="16575" y="10589"/>
                  <a:pt x="16570" y="10641"/>
                </a:cubicBezTo>
                <a:cubicBezTo>
                  <a:pt x="16566" y="10681"/>
                  <a:pt x="16531" y="10787"/>
                  <a:pt x="16495" y="10815"/>
                </a:cubicBezTo>
                <a:cubicBezTo>
                  <a:pt x="16476" y="10829"/>
                  <a:pt x="16426" y="10848"/>
                  <a:pt x="16396" y="10840"/>
                </a:cubicBezTo>
                <a:cubicBezTo>
                  <a:pt x="16336" y="10824"/>
                  <a:pt x="16297" y="10803"/>
                  <a:pt x="16272" y="10790"/>
                </a:cubicBezTo>
                <a:cubicBezTo>
                  <a:pt x="16240" y="10774"/>
                  <a:pt x="16247" y="10786"/>
                  <a:pt x="16247" y="1074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95840" y="4089240"/>
            <a:ext cx="1508040" cy="339840"/>
          </a:xfrm>
          <a:custGeom>
            <a:avLst/>
            <a:gdLst/>
            <a:ahLst/>
            <a:rect l="l" t="t" r="r" b="b"/>
            <a:pathLst>
              <a:path w="4193" h="943">
                <a:moveTo>
                  <a:pt x="10542" y="11559"/>
                </a:moveTo>
                <a:cubicBezTo>
                  <a:pt x="10567" y="11559"/>
                  <a:pt x="10575" y="11559"/>
                  <a:pt x="10592" y="11559"/>
                </a:cubicBezTo>
                <a:cubicBezTo>
                  <a:pt x="10600" y="11583"/>
                  <a:pt x="10623" y="11606"/>
                  <a:pt x="10641" y="11633"/>
                </a:cubicBezTo>
                <a:cubicBezTo>
                  <a:pt x="10675" y="11683"/>
                  <a:pt x="10695" y="11728"/>
                  <a:pt x="10716" y="11782"/>
                </a:cubicBezTo>
                <a:cubicBezTo>
                  <a:pt x="10742" y="11850"/>
                  <a:pt x="10790" y="11928"/>
                  <a:pt x="10840" y="11981"/>
                </a:cubicBezTo>
                <a:cubicBezTo>
                  <a:pt x="10888" y="12033"/>
                  <a:pt x="10951" y="12072"/>
                  <a:pt x="11013" y="12105"/>
                </a:cubicBezTo>
                <a:cubicBezTo>
                  <a:pt x="11030" y="12114"/>
                  <a:pt x="11138" y="12183"/>
                  <a:pt x="11162" y="12154"/>
                </a:cubicBezTo>
                <a:cubicBezTo>
                  <a:pt x="11162" y="12146"/>
                  <a:pt x="11162" y="12137"/>
                  <a:pt x="11162" y="12129"/>
                </a:cubicBezTo>
              </a:path>
              <a:path w="4193" h="943">
                <a:moveTo>
                  <a:pt x="11038" y="11485"/>
                </a:moveTo>
                <a:cubicBezTo>
                  <a:pt x="10995" y="11537"/>
                  <a:pt x="10951" y="11602"/>
                  <a:pt x="10914" y="11658"/>
                </a:cubicBezTo>
                <a:cubicBezTo>
                  <a:pt x="10857" y="11743"/>
                  <a:pt x="10826" y="11849"/>
                  <a:pt x="10765" y="11931"/>
                </a:cubicBezTo>
                <a:cubicBezTo>
                  <a:pt x="10730" y="11977"/>
                  <a:pt x="10656" y="12048"/>
                  <a:pt x="10641" y="12105"/>
                </a:cubicBezTo>
                <a:cubicBezTo>
                  <a:pt x="10624" y="12167"/>
                  <a:pt x="10617" y="12142"/>
                  <a:pt x="10641" y="12179"/>
                </a:cubicBezTo>
              </a:path>
              <a:path w="4193" h="943">
                <a:moveTo>
                  <a:pt x="11485" y="11757"/>
                </a:moveTo>
                <a:cubicBezTo>
                  <a:pt x="11584" y="11757"/>
                  <a:pt x="11668" y="11770"/>
                  <a:pt x="11757" y="11733"/>
                </a:cubicBezTo>
              </a:path>
              <a:path w="4193" h="943">
                <a:moveTo>
                  <a:pt x="11559" y="11931"/>
                </a:moveTo>
                <a:cubicBezTo>
                  <a:pt x="11635" y="11960"/>
                  <a:pt x="11699" y="11956"/>
                  <a:pt x="11782" y="11956"/>
                </a:cubicBezTo>
                <a:cubicBezTo>
                  <a:pt x="11799" y="11956"/>
                  <a:pt x="11815" y="11956"/>
                  <a:pt x="11832" y="11956"/>
                </a:cubicBezTo>
              </a:path>
              <a:path w="4193" h="943">
                <a:moveTo>
                  <a:pt x="12204" y="11633"/>
                </a:moveTo>
                <a:cubicBezTo>
                  <a:pt x="12286" y="11633"/>
                  <a:pt x="12384" y="11648"/>
                  <a:pt x="12452" y="11609"/>
                </a:cubicBezTo>
              </a:path>
              <a:path w="4193" h="943">
                <a:moveTo>
                  <a:pt x="12650" y="11485"/>
                </a:moveTo>
                <a:cubicBezTo>
                  <a:pt x="12686" y="11449"/>
                  <a:pt x="12729" y="11400"/>
                  <a:pt x="12774" y="11385"/>
                </a:cubicBezTo>
                <a:cubicBezTo>
                  <a:pt x="12839" y="11363"/>
                  <a:pt x="12847" y="11374"/>
                  <a:pt x="12898" y="11385"/>
                </a:cubicBezTo>
                <a:cubicBezTo>
                  <a:pt x="12980" y="11402"/>
                  <a:pt x="12998" y="11415"/>
                  <a:pt x="13022" y="11509"/>
                </a:cubicBezTo>
                <a:cubicBezTo>
                  <a:pt x="13045" y="11598"/>
                  <a:pt x="13008" y="11700"/>
                  <a:pt x="12998" y="11782"/>
                </a:cubicBezTo>
                <a:cubicBezTo>
                  <a:pt x="12988" y="11869"/>
                  <a:pt x="12984" y="11950"/>
                  <a:pt x="12948" y="12030"/>
                </a:cubicBezTo>
                <a:cubicBezTo>
                  <a:pt x="12924" y="12085"/>
                  <a:pt x="12871" y="12130"/>
                  <a:pt x="12849" y="12179"/>
                </a:cubicBezTo>
                <a:cubicBezTo>
                  <a:pt x="12823" y="12239"/>
                  <a:pt x="12797" y="12220"/>
                  <a:pt x="12750" y="12204"/>
                </a:cubicBezTo>
                <a:cubicBezTo>
                  <a:pt x="12750" y="12163"/>
                  <a:pt x="12750" y="12121"/>
                  <a:pt x="12750" y="12080"/>
                </a:cubicBezTo>
                <a:cubicBezTo>
                  <a:pt x="12792" y="12080"/>
                  <a:pt x="12815" y="12103"/>
                  <a:pt x="12824" y="12105"/>
                </a:cubicBezTo>
                <a:cubicBezTo>
                  <a:pt x="12887" y="12122"/>
                  <a:pt x="12908" y="12157"/>
                  <a:pt x="12973" y="12179"/>
                </a:cubicBezTo>
                <a:cubicBezTo>
                  <a:pt x="13028" y="12197"/>
                  <a:pt x="13054" y="12212"/>
                  <a:pt x="13097" y="12254"/>
                </a:cubicBezTo>
                <a:cubicBezTo>
                  <a:pt x="13108" y="12265"/>
                  <a:pt x="13182" y="12317"/>
                  <a:pt x="13196" y="12303"/>
                </a:cubicBezTo>
                <a:cubicBezTo>
                  <a:pt x="13196" y="12295"/>
                  <a:pt x="13196" y="12286"/>
                  <a:pt x="13196" y="12278"/>
                </a:cubicBezTo>
              </a:path>
              <a:path w="4193" h="943">
                <a:moveTo>
                  <a:pt x="13444" y="11509"/>
                </a:moveTo>
                <a:cubicBezTo>
                  <a:pt x="13569" y="11509"/>
                  <a:pt x="13650" y="11506"/>
                  <a:pt x="13767" y="11485"/>
                </a:cubicBezTo>
                <a:cubicBezTo>
                  <a:pt x="13795" y="11485"/>
                  <a:pt x="13805" y="11482"/>
                  <a:pt x="13816" y="11460"/>
                </a:cubicBezTo>
              </a:path>
              <a:path w="4193" h="943">
                <a:moveTo>
                  <a:pt x="13469" y="11435"/>
                </a:moveTo>
                <a:cubicBezTo>
                  <a:pt x="13439" y="11503"/>
                  <a:pt x="13388" y="11586"/>
                  <a:pt x="13370" y="11658"/>
                </a:cubicBezTo>
                <a:cubicBezTo>
                  <a:pt x="13362" y="11688"/>
                  <a:pt x="13383" y="11727"/>
                  <a:pt x="13395" y="11733"/>
                </a:cubicBezTo>
                <a:cubicBezTo>
                  <a:pt x="13436" y="11754"/>
                  <a:pt x="13465" y="11709"/>
                  <a:pt x="13469" y="11708"/>
                </a:cubicBezTo>
                <a:cubicBezTo>
                  <a:pt x="13516" y="11695"/>
                  <a:pt x="13551" y="11697"/>
                  <a:pt x="13593" y="11683"/>
                </a:cubicBezTo>
                <a:cubicBezTo>
                  <a:pt x="13636" y="11669"/>
                  <a:pt x="13655" y="11704"/>
                  <a:pt x="13692" y="11708"/>
                </a:cubicBezTo>
                <a:cubicBezTo>
                  <a:pt x="13736" y="11713"/>
                  <a:pt x="13759" y="11750"/>
                  <a:pt x="13791" y="11782"/>
                </a:cubicBezTo>
                <a:cubicBezTo>
                  <a:pt x="13834" y="11825"/>
                  <a:pt x="13856" y="11898"/>
                  <a:pt x="13866" y="11956"/>
                </a:cubicBezTo>
                <a:cubicBezTo>
                  <a:pt x="13880" y="12041"/>
                  <a:pt x="13862" y="12133"/>
                  <a:pt x="13841" y="12204"/>
                </a:cubicBezTo>
                <a:cubicBezTo>
                  <a:pt x="13826" y="12252"/>
                  <a:pt x="13811" y="12259"/>
                  <a:pt x="13767" y="12278"/>
                </a:cubicBezTo>
                <a:cubicBezTo>
                  <a:pt x="13757" y="12282"/>
                  <a:pt x="13662" y="12327"/>
                  <a:pt x="13643" y="12303"/>
                </a:cubicBezTo>
                <a:cubicBezTo>
                  <a:pt x="13628" y="12283"/>
                  <a:pt x="13597" y="12267"/>
                  <a:pt x="13593" y="12229"/>
                </a:cubicBezTo>
                <a:cubicBezTo>
                  <a:pt x="13593" y="12221"/>
                  <a:pt x="13593" y="12212"/>
                  <a:pt x="13593" y="12204"/>
                </a:cubicBezTo>
              </a:path>
              <a:path w="4193" h="943">
                <a:moveTo>
                  <a:pt x="14238" y="11534"/>
                </a:moveTo>
                <a:cubicBezTo>
                  <a:pt x="14260" y="11620"/>
                  <a:pt x="14228" y="11693"/>
                  <a:pt x="14213" y="11782"/>
                </a:cubicBezTo>
                <a:cubicBezTo>
                  <a:pt x="14202" y="11847"/>
                  <a:pt x="14169" y="11937"/>
                  <a:pt x="14188" y="12005"/>
                </a:cubicBezTo>
                <a:cubicBezTo>
                  <a:pt x="14207" y="12074"/>
                  <a:pt x="14227" y="12098"/>
                  <a:pt x="14263" y="12154"/>
                </a:cubicBezTo>
                <a:cubicBezTo>
                  <a:pt x="14294" y="12203"/>
                  <a:pt x="14348" y="12263"/>
                  <a:pt x="14412" y="12278"/>
                </a:cubicBezTo>
                <a:cubicBezTo>
                  <a:pt x="14490" y="12296"/>
                  <a:pt x="14505" y="12297"/>
                  <a:pt x="14585" y="12278"/>
                </a:cubicBezTo>
                <a:cubicBezTo>
                  <a:pt x="14633" y="12267"/>
                  <a:pt x="14723" y="12191"/>
                  <a:pt x="14734" y="12129"/>
                </a:cubicBezTo>
                <a:cubicBezTo>
                  <a:pt x="14744" y="12076"/>
                  <a:pt x="14739" y="11987"/>
                  <a:pt x="14684" y="11956"/>
                </a:cubicBezTo>
                <a:cubicBezTo>
                  <a:pt x="14649" y="11936"/>
                  <a:pt x="14601" y="11935"/>
                  <a:pt x="14560" y="11956"/>
                </a:cubicBezTo>
                <a:cubicBezTo>
                  <a:pt x="14512" y="11980"/>
                  <a:pt x="14489" y="12061"/>
                  <a:pt x="14486" y="12105"/>
                </a:cubicBezTo>
                <a:cubicBezTo>
                  <a:pt x="14482" y="12172"/>
                  <a:pt x="14488" y="12217"/>
                  <a:pt x="14511" y="1227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4880" y="1687680"/>
            <a:ext cx="393840" cy="465120"/>
          </a:xfrm>
          <a:custGeom>
            <a:avLst/>
            <a:gdLst/>
            <a:ahLst/>
            <a:rect l="l" t="t" r="r" b="b"/>
            <a:pathLst>
              <a:path w="1092" h="1291">
                <a:moveTo>
                  <a:pt x="1960" y="5110"/>
                </a:moveTo>
                <a:cubicBezTo>
                  <a:pt x="1960" y="5246"/>
                  <a:pt x="1964" y="5377"/>
                  <a:pt x="1984" y="5507"/>
                </a:cubicBezTo>
                <a:cubicBezTo>
                  <a:pt x="1996" y="5588"/>
                  <a:pt x="1997" y="5674"/>
                  <a:pt x="2009" y="5755"/>
                </a:cubicBezTo>
                <a:cubicBezTo>
                  <a:pt x="2021" y="5837"/>
                  <a:pt x="1972" y="6060"/>
                  <a:pt x="1984" y="5978"/>
                </a:cubicBezTo>
                <a:cubicBezTo>
                  <a:pt x="1992" y="5953"/>
                  <a:pt x="2001" y="5929"/>
                  <a:pt x="2009" y="5904"/>
                </a:cubicBezTo>
              </a:path>
              <a:path w="1092" h="1291">
                <a:moveTo>
                  <a:pt x="2282" y="5110"/>
                </a:moveTo>
                <a:cubicBezTo>
                  <a:pt x="2312" y="5102"/>
                  <a:pt x="2377" y="5097"/>
                  <a:pt x="2406" y="5085"/>
                </a:cubicBezTo>
                <a:cubicBezTo>
                  <a:pt x="2455" y="5065"/>
                  <a:pt x="2527" y="5039"/>
                  <a:pt x="2580" y="5035"/>
                </a:cubicBezTo>
                <a:cubicBezTo>
                  <a:pt x="2625" y="5032"/>
                  <a:pt x="2650" y="5049"/>
                  <a:pt x="2654" y="5085"/>
                </a:cubicBezTo>
                <a:cubicBezTo>
                  <a:pt x="2664" y="5165"/>
                  <a:pt x="2633" y="5231"/>
                  <a:pt x="2629" y="5308"/>
                </a:cubicBezTo>
                <a:cubicBezTo>
                  <a:pt x="2619" y="5490"/>
                  <a:pt x="2558" y="5972"/>
                  <a:pt x="2629" y="5804"/>
                </a:cubicBezTo>
                <a:cubicBezTo>
                  <a:pt x="2637" y="5788"/>
                  <a:pt x="2646" y="5771"/>
                  <a:pt x="2654" y="5755"/>
                </a:cubicBezTo>
              </a:path>
              <a:path w="1092" h="1291">
                <a:moveTo>
                  <a:pt x="2654" y="4688"/>
                </a:moveTo>
                <a:cubicBezTo>
                  <a:pt x="2749" y="4766"/>
                  <a:pt x="2869" y="4847"/>
                  <a:pt x="2927" y="4961"/>
                </a:cubicBezTo>
                <a:cubicBezTo>
                  <a:pt x="2979" y="5063"/>
                  <a:pt x="3036" y="5193"/>
                  <a:pt x="3051" y="5308"/>
                </a:cubicBezTo>
                <a:cubicBezTo>
                  <a:pt x="3071" y="5455"/>
                  <a:pt x="3021" y="5601"/>
                  <a:pt x="2952" y="5730"/>
                </a:cubicBezTo>
                <a:cubicBezTo>
                  <a:pt x="2916" y="5796"/>
                  <a:pt x="2853" y="5849"/>
                  <a:pt x="2803" y="5904"/>
                </a:cubicBezTo>
                <a:cubicBezTo>
                  <a:pt x="2795" y="5912"/>
                  <a:pt x="2786" y="5920"/>
                  <a:pt x="2778" y="592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44760" y="1697040"/>
            <a:ext cx="206280" cy="428760"/>
          </a:xfrm>
          <a:custGeom>
            <a:avLst/>
            <a:gdLst/>
            <a:ahLst/>
            <a:rect l="l" t="t" r="r" b="b"/>
            <a:pathLst>
              <a:path w="572" h="1192">
                <a:moveTo>
                  <a:pt x="4291" y="4986"/>
                </a:moveTo>
                <a:cubicBezTo>
                  <a:pt x="4291" y="5011"/>
                  <a:pt x="4291" y="5019"/>
                  <a:pt x="4291" y="5035"/>
                </a:cubicBezTo>
                <a:cubicBezTo>
                  <a:pt x="4309" y="5000"/>
                  <a:pt x="4312" y="4968"/>
                  <a:pt x="4341" y="4936"/>
                </a:cubicBezTo>
                <a:cubicBezTo>
                  <a:pt x="4361" y="4914"/>
                  <a:pt x="4358" y="4894"/>
                  <a:pt x="4390" y="4862"/>
                </a:cubicBezTo>
                <a:cubicBezTo>
                  <a:pt x="4434" y="4818"/>
                  <a:pt x="4436" y="4787"/>
                  <a:pt x="4490" y="4738"/>
                </a:cubicBezTo>
                <a:cubicBezTo>
                  <a:pt x="4524" y="4707"/>
                  <a:pt x="4555" y="4697"/>
                  <a:pt x="4589" y="4738"/>
                </a:cubicBezTo>
                <a:cubicBezTo>
                  <a:pt x="4618" y="4773"/>
                  <a:pt x="4658" y="4851"/>
                  <a:pt x="4688" y="4911"/>
                </a:cubicBezTo>
                <a:cubicBezTo>
                  <a:pt x="4725" y="4984"/>
                  <a:pt x="4734" y="5078"/>
                  <a:pt x="4738" y="5159"/>
                </a:cubicBezTo>
                <a:cubicBezTo>
                  <a:pt x="4743" y="5269"/>
                  <a:pt x="4747" y="5381"/>
                  <a:pt x="4713" y="5482"/>
                </a:cubicBezTo>
                <a:cubicBezTo>
                  <a:pt x="4687" y="5558"/>
                  <a:pt x="4654" y="5613"/>
                  <a:pt x="4614" y="5680"/>
                </a:cubicBezTo>
                <a:cubicBezTo>
                  <a:pt x="4588" y="5724"/>
                  <a:pt x="4564" y="5766"/>
                  <a:pt x="4514" y="5779"/>
                </a:cubicBezTo>
                <a:cubicBezTo>
                  <a:pt x="4464" y="5792"/>
                  <a:pt x="4452" y="5768"/>
                  <a:pt x="4440" y="5730"/>
                </a:cubicBezTo>
                <a:cubicBezTo>
                  <a:pt x="4426" y="5686"/>
                  <a:pt x="4448" y="5663"/>
                  <a:pt x="4465" y="5631"/>
                </a:cubicBezTo>
                <a:cubicBezTo>
                  <a:pt x="4507" y="5554"/>
                  <a:pt x="4538" y="5542"/>
                  <a:pt x="4614" y="5581"/>
                </a:cubicBezTo>
                <a:cubicBezTo>
                  <a:pt x="4663" y="5606"/>
                  <a:pt x="4670" y="5665"/>
                  <a:pt x="4688" y="5705"/>
                </a:cubicBezTo>
                <a:cubicBezTo>
                  <a:pt x="4711" y="5755"/>
                  <a:pt x="4730" y="5814"/>
                  <a:pt x="4762" y="5854"/>
                </a:cubicBezTo>
                <a:cubicBezTo>
                  <a:pt x="4781" y="5878"/>
                  <a:pt x="4792" y="5884"/>
                  <a:pt x="4812" y="5904"/>
                </a:cubicBezTo>
                <a:cubicBezTo>
                  <a:pt x="4826" y="5881"/>
                  <a:pt x="4854" y="5841"/>
                  <a:pt x="4862" y="5804"/>
                </a:cubicBezTo>
                <a:cubicBezTo>
                  <a:pt x="4862" y="5788"/>
                  <a:pt x="4862" y="5771"/>
                  <a:pt x="4862" y="57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93960" y="1776240"/>
            <a:ext cx="177840" cy="331920"/>
          </a:xfrm>
          <a:custGeom>
            <a:avLst/>
            <a:gdLst/>
            <a:ahLst/>
            <a:rect l="l" t="t" r="r" b="b"/>
            <a:pathLst>
              <a:path w="497" h="919">
                <a:moveTo>
                  <a:pt x="5308" y="5035"/>
                </a:moveTo>
                <a:cubicBezTo>
                  <a:pt x="5369" y="5035"/>
                  <a:pt x="5407" y="5014"/>
                  <a:pt x="5457" y="5011"/>
                </a:cubicBezTo>
                <a:cubicBezTo>
                  <a:pt x="5498" y="5008"/>
                  <a:pt x="5596" y="5004"/>
                  <a:pt x="5631" y="4986"/>
                </a:cubicBezTo>
                <a:cubicBezTo>
                  <a:pt x="5659" y="4972"/>
                  <a:pt x="5679" y="4956"/>
                  <a:pt x="5705" y="4936"/>
                </a:cubicBezTo>
              </a:path>
              <a:path w="497" h="919">
                <a:moveTo>
                  <a:pt x="5383" y="4961"/>
                </a:moveTo>
                <a:cubicBezTo>
                  <a:pt x="5341" y="5032"/>
                  <a:pt x="5247" y="5164"/>
                  <a:pt x="5259" y="5259"/>
                </a:cubicBezTo>
                <a:cubicBezTo>
                  <a:pt x="5262" y="5285"/>
                  <a:pt x="5306" y="5328"/>
                  <a:pt x="5308" y="5333"/>
                </a:cubicBezTo>
                <a:cubicBezTo>
                  <a:pt x="5313" y="5343"/>
                  <a:pt x="5348" y="5353"/>
                  <a:pt x="5383" y="5333"/>
                </a:cubicBezTo>
                <a:cubicBezTo>
                  <a:pt x="5440" y="5301"/>
                  <a:pt x="5394" y="5280"/>
                  <a:pt x="5482" y="5259"/>
                </a:cubicBezTo>
                <a:cubicBezTo>
                  <a:pt x="5504" y="5254"/>
                  <a:pt x="5598" y="5275"/>
                  <a:pt x="5606" y="5283"/>
                </a:cubicBezTo>
                <a:cubicBezTo>
                  <a:pt x="5631" y="5306"/>
                  <a:pt x="5720" y="5432"/>
                  <a:pt x="5730" y="5457"/>
                </a:cubicBezTo>
                <a:cubicBezTo>
                  <a:pt x="5750" y="5507"/>
                  <a:pt x="5771" y="5622"/>
                  <a:pt x="5755" y="5680"/>
                </a:cubicBezTo>
                <a:cubicBezTo>
                  <a:pt x="5735" y="5753"/>
                  <a:pt x="5694" y="5795"/>
                  <a:pt x="5631" y="5829"/>
                </a:cubicBezTo>
                <a:cubicBezTo>
                  <a:pt x="5564" y="5865"/>
                  <a:pt x="5431" y="5872"/>
                  <a:pt x="5358" y="5854"/>
                </a:cubicBezTo>
                <a:cubicBezTo>
                  <a:pt x="5299" y="5839"/>
                  <a:pt x="5344" y="5752"/>
                  <a:pt x="5358" y="573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97080" y="1517760"/>
            <a:ext cx="677880" cy="465120"/>
          </a:xfrm>
          <a:custGeom>
            <a:avLst/>
            <a:gdLst/>
            <a:ahLst/>
            <a:rect l="l" t="t" r="r" b="b"/>
            <a:pathLst>
              <a:path w="1886" h="1291">
                <a:moveTo>
                  <a:pt x="6152" y="4514"/>
                </a:moveTo>
                <a:cubicBezTo>
                  <a:pt x="6227" y="4568"/>
                  <a:pt x="6236" y="4627"/>
                  <a:pt x="6276" y="4713"/>
                </a:cubicBezTo>
                <a:cubicBezTo>
                  <a:pt x="6298" y="4759"/>
                  <a:pt x="6350" y="4839"/>
                  <a:pt x="6400" y="4862"/>
                </a:cubicBezTo>
                <a:cubicBezTo>
                  <a:pt x="6420" y="4871"/>
                  <a:pt x="6496" y="4845"/>
                  <a:pt x="6499" y="4837"/>
                </a:cubicBezTo>
                <a:cubicBezTo>
                  <a:pt x="6499" y="4792"/>
                  <a:pt x="6496" y="4779"/>
                  <a:pt x="6524" y="4762"/>
                </a:cubicBezTo>
              </a:path>
              <a:path w="1886" h="1291">
                <a:moveTo>
                  <a:pt x="6400" y="4390"/>
                </a:moveTo>
                <a:cubicBezTo>
                  <a:pt x="6342" y="4498"/>
                  <a:pt x="6285" y="4608"/>
                  <a:pt x="6226" y="4713"/>
                </a:cubicBezTo>
                <a:cubicBezTo>
                  <a:pt x="6223" y="4718"/>
                  <a:pt x="6131" y="4884"/>
                  <a:pt x="6127" y="4887"/>
                </a:cubicBezTo>
                <a:cubicBezTo>
                  <a:pt x="6100" y="4909"/>
                  <a:pt x="6081" y="4902"/>
                  <a:pt x="6127" y="4887"/>
                </a:cubicBezTo>
              </a:path>
              <a:path w="1886" h="1291">
                <a:moveTo>
                  <a:pt x="6524" y="4638"/>
                </a:moveTo>
                <a:cubicBezTo>
                  <a:pt x="6655" y="4595"/>
                  <a:pt x="6688" y="4582"/>
                  <a:pt x="6772" y="4564"/>
                </a:cubicBezTo>
              </a:path>
              <a:path w="1886" h="1291">
                <a:moveTo>
                  <a:pt x="6995" y="4266"/>
                </a:moveTo>
                <a:cubicBezTo>
                  <a:pt x="7037" y="4251"/>
                  <a:pt x="7126" y="4202"/>
                  <a:pt x="7169" y="4217"/>
                </a:cubicBezTo>
                <a:cubicBezTo>
                  <a:pt x="7217" y="4233"/>
                  <a:pt x="7256" y="4282"/>
                  <a:pt x="7243" y="4341"/>
                </a:cubicBezTo>
                <a:cubicBezTo>
                  <a:pt x="7233" y="4387"/>
                  <a:pt x="7171" y="4475"/>
                  <a:pt x="7144" y="4514"/>
                </a:cubicBezTo>
                <a:cubicBezTo>
                  <a:pt x="7115" y="4555"/>
                  <a:pt x="7081" y="4566"/>
                  <a:pt x="7069" y="4614"/>
                </a:cubicBezTo>
                <a:cubicBezTo>
                  <a:pt x="7126" y="4614"/>
                  <a:pt x="7166" y="4598"/>
                  <a:pt x="7218" y="4589"/>
                </a:cubicBezTo>
                <a:cubicBezTo>
                  <a:pt x="7286" y="4578"/>
                  <a:pt x="7338" y="4598"/>
                  <a:pt x="7392" y="4614"/>
                </a:cubicBezTo>
                <a:cubicBezTo>
                  <a:pt x="7400" y="4614"/>
                  <a:pt x="7409" y="4614"/>
                  <a:pt x="7417" y="4614"/>
                </a:cubicBezTo>
              </a:path>
              <a:path w="1886" h="1291">
                <a:moveTo>
                  <a:pt x="7739" y="5308"/>
                </a:moveTo>
                <a:cubicBezTo>
                  <a:pt x="7820" y="5343"/>
                  <a:pt x="7807" y="5315"/>
                  <a:pt x="7888" y="5308"/>
                </a:cubicBezTo>
                <a:cubicBezTo>
                  <a:pt x="7920" y="5305"/>
                  <a:pt x="7954" y="5308"/>
                  <a:pt x="7987" y="5308"/>
                </a:cubicBezTo>
              </a:path>
              <a:path w="1886" h="1291">
                <a:moveTo>
                  <a:pt x="7739" y="5507"/>
                </a:moveTo>
                <a:cubicBezTo>
                  <a:pt x="7807" y="5507"/>
                  <a:pt x="7857" y="5501"/>
                  <a:pt x="7913" y="5482"/>
                </a:cubicBezTo>
                <a:cubicBezTo>
                  <a:pt x="7921" y="5482"/>
                  <a:pt x="7930" y="5482"/>
                  <a:pt x="7938" y="548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3800" y="1465200"/>
            <a:ext cx="608040" cy="579600"/>
          </a:xfrm>
          <a:custGeom>
            <a:avLst/>
            <a:gdLst/>
            <a:ahLst/>
            <a:rect l="l" t="t" r="r" b="b"/>
            <a:pathLst>
              <a:path w="1688" h="1613">
                <a:moveTo>
                  <a:pt x="8756" y="4812"/>
                </a:moveTo>
                <a:cubicBezTo>
                  <a:pt x="8849" y="4812"/>
                  <a:pt x="8896" y="4801"/>
                  <a:pt x="8979" y="4787"/>
                </a:cubicBezTo>
                <a:cubicBezTo>
                  <a:pt x="9046" y="4776"/>
                  <a:pt x="9114" y="4773"/>
                  <a:pt x="9178" y="4762"/>
                </a:cubicBezTo>
                <a:cubicBezTo>
                  <a:pt x="9222" y="4762"/>
                  <a:pt x="9235" y="4765"/>
                  <a:pt x="9252" y="4738"/>
                </a:cubicBezTo>
              </a:path>
              <a:path w="1688" h="1613">
                <a:moveTo>
                  <a:pt x="8806" y="4738"/>
                </a:moveTo>
                <a:cubicBezTo>
                  <a:pt x="8766" y="4835"/>
                  <a:pt x="8710" y="4930"/>
                  <a:pt x="8706" y="5035"/>
                </a:cubicBezTo>
                <a:cubicBezTo>
                  <a:pt x="8702" y="5119"/>
                  <a:pt x="8709" y="5167"/>
                  <a:pt x="8731" y="5234"/>
                </a:cubicBezTo>
                <a:cubicBezTo>
                  <a:pt x="8731" y="5242"/>
                  <a:pt x="8731" y="5251"/>
                  <a:pt x="8731" y="5259"/>
                </a:cubicBezTo>
                <a:cubicBezTo>
                  <a:pt x="8775" y="5248"/>
                  <a:pt x="8796" y="5218"/>
                  <a:pt x="8830" y="5184"/>
                </a:cubicBezTo>
                <a:cubicBezTo>
                  <a:pt x="8873" y="5140"/>
                  <a:pt x="8919" y="5080"/>
                  <a:pt x="8979" y="5060"/>
                </a:cubicBezTo>
                <a:cubicBezTo>
                  <a:pt x="9023" y="5045"/>
                  <a:pt x="9073" y="5057"/>
                  <a:pt x="9103" y="5085"/>
                </a:cubicBezTo>
                <a:cubicBezTo>
                  <a:pt x="9187" y="5163"/>
                  <a:pt x="9234" y="5244"/>
                  <a:pt x="9252" y="5358"/>
                </a:cubicBezTo>
                <a:cubicBezTo>
                  <a:pt x="9265" y="5442"/>
                  <a:pt x="9227" y="5523"/>
                  <a:pt x="9178" y="5581"/>
                </a:cubicBezTo>
                <a:cubicBezTo>
                  <a:pt x="9130" y="5638"/>
                  <a:pt x="9067" y="5638"/>
                  <a:pt x="9004" y="5655"/>
                </a:cubicBezTo>
                <a:cubicBezTo>
                  <a:pt x="8961" y="5666"/>
                  <a:pt x="8827" y="5683"/>
                  <a:pt x="8781" y="5655"/>
                </a:cubicBezTo>
                <a:cubicBezTo>
                  <a:pt x="8748" y="5635"/>
                  <a:pt x="8774" y="5582"/>
                  <a:pt x="8781" y="5556"/>
                </a:cubicBezTo>
              </a:path>
              <a:path w="1688" h="1613">
                <a:moveTo>
                  <a:pt x="9500" y="4118"/>
                </a:moveTo>
                <a:cubicBezTo>
                  <a:pt x="9523" y="4104"/>
                  <a:pt x="9618" y="4066"/>
                  <a:pt x="9649" y="4068"/>
                </a:cubicBezTo>
                <a:cubicBezTo>
                  <a:pt x="9743" y="4087"/>
                  <a:pt x="9763" y="4074"/>
                  <a:pt x="9798" y="4118"/>
                </a:cubicBezTo>
                <a:cubicBezTo>
                  <a:pt x="9798" y="4187"/>
                  <a:pt x="9784" y="4207"/>
                  <a:pt x="9723" y="4242"/>
                </a:cubicBezTo>
                <a:cubicBezTo>
                  <a:pt x="9664" y="4277"/>
                  <a:pt x="9603" y="4298"/>
                  <a:pt x="9550" y="4341"/>
                </a:cubicBezTo>
                <a:cubicBezTo>
                  <a:pt x="9582" y="4352"/>
                  <a:pt x="9602" y="4351"/>
                  <a:pt x="9649" y="4366"/>
                </a:cubicBezTo>
                <a:cubicBezTo>
                  <a:pt x="9724" y="4390"/>
                  <a:pt x="9794" y="4438"/>
                  <a:pt x="9823" y="4514"/>
                </a:cubicBezTo>
                <a:cubicBezTo>
                  <a:pt x="9841" y="4560"/>
                  <a:pt x="9825" y="4630"/>
                  <a:pt x="9798" y="4663"/>
                </a:cubicBezTo>
                <a:cubicBezTo>
                  <a:pt x="9781" y="4685"/>
                  <a:pt x="9728" y="4704"/>
                  <a:pt x="9699" y="4688"/>
                </a:cubicBezTo>
                <a:cubicBezTo>
                  <a:pt x="9671" y="4672"/>
                  <a:pt x="9663" y="4619"/>
                  <a:pt x="9674" y="4589"/>
                </a:cubicBezTo>
                <a:cubicBezTo>
                  <a:pt x="9699" y="4539"/>
                  <a:pt x="9707" y="4523"/>
                  <a:pt x="9723" y="4490"/>
                </a:cubicBezTo>
              </a:path>
              <a:path w="1688" h="1613">
                <a:moveTo>
                  <a:pt x="10120" y="4093"/>
                </a:moveTo>
                <a:cubicBezTo>
                  <a:pt x="10146" y="4170"/>
                  <a:pt x="10153" y="4274"/>
                  <a:pt x="10195" y="4341"/>
                </a:cubicBezTo>
                <a:cubicBezTo>
                  <a:pt x="10234" y="4404"/>
                  <a:pt x="10245" y="4415"/>
                  <a:pt x="10319" y="4415"/>
                </a:cubicBezTo>
                <a:cubicBezTo>
                  <a:pt x="10360" y="4415"/>
                  <a:pt x="10368" y="4415"/>
                  <a:pt x="10393" y="4415"/>
                </a:cubicBezTo>
              </a:path>
              <a:path w="1688" h="1613">
                <a:moveTo>
                  <a:pt x="10344" y="4093"/>
                </a:moveTo>
                <a:cubicBezTo>
                  <a:pt x="10189" y="4239"/>
                  <a:pt x="10031" y="4373"/>
                  <a:pt x="9897" y="453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66960" y="2340000"/>
            <a:ext cx="2017800" cy="768240"/>
          </a:xfrm>
          <a:custGeom>
            <a:avLst/>
            <a:gdLst/>
            <a:ahLst/>
            <a:rect l="l" t="t" r="r" b="b"/>
            <a:pathLst>
              <a:path w="5607" h="2134">
                <a:moveTo>
                  <a:pt x="5283" y="7516"/>
                </a:moveTo>
                <a:cubicBezTo>
                  <a:pt x="5381" y="7516"/>
                  <a:pt x="5465" y="7514"/>
                  <a:pt x="5556" y="7491"/>
                </a:cubicBezTo>
                <a:cubicBezTo>
                  <a:pt x="5598" y="7480"/>
                  <a:pt x="5616" y="7518"/>
                  <a:pt x="5581" y="7466"/>
                </a:cubicBezTo>
              </a:path>
              <a:path w="5607" h="2134">
                <a:moveTo>
                  <a:pt x="5259" y="7466"/>
                </a:moveTo>
                <a:cubicBezTo>
                  <a:pt x="5259" y="7665"/>
                  <a:pt x="5259" y="7863"/>
                  <a:pt x="5259" y="8062"/>
                </a:cubicBezTo>
                <a:cubicBezTo>
                  <a:pt x="5274" y="8046"/>
                  <a:pt x="5304" y="8016"/>
                  <a:pt x="5333" y="7987"/>
                </a:cubicBezTo>
                <a:cubicBezTo>
                  <a:pt x="5355" y="7965"/>
                  <a:pt x="5433" y="7904"/>
                  <a:pt x="5482" y="7888"/>
                </a:cubicBezTo>
                <a:cubicBezTo>
                  <a:pt x="5525" y="7873"/>
                  <a:pt x="5581" y="7904"/>
                  <a:pt x="5606" y="7938"/>
                </a:cubicBezTo>
                <a:cubicBezTo>
                  <a:pt x="5645" y="7992"/>
                  <a:pt x="5695" y="8096"/>
                  <a:pt x="5705" y="8161"/>
                </a:cubicBezTo>
                <a:cubicBezTo>
                  <a:pt x="5718" y="8247"/>
                  <a:pt x="5709" y="8354"/>
                  <a:pt x="5680" y="8434"/>
                </a:cubicBezTo>
                <a:cubicBezTo>
                  <a:pt x="5660" y="8489"/>
                  <a:pt x="5562" y="8590"/>
                  <a:pt x="5507" y="8607"/>
                </a:cubicBezTo>
                <a:cubicBezTo>
                  <a:pt x="5457" y="8622"/>
                  <a:pt x="5314" y="8653"/>
                  <a:pt x="5259" y="8632"/>
                </a:cubicBezTo>
                <a:cubicBezTo>
                  <a:pt x="5185" y="8603"/>
                  <a:pt x="5191" y="8574"/>
                  <a:pt x="5184" y="8508"/>
                </a:cubicBezTo>
                <a:cubicBezTo>
                  <a:pt x="5184" y="8491"/>
                  <a:pt x="5184" y="8475"/>
                  <a:pt x="5184" y="8458"/>
                </a:cubicBezTo>
              </a:path>
              <a:path w="5607" h="2134">
                <a:moveTo>
                  <a:pt x="5928" y="6896"/>
                </a:moveTo>
                <a:cubicBezTo>
                  <a:pt x="5941" y="6858"/>
                  <a:pt x="5950" y="6867"/>
                  <a:pt x="5978" y="6846"/>
                </a:cubicBezTo>
                <a:cubicBezTo>
                  <a:pt x="6020" y="6815"/>
                  <a:pt x="6035" y="6809"/>
                  <a:pt x="6077" y="6846"/>
                </a:cubicBezTo>
                <a:cubicBezTo>
                  <a:pt x="6156" y="6916"/>
                  <a:pt x="6127" y="6983"/>
                  <a:pt x="6127" y="7094"/>
                </a:cubicBezTo>
                <a:cubicBezTo>
                  <a:pt x="6127" y="7158"/>
                  <a:pt x="6102" y="7270"/>
                  <a:pt x="6052" y="7317"/>
                </a:cubicBezTo>
                <a:cubicBezTo>
                  <a:pt x="6040" y="7328"/>
                  <a:pt x="5945" y="7412"/>
                  <a:pt x="5928" y="7417"/>
                </a:cubicBezTo>
                <a:cubicBezTo>
                  <a:pt x="5896" y="7426"/>
                  <a:pt x="5808" y="7389"/>
                  <a:pt x="5829" y="7342"/>
                </a:cubicBezTo>
                <a:cubicBezTo>
                  <a:pt x="5847" y="7302"/>
                  <a:pt x="5872" y="7254"/>
                  <a:pt x="5904" y="7218"/>
                </a:cubicBezTo>
                <a:cubicBezTo>
                  <a:pt x="5951" y="7165"/>
                  <a:pt x="6006" y="7208"/>
                  <a:pt x="6052" y="7243"/>
                </a:cubicBezTo>
                <a:cubicBezTo>
                  <a:pt x="6098" y="7278"/>
                  <a:pt x="6126" y="7326"/>
                  <a:pt x="6152" y="7367"/>
                </a:cubicBezTo>
                <a:cubicBezTo>
                  <a:pt x="6183" y="7415"/>
                  <a:pt x="6175" y="7427"/>
                  <a:pt x="6201" y="7392"/>
                </a:cubicBezTo>
                <a:cubicBezTo>
                  <a:pt x="6209" y="7384"/>
                  <a:pt x="6218" y="7375"/>
                  <a:pt x="6226" y="7367"/>
                </a:cubicBezTo>
              </a:path>
              <a:path w="5607" h="2134">
                <a:moveTo>
                  <a:pt x="6524" y="6772"/>
                </a:moveTo>
                <a:cubicBezTo>
                  <a:pt x="6499" y="6860"/>
                  <a:pt x="6460" y="6954"/>
                  <a:pt x="6449" y="7045"/>
                </a:cubicBezTo>
                <a:cubicBezTo>
                  <a:pt x="6439" y="7128"/>
                  <a:pt x="6429" y="7269"/>
                  <a:pt x="6474" y="7342"/>
                </a:cubicBezTo>
                <a:cubicBezTo>
                  <a:pt x="6502" y="7386"/>
                  <a:pt x="6582" y="7402"/>
                  <a:pt x="6623" y="7367"/>
                </a:cubicBezTo>
                <a:cubicBezTo>
                  <a:pt x="6639" y="7342"/>
                  <a:pt x="6656" y="7318"/>
                  <a:pt x="6672" y="7293"/>
                </a:cubicBezTo>
              </a:path>
              <a:path w="5607" h="2134">
                <a:moveTo>
                  <a:pt x="6722" y="6896"/>
                </a:moveTo>
                <a:cubicBezTo>
                  <a:pt x="6758" y="6985"/>
                  <a:pt x="6765" y="7089"/>
                  <a:pt x="6821" y="7169"/>
                </a:cubicBezTo>
                <a:cubicBezTo>
                  <a:pt x="6856" y="7219"/>
                  <a:pt x="6882" y="7272"/>
                  <a:pt x="6945" y="7293"/>
                </a:cubicBezTo>
                <a:cubicBezTo>
                  <a:pt x="6992" y="7309"/>
                  <a:pt x="7068" y="7282"/>
                  <a:pt x="7094" y="7243"/>
                </a:cubicBezTo>
                <a:cubicBezTo>
                  <a:pt x="7094" y="7235"/>
                  <a:pt x="7094" y="7226"/>
                  <a:pt x="7094" y="7218"/>
                </a:cubicBezTo>
              </a:path>
              <a:path w="5607" h="2134">
                <a:moveTo>
                  <a:pt x="7020" y="6846"/>
                </a:moveTo>
                <a:cubicBezTo>
                  <a:pt x="6947" y="6966"/>
                  <a:pt x="6876" y="7080"/>
                  <a:pt x="6796" y="7193"/>
                </a:cubicBezTo>
                <a:cubicBezTo>
                  <a:pt x="6776" y="7221"/>
                  <a:pt x="6700" y="7316"/>
                  <a:pt x="6772" y="7268"/>
                </a:cubicBezTo>
              </a:path>
              <a:path w="5607" h="2134">
                <a:moveTo>
                  <a:pt x="7094" y="7020"/>
                </a:moveTo>
                <a:cubicBezTo>
                  <a:pt x="7138" y="7007"/>
                  <a:pt x="7202" y="6973"/>
                  <a:pt x="7243" y="6970"/>
                </a:cubicBezTo>
                <a:cubicBezTo>
                  <a:pt x="7295" y="6970"/>
                  <a:pt x="7313" y="6969"/>
                  <a:pt x="7342" y="6945"/>
                </a:cubicBezTo>
              </a:path>
              <a:path w="5607" h="2134">
                <a:moveTo>
                  <a:pt x="7417" y="6772"/>
                </a:moveTo>
                <a:cubicBezTo>
                  <a:pt x="7491" y="6763"/>
                  <a:pt x="7506" y="6752"/>
                  <a:pt x="7565" y="6772"/>
                </a:cubicBezTo>
                <a:cubicBezTo>
                  <a:pt x="7611" y="6788"/>
                  <a:pt x="7635" y="6811"/>
                  <a:pt x="7615" y="6871"/>
                </a:cubicBezTo>
                <a:cubicBezTo>
                  <a:pt x="7596" y="6929"/>
                  <a:pt x="7554" y="7021"/>
                  <a:pt x="7516" y="7069"/>
                </a:cubicBezTo>
                <a:cubicBezTo>
                  <a:pt x="7483" y="7111"/>
                  <a:pt x="7423" y="7139"/>
                  <a:pt x="7417" y="7193"/>
                </a:cubicBezTo>
                <a:cubicBezTo>
                  <a:pt x="7411" y="7246"/>
                  <a:pt x="7453" y="7243"/>
                  <a:pt x="7491" y="7243"/>
                </a:cubicBezTo>
                <a:cubicBezTo>
                  <a:pt x="7575" y="7243"/>
                  <a:pt x="7614" y="7230"/>
                  <a:pt x="7689" y="7193"/>
                </a:cubicBezTo>
                <a:cubicBezTo>
                  <a:pt x="7706" y="7185"/>
                  <a:pt x="7722" y="7177"/>
                  <a:pt x="7739" y="7169"/>
                </a:cubicBezTo>
              </a:path>
              <a:path w="5607" h="2134">
                <a:moveTo>
                  <a:pt x="7838" y="6648"/>
                </a:moveTo>
                <a:cubicBezTo>
                  <a:pt x="7890" y="6758"/>
                  <a:pt x="7933" y="6848"/>
                  <a:pt x="7938" y="6970"/>
                </a:cubicBezTo>
                <a:cubicBezTo>
                  <a:pt x="7941" y="7056"/>
                  <a:pt x="7939" y="7120"/>
                  <a:pt x="7888" y="7193"/>
                </a:cubicBezTo>
                <a:cubicBezTo>
                  <a:pt x="7849" y="7248"/>
                  <a:pt x="7813" y="7273"/>
                  <a:pt x="7764" y="7317"/>
                </a:cubicBezTo>
                <a:cubicBezTo>
                  <a:pt x="7734" y="7344"/>
                  <a:pt x="7721" y="7343"/>
                  <a:pt x="7689" y="7367"/>
                </a:cubicBezTo>
              </a:path>
              <a:path w="5607" h="2134">
                <a:moveTo>
                  <a:pt x="8111" y="7665"/>
                </a:moveTo>
                <a:cubicBezTo>
                  <a:pt x="8186" y="7685"/>
                  <a:pt x="8258" y="7710"/>
                  <a:pt x="8334" y="7714"/>
                </a:cubicBezTo>
                <a:cubicBezTo>
                  <a:pt x="8379" y="7714"/>
                  <a:pt x="8392" y="7717"/>
                  <a:pt x="8409" y="7689"/>
                </a:cubicBezTo>
              </a:path>
              <a:path w="5607" h="2134">
                <a:moveTo>
                  <a:pt x="8161" y="7863"/>
                </a:moveTo>
                <a:cubicBezTo>
                  <a:pt x="8254" y="7863"/>
                  <a:pt x="8320" y="7862"/>
                  <a:pt x="8409" y="7838"/>
                </a:cubicBezTo>
              </a:path>
              <a:path w="5607" h="2134">
                <a:moveTo>
                  <a:pt x="9178" y="7193"/>
                </a:moveTo>
                <a:cubicBezTo>
                  <a:pt x="9275" y="7167"/>
                  <a:pt x="9374" y="7149"/>
                  <a:pt x="9475" y="7144"/>
                </a:cubicBezTo>
                <a:cubicBezTo>
                  <a:pt x="9508" y="7142"/>
                  <a:pt x="9542" y="7144"/>
                  <a:pt x="9575" y="7144"/>
                </a:cubicBezTo>
              </a:path>
              <a:path w="5607" h="2134">
                <a:moveTo>
                  <a:pt x="9103" y="7218"/>
                </a:moveTo>
                <a:cubicBezTo>
                  <a:pt x="9066" y="7331"/>
                  <a:pt x="9035" y="7425"/>
                  <a:pt x="9029" y="7541"/>
                </a:cubicBezTo>
                <a:cubicBezTo>
                  <a:pt x="9027" y="7579"/>
                  <a:pt x="9038" y="7655"/>
                  <a:pt x="9054" y="7689"/>
                </a:cubicBezTo>
                <a:cubicBezTo>
                  <a:pt x="9062" y="7697"/>
                  <a:pt x="9071" y="7706"/>
                  <a:pt x="9079" y="7714"/>
                </a:cubicBezTo>
                <a:cubicBezTo>
                  <a:pt x="9123" y="7708"/>
                  <a:pt x="9126" y="7710"/>
                  <a:pt x="9153" y="7689"/>
                </a:cubicBezTo>
                <a:cubicBezTo>
                  <a:pt x="9201" y="7651"/>
                  <a:pt x="9264" y="7538"/>
                  <a:pt x="9327" y="7541"/>
                </a:cubicBezTo>
                <a:cubicBezTo>
                  <a:pt x="9387" y="7544"/>
                  <a:pt x="9441" y="7592"/>
                  <a:pt x="9475" y="7640"/>
                </a:cubicBezTo>
                <a:cubicBezTo>
                  <a:pt x="9540" y="7732"/>
                  <a:pt x="9543" y="7926"/>
                  <a:pt x="9525" y="8037"/>
                </a:cubicBezTo>
                <a:cubicBezTo>
                  <a:pt x="9509" y="8134"/>
                  <a:pt x="9465" y="8240"/>
                  <a:pt x="9401" y="8310"/>
                </a:cubicBezTo>
                <a:cubicBezTo>
                  <a:pt x="9324" y="8396"/>
                  <a:pt x="9256" y="8409"/>
                  <a:pt x="9153" y="8434"/>
                </a:cubicBezTo>
                <a:cubicBezTo>
                  <a:pt x="9054" y="8458"/>
                  <a:pt x="8993" y="8471"/>
                  <a:pt x="8905" y="8409"/>
                </a:cubicBezTo>
                <a:cubicBezTo>
                  <a:pt x="8864" y="8380"/>
                  <a:pt x="8886" y="8354"/>
                  <a:pt x="8880" y="8310"/>
                </a:cubicBezTo>
              </a:path>
              <a:path w="5607" h="2134">
                <a:moveTo>
                  <a:pt x="9723" y="6548"/>
                </a:moveTo>
                <a:cubicBezTo>
                  <a:pt x="9746" y="6542"/>
                  <a:pt x="9802" y="6536"/>
                  <a:pt x="9823" y="6524"/>
                </a:cubicBezTo>
                <a:cubicBezTo>
                  <a:pt x="9873" y="6495"/>
                  <a:pt x="9938" y="6498"/>
                  <a:pt x="9996" y="6524"/>
                </a:cubicBezTo>
                <a:cubicBezTo>
                  <a:pt x="10069" y="6557"/>
                  <a:pt x="10046" y="6622"/>
                  <a:pt x="10021" y="6672"/>
                </a:cubicBezTo>
                <a:cubicBezTo>
                  <a:pt x="9981" y="6752"/>
                  <a:pt x="9916" y="6748"/>
                  <a:pt x="9847" y="6796"/>
                </a:cubicBezTo>
                <a:cubicBezTo>
                  <a:pt x="9825" y="6819"/>
                  <a:pt x="9820" y="6827"/>
                  <a:pt x="9798" y="6821"/>
                </a:cubicBezTo>
                <a:cubicBezTo>
                  <a:pt x="9845" y="6845"/>
                  <a:pt x="9856" y="6823"/>
                  <a:pt x="9922" y="6846"/>
                </a:cubicBezTo>
                <a:cubicBezTo>
                  <a:pt x="9986" y="6869"/>
                  <a:pt x="10048" y="6902"/>
                  <a:pt x="10071" y="6970"/>
                </a:cubicBezTo>
                <a:cubicBezTo>
                  <a:pt x="10085" y="7013"/>
                  <a:pt x="10029" y="7073"/>
                  <a:pt x="9996" y="7094"/>
                </a:cubicBezTo>
                <a:cubicBezTo>
                  <a:pt x="9961" y="7117"/>
                  <a:pt x="9867" y="7137"/>
                  <a:pt x="9823" y="7119"/>
                </a:cubicBezTo>
                <a:cubicBezTo>
                  <a:pt x="9791" y="7105"/>
                  <a:pt x="9750" y="7051"/>
                  <a:pt x="9748" y="7020"/>
                </a:cubicBezTo>
                <a:cubicBezTo>
                  <a:pt x="9743" y="6944"/>
                  <a:pt x="9776" y="6924"/>
                  <a:pt x="9823" y="6871"/>
                </a:cubicBezTo>
              </a:path>
              <a:path w="5607" h="2134">
                <a:moveTo>
                  <a:pt x="10319" y="6573"/>
                </a:moveTo>
                <a:cubicBezTo>
                  <a:pt x="10362" y="6686"/>
                  <a:pt x="10386" y="6783"/>
                  <a:pt x="10468" y="6871"/>
                </a:cubicBezTo>
                <a:cubicBezTo>
                  <a:pt x="10552" y="6961"/>
                  <a:pt x="10645" y="7012"/>
                  <a:pt x="10765" y="7020"/>
                </a:cubicBezTo>
                <a:cubicBezTo>
                  <a:pt x="10773" y="7020"/>
                  <a:pt x="10782" y="7020"/>
                  <a:pt x="10790" y="7020"/>
                </a:cubicBezTo>
              </a:path>
              <a:path w="5607" h="2134">
                <a:moveTo>
                  <a:pt x="10790" y="6598"/>
                </a:moveTo>
                <a:cubicBezTo>
                  <a:pt x="10693" y="6769"/>
                  <a:pt x="10611" y="6841"/>
                  <a:pt x="10468" y="6970"/>
                </a:cubicBezTo>
                <a:cubicBezTo>
                  <a:pt x="10402" y="7036"/>
                  <a:pt x="10385" y="7053"/>
                  <a:pt x="10344" y="70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10080" y="1677960"/>
            <a:ext cx="339840" cy="635040"/>
          </a:xfrm>
          <a:custGeom>
            <a:avLst/>
            <a:gdLst/>
            <a:ahLst/>
            <a:rect l="l" t="t" r="r" b="b"/>
            <a:pathLst>
              <a:path w="944" h="1762">
                <a:moveTo>
                  <a:pt x="12526" y="5135"/>
                </a:moveTo>
                <a:cubicBezTo>
                  <a:pt x="12561" y="5181"/>
                  <a:pt x="12560" y="5248"/>
                  <a:pt x="12576" y="5308"/>
                </a:cubicBezTo>
                <a:cubicBezTo>
                  <a:pt x="12606" y="5424"/>
                  <a:pt x="12625" y="5540"/>
                  <a:pt x="12650" y="5655"/>
                </a:cubicBezTo>
                <a:cubicBezTo>
                  <a:pt x="12663" y="5716"/>
                  <a:pt x="12707" y="5845"/>
                  <a:pt x="12700" y="5904"/>
                </a:cubicBezTo>
                <a:cubicBezTo>
                  <a:pt x="12695" y="5950"/>
                  <a:pt x="12675" y="5978"/>
                  <a:pt x="12675" y="6028"/>
                </a:cubicBezTo>
                <a:cubicBezTo>
                  <a:pt x="12675" y="6061"/>
                  <a:pt x="12675" y="6011"/>
                  <a:pt x="12675" y="5978"/>
                </a:cubicBezTo>
              </a:path>
              <a:path w="944" h="1762">
                <a:moveTo>
                  <a:pt x="13171" y="5085"/>
                </a:moveTo>
                <a:cubicBezTo>
                  <a:pt x="13090" y="5085"/>
                  <a:pt x="12963" y="5069"/>
                  <a:pt x="12898" y="5135"/>
                </a:cubicBezTo>
                <a:cubicBezTo>
                  <a:pt x="12863" y="5170"/>
                  <a:pt x="12813" y="5257"/>
                  <a:pt x="12824" y="5308"/>
                </a:cubicBezTo>
                <a:cubicBezTo>
                  <a:pt x="12841" y="5385"/>
                  <a:pt x="12904" y="5448"/>
                  <a:pt x="12948" y="5507"/>
                </a:cubicBezTo>
                <a:cubicBezTo>
                  <a:pt x="13005" y="5583"/>
                  <a:pt x="13093" y="5727"/>
                  <a:pt x="13072" y="5829"/>
                </a:cubicBezTo>
                <a:cubicBezTo>
                  <a:pt x="13066" y="5858"/>
                  <a:pt x="13035" y="5943"/>
                  <a:pt x="12998" y="5953"/>
                </a:cubicBezTo>
                <a:cubicBezTo>
                  <a:pt x="12945" y="5968"/>
                  <a:pt x="12890" y="5923"/>
                  <a:pt x="12874" y="5879"/>
                </a:cubicBezTo>
                <a:cubicBezTo>
                  <a:pt x="12851" y="5815"/>
                  <a:pt x="12880" y="5715"/>
                  <a:pt x="12898" y="5655"/>
                </a:cubicBezTo>
                <a:cubicBezTo>
                  <a:pt x="12928" y="5557"/>
                  <a:pt x="12962" y="5459"/>
                  <a:pt x="12973" y="5358"/>
                </a:cubicBezTo>
                <a:cubicBezTo>
                  <a:pt x="12985" y="5248"/>
                  <a:pt x="12982" y="5170"/>
                  <a:pt x="12973" y="5060"/>
                </a:cubicBezTo>
              </a:path>
              <a:path w="944" h="1762">
                <a:moveTo>
                  <a:pt x="12948" y="4663"/>
                </a:moveTo>
                <a:cubicBezTo>
                  <a:pt x="13001" y="4690"/>
                  <a:pt x="13027" y="4723"/>
                  <a:pt x="13072" y="4762"/>
                </a:cubicBezTo>
                <a:cubicBezTo>
                  <a:pt x="13179" y="4854"/>
                  <a:pt x="13258" y="4953"/>
                  <a:pt x="13320" y="5085"/>
                </a:cubicBezTo>
                <a:cubicBezTo>
                  <a:pt x="13387" y="5229"/>
                  <a:pt x="13454" y="5397"/>
                  <a:pt x="13469" y="5556"/>
                </a:cubicBezTo>
                <a:cubicBezTo>
                  <a:pt x="13481" y="5676"/>
                  <a:pt x="13488" y="5840"/>
                  <a:pt x="13444" y="5953"/>
                </a:cubicBezTo>
                <a:cubicBezTo>
                  <a:pt x="13391" y="6090"/>
                  <a:pt x="13302" y="6248"/>
                  <a:pt x="13196" y="6350"/>
                </a:cubicBezTo>
                <a:cubicBezTo>
                  <a:pt x="13163" y="6375"/>
                  <a:pt x="13130" y="6399"/>
                  <a:pt x="13097" y="64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6160" y="1438200"/>
            <a:ext cx="803520" cy="723960"/>
          </a:xfrm>
          <a:custGeom>
            <a:avLst/>
            <a:gdLst/>
            <a:ahLst/>
            <a:rect l="l" t="t" r="r" b="b"/>
            <a:pathLst>
              <a:path w="2233" h="2010">
                <a:moveTo>
                  <a:pt x="15156" y="3994"/>
                </a:moveTo>
                <a:cubicBezTo>
                  <a:pt x="15156" y="4046"/>
                  <a:pt x="15171" y="4068"/>
                  <a:pt x="15180" y="4118"/>
                </a:cubicBezTo>
                <a:cubicBezTo>
                  <a:pt x="15192" y="4187"/>
                  <a:pt x="15197" y="4273"/>
                  <a:pt x="15205" y="4341"/>
                </a:cubicBezTo>
                <a:cubicBezTo>
                  <a:pt x="15218" y="4452"/>
                  <a:pt x="15190" y="4557"/>
                  <a:pt x="15180" y="4663"/>
                </a:cubicBezTo>
                <a:cubicBezTo>
                  <a:pt x="15159" y="4895"/>
                  <a:pt x="15186" y="5129"/>
                  <a:pt x="15156" y="5358"/>
                </a:cubicBezTo>
                <a:cubicBezTo>
                  <a:pt x="15154" y="5371"/>
                  <a:pt x="15147" y="5592"/>
                  <a:pt x="15180" y="5581"/>
                </a:cubicBezTo>
                <a:cubicBezTo>
                  <a:pt x="15180" y="5573"/>
                  <a:pt x="15180" y="5564"/>
                  <a:pt x="15180" y="5556"/>
                </a:cubicBezTo>
              </a:path>
              <a:path w="2233" h="2010">
                <a:moveTo>
                  <a:pt x="15602" y="4812"/>
                </a:moveTo>
                <a:cubicBezTo>
                  <a:pt x="15579" y="4916"/>
                  <a:pt x="15540" y="5030"/>
                  <a:pt x="15528" y="5135"/>
                </a:cubicBezTo>
                <a:cubicBezTo>
                  <a:pt x="15519" y="5215"/>
                  <a:pt x="15529" y="5310"/>
                  <a:pt x="15553" y="5383"/>
                </a:cubicBezTo>
                <a:cubicBezTo>
                  <a:pt x="15571" y="5439"/>
                  <a:pt x="15621" y="5488"/>
                  <a:pt x="15677" y="5507"/>
                </a:cubicBezTo>
                <a:cubicBezTo>
                  <a:pt x="15724" y="5523"/>
                  <a:pt x="15770" y="5487"/>
                  <a:pt x="15801" y="5457"/>
                </a:cubicBezTo>
                <a:cubicBezTo>
                  <a:pt x="15871" y="5391"/>
                  <a:pt x="15909" y="5345"/>
                  <a:pt x="15949" y="5259"/>
                </a:cubicBezTo>
                <a:cubicBezTo>
                  <a:pt x="15977" y="5201"/>
                  <a:pt x="16013" y="5076"/>
                  <a:pt x="15999" y="5011"/>
                </a:cubicBezTo>
                <a:cubicBezTo>
                  <a:pt x="15986" y="4952"/>
                  <a:pt x="15917" y="4824"/>
                  <a:pt x="15875" y="4787"/>
                </a:cubicBezTo>
                <a:cubicBezTo>
                  <a:pt x="15846" y="4761"/>
                  <a:pt x="15766" y="4762"/>
                  <a:pt x="15726" y="4762"/>
                </a:cubicBezTo>
                <a:cubicBezTo>
                  <a:pt x="15690" y="4762"/>
                  <a:pt x="15647" y="4806"/>
                  <a:pt x="15627" y="4837"/>
                </a:cubicBezTo>
                <a:cubicBezTo>
                  <a:pt x="15595" y="4886"/>
                  <a:pt x="15580" y="4954"/>
                  <a:pt x="15577" y="5011"/>
                </a:cubicBezTo>
                <a:cubicBezTo>
                  <a:pt x="15577" y="5060"/>
                  <a:pt x="15577" y="5077"/>
                  <a:pt x="15577" y="5110"/>
                </a:cubicBezTo>
              </a:path>
              <a:path w="2233" h="2010">
                <a:moveTo>
                  <a:pt x="16495" y="5035"/>
                </a:moveTo>
                <a:cubicBezTo>
                  <a:pt x="16561" y="4882"/>
                  <a:pt x="16548" y="4942"/>
                  <a:pt x="16495" y="4862"/>
                </a:cubicBezTo>
                <a:cubicBezTo>
                  <a:pt x="16464" y="4816"/>
                  <a:pt x="16450" y="4846"/>
                  <a:pt x="16396" y="4862"/>
                </a:cubicBezTo>
                <a:cubicBezTo>
                  <a:pt x="16350" y="4876"/>
                  <a:pt x="16322" y="4939"/>
                  <a:pt x="16297" y="4986"/>
                </a:cubicBezTo>
                <a:cubicBezTo>
                  <a:pt x="16255" y="5066"/>
                  <a:pt x="16279" y="5105"/>
                  <a:pt x="16297" y="5184"/>
                </a:cubicBezTo>
                <a:cubicBezTo>
                  <a:pt x="16303" y="5211"/>
                  <a:pt x="16317" y="5269"/>
                  <a:pt x="16346" y="5283"/>
                </a:cubicBezTo>
                <a:cubicBezTo>
                  <a:pt x="16390" y="5304"/>
                  <a:pt x="16442" y="5260"/>
                  <a:pt x="16470" y="5234"/>
                </a:cubicBezTo>
                <a:cubicBezTo>
                  <a:pt x="16517" y="5190"/>
                  <a:pt x="16540" y="5143"/>
                  <a:pt x="16570" y="5085"/>
                </a:cubicBezTo>
                <a:cubicBezTo>
                  <a:pt x="16593" y="5040"/>
                  <a:pt x="16598" y="4973"/>
                  <a:pt x="16619" y="4936"/>
                </a:cubicBezTo>
                <a:cubicBezTo>
                  <a:pt x="16641" y="4914"/>
                  <a:pt x="16650" y="4909"/>
                  <a:pt x="16644" y="4887"/>
                </a:cubicBezTo>
                <a:cubicBezTo>
                  <a:pt x="16644" y="4940"/>
                  <a:pt x="16622" y="4956"/>
                  <a:pt x="16619" y="5011"/>
                </a:cubicBezTo>
                <a:cubicBezTo>
                  <a:pt x="16608" y="5203"/>
                  <a:pt x="16623" y="5395"/>
                  <a:pt x="16644" y="5581"/>
                </a:cubicBezTo>
                <a:cubicBezTo>
                  <a:pt x="16654" y="5672"/>
                  <a:pt x="16674" y="5836"/>
                  <a:pt x="16619" y="5904"/>
                </a:cubicBezTo>
                <a:cubicBezTo>
                  <a:pt x="16582" y="5950"/>
                  <a:pt x="16538" y="5952"/>
                  <a:pt x="16495" y="5978"/>
                </a:cubicBezTo>
                <a:cubicBezTo>
                  <a:pt x="16474" y="5991"/>
                  <a:pt x="16363" y="6027"/>
                  <a:pt x="16396" y="5953"/>
                </a:cubicBezTo>
                <a:cubicBezTo>
                  <a:pt x="16404" y="5945"/>
                  <a:pt x="16413" y="5936"/>
                  <a:pt x="16421" y="5928"/>
                </a:cubicBezTo>
              </a:path>
              <a:path w="2233" h="2010">
                <a:moveTo>
                  <a:pt x="17016" y="5358"/>
                </a:moveTo>
                <a:cubicBezTo>
                  <a:pt x="17061" y="5448"/>
                  <a:pt x="17078" y="5525"/>
                  <a:pt x="17140" y="5581"/>
                </a:cubicBezTo>
                <a:cubicBezTo>
                  <a:pt x="17174" y="5612"/>
                  <a:pt x="17220" y="5650"/>
                  <a:pt x="17264" y="5655"/>
                </a:cubicBezTo>
                <a:cubicBezTo>
                  <a:pt x="17315" y="5660"/>
                  <a:pt x="17328" y="5641"/>
                  <a:pt x="17363" y="5606"/>
                </a:cubicBezTo>
                <a:cubicBezTo>
                  <a:pt x="17371" y="5598"/>
                  <a:pt x="17380" y="5589"/>
                  <a:pt x="17388" y="5581"/>
                </a:cubicBezTo>
              </a:path>
              <a:path w="2233" h="2010">
                <a:moveTo>
                  <a:pt x="17289" y="5283"/>
                </a:moveTo>
                <a:cubicBezTo>
                  <a:pt x="17227" y="5400"/>
                  <a:pt x="17172" y="5513"/>
                  <a:pt x="17115" y="5631"/>
                </a:cubicBezTo>
                <a:cubicBezTo>
                  <a:pt x="17092" y="5680"/>
                  <a:pt x="17037" y="5710"/>
                  <a:pt x="17016" y="5755"/>
                </a:cubicBezTo>
                <a:cubicBezTo>
                  <a:pt x="17016" y="5763"/>
                  <a:pt x="17016" y="5771"/>
                  <a:pt x="17016" y="577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11960" y="1446120"/>
            <a:ext cx="438120" cy="420840"/>
          </a:xfrm>
          <a:custGeom>
            <a:avLst/>
            <a:gdLst/>
            <a:ahLst/>
            <a:rect l="l" t="t" r="r" b="b"/>
            <a:pathLst>
              <a:path w="1216" h="1167">
                <a:moveTo>
                  <a:pt x="18281" y="4093"/>
                </a:moveTo>
                <a:cubicBezTo>
                  <a:pt x="18251" y="4040"/>
                  <a:pt x="18256" y="4022"/>
                  <a:pt x="18182" y="4018"/>
                </a:cubicBezTo>
                <a:cubicBezTo>
                  <a:pt x="18100" y="4013"/>
                  <a:pt x="18075" y="4030"/>
                  <a:pt x="18008" y="4068"/>
                </a:cubicBezTo>
                <a:cubicBezTo>
                  <a:pt x="17953" y="4099"/>
                  <a:pt x="17827" y="4143"/>
                  <a:pt x="17810" y="4217"/>
                </a:cubicBezTo>
                <a:cubicBezTo>
                  <a:pt x="17795" y="4282"/>
                  <a:pt x="17831" y="4334"/>
                  <a:pt x="17859" y="4390"/>
                </a:cubicBezTo>
                <a:cubicBezTo>
                  <a:pt x="17901" y="4476"/>
                  <a:pt x="17979" y="4536"/>
                  <a:pt x="18033" y="4614"/>
                </a:cubicBezTo>
                <a:cubicBezTo>
                  <a:pt x="18079" y="4681"/>
                  <a:pt x="18127" y="4761"/>
                  <a:pt x="18157" y="4837"/>
                </a:cubicBezTo>
                <a:cubicBezTo>
                  <a:pt x="18193" y="4929"/>
                  <a:pt x="18172" y="4959"/>
                  <a:pt x="18157" y="5035"/>
                </a:cubicBezTo>
                <a:cubicBezTo>
                  <a:pt x="18140" y="5120"/>
                  <a:pt x="18127" y="5107"/>
                  <a:pt x="18058" y="5159"/>
                </a:cubicBezTo>
                <a:cubicBezTo>
                  <a:pt x="18017" y="5190"/>
                  <a:pt x="18009" y="5178"/>
                  <a:pt x="17959" y="5184"/>
                </a:cubicBezTo>
                <a:cubicBezTo>
                  <a:pt x="17965" y="5130"/>
                  <a:pt x="17959" y="5114"/>
                  <a:pt x="17983" y="5060"/>
                </a:cubicBezTo>
                <a:cubicBezTo>
                  <a:pt x="18024" y="4968"/>
                  <a:pt x="18068" y="4879"/>
                  <a:pt x="18107" y="4787"/>
                </a:cubicBezTo>
                <a:cubicBezTo>
                  <a:pt x="18153" y="4678"/>
                  <a:pt x="18177" y="4573"/>
                  <a:pt x="18207" y="4465"/>
                </a:cubicBezTo>
                <a:cubicBezTo>
                  <a:pt x="18225" y="4400"/>
                  <a:pt x="18269" y="4324"/>
                  <a:pt x="18281" y="4266"/>
                </a:cubicBezTo>
                <a:cubicBezTo>
                  <a:pt x="18287" y="4236"/>
                  <a:pt x="18280" y="4170"/>
                  <a:pt x="18306" y="4167"/>
                </a:cubicBezTo>
                <a:cubicBezTo>
                  <a:pt x="18314" y="4175"/>
                  <a:pt x="18323" y="4184"/>
                  <a:pt x="18331" y="4192"/>
                </a:cubicBezTo>
              </a:path>
              <a:path w="1216" h="1167">
                <a:moveTo>
                  <a:pt x="18678" y="4564"/>
                </a:moveTo>
                <a:cubicBezTo>
                  <a:pt x="18739" y="4538"/>
                  <a:pt x="18761" y="4539"/>
                  <a:pt x="18827" y="4539"/>
                </a:cubicBezTo>
                <a:cubicBezTo>
                  <a:pt x="18872" y="4539"/>
                  <a:pt x="18904" y="4514"/>
                  <a:pt x="18951" y="4514"/>
                </a:cubicBezTo>
                <a:cubicBezTo>
                  <a:pt x="18976" y="4514"/>
                  <a:pt x="18984" y="4514"/>
                  <a:pt x="19000" y="4514"/>
                </a:cubicBezTo>
              </a:path>
              <a:path w="1216" h="1167">
                <a:moveTo>
                  <a:pt x="18728" y="4762"/>
                </a:moveTo>
                <a:cubicBezTo>
                  <a:pt x="18815" y="4800"/>
                  <a:pt x="18791" y="4777"/>
                  <a:pt x="18876" y="4762"/>
                </a:cubicBezTo>
                <a:cubicBezTo>
                  <a:pt x="18936" y="4751"/>
                  <a:pt x="18966" y="4759"/>
                  <a:pt x="19025" y="473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54920" y="1347840"/>
            <a:ext cx="322200" cy="430200"/>
          </a:xfrm>
          <a:custGeom>
            <a:avLst/>
            <a:gdLst/>
            <a:ahLst/>
            <a:rect l="l" t="t" r="r" b="b"/>
            <a:pathLst>
              <a:path w="894" h="1191">
                <a:moveTo>
                  <a:pt x="19596" y="4316"/>
                </a:moveTo>
                <a:cubicBezTo>
                  <a:pt x="19692" y="4310"/>
                  <a:pt x="19733" y="4291"/>
                  <a:pt x="19819" y="4291"/>
                </a:cubicBezTo>
              </a:path>
              <a:path w="894" h="1191">
                <a:moveTo>
                  <a:pt x="20017" y="3845"/>
                </a:moveTo>
                <a:cubicBezTo>
                  <a:pt x="20109" y="3761"/>
                  <a:pt x="20122" y="3746"/>
                  <a:pt x="20241" y="3746"/>
                </a:cubicBezTo>
                <a:cubicBezTo>
                  <a:pt x="20317" y="3746"/>
                  <a:pt x="20373" y="3750"/>
                  <a:pt x="20439" y="3795"/>
                </a:cubicBezTo>
                <a:cubicBezTo>
                  <a:pt x="20534" y="3861"/>
                  <a:pt x="20478" y="3965"/>
                  <a:pt x="20439" y="4043"/>
                </a:cubicBezTo>
                <a:cubicBezTo>
                  <a:pt x="20394" y="4132"/>
                  <a:pt x="20340" y="4139"/>
                  <a:pt x="20265" y="4192"/>
                </a:cubicBezTo>
                <a:cubicBezTo>
                  <a:pt x="20221" y="4223"/>
                  <a:pt x="20179" y="4252"/>
                  <a:pt x="20141" y="4291"/>
                </a:cubicBezTo>
                <a:cubicBezTo>
                  <a:pt x="20108" y="4324"/>
                  <a:pt x="20123" y="4325"/>
                  <a:pt x="20117" y="4366"/>
                </a:cubicBezTo>
                <a:cubicBezTo>
                  <a:pt x="20157" y="4360"/>
                  <a:pt x="20181" y="4357"/>
                  <a:pt x="20216" y="4341"/>
                </a:cubicBezTo>
                <a:cubicBezTo>
                  <a:pt x="20243" y="4329"/>
                  <a:pt x="20287" y="4298"/>
                  <a:pt x="20315" y="4291"/>
                </a:cubicBezTo>
                <a:cubicBezTo>
                  <a:pt x="20356" y="4280"/>
                  <a:pt x="20405" y="4295"/>
                  <a:pt x="20439" y="4316"/>
                </a:cubicBezTo>
                <a:cubicBezTo>
                  <a:pt x="20488" y="4346"/>
                  <a:pt x="20464" y="4466"/>
                  <a:pt x="20464" y="4514"/>
                </a:cubicBezTo>
                <a:cubicBezTo>
                  <a:pt x="20464" y="4592"/>
                  <a:pt x="20422" y="4667"/>
                  <a:pt x="20389" y="4738"/>
                </a:cubicBezTo>
                <a:cubicBezTo>
                  <a:pt x="20359" y="4802"/>
                  <a:pt x="20325" y="4852"/>
                  <a:pt x="20265" y="4887"/>
                </a:cubicBezTo>
                <a:cubicBezTo>
                  <a:pt x="20194" y="4928"/>
                  <a:pt x="20147" y="4936"/>
                  <a:pt x="20067" y="4936"/>
                </a:cubicBezTo>
                <a:cubicBezTo>
                  <a:pt x="20012" y="4936"/>
                  <a:pt x="19923" y="4928"/>
                  <a:pt x="19869" y="4911"/>
                </a:cubicBezTo>
                <a:cubicBezTo>
                  <a:pt x="19815" y="4895"/>
                  <a:pt x="19799" y="4890"/>
                  <a:pt x="19745" y="4887"/>
                </a:cubicBezTo>
                <a:cubicBezTo>
                  <a:pt x="19720" y="4886"/>
                  <a:pt x="19695" y="4887"/>
                  <a:pt x="19670" y="488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72120" y="2197080"/>
            <a:ext cx="1108080" cy="598680"/>
          </a:xfrm>
          <a:custGeom>
            <a:avLst/>
            <a:gdLst/>
            <a:ahLst/>
            <a:rect l="l" t="t" r="r" b="b"/>
            <a:pathLst>
              <a:path w="3077" h="1663">
                <a:moveTo>
                  <a:pt x="17041" y="6796"/>
                </a:moveTo>
                <a:cubicBezTo>
                  <a:pt x="17077" y="6844"/>
                  <a:pt x="17068" y="6892"/>
                  <a:pt x="17090" y="6945"/>
                </a:cubicBezTo>
                <a:cubicBezTo>
                  <a:pt x="17133" y="7052"/>
                  <a:pt x="17184" y="7169"/>
                  <a:pt x="17239" y="7268"/>
                </a:cubicBezTo>
                <a:cubicBezTo>
                  <a:pt x="17295" y="7368"/>
                  <a:pt x="17371" y="7451"/>
                  <a:pt x="17438" y="7541"/>
                </a:cubicBezTo>
                <a:cubicBezTo>
                  <a:pt x="17483" y="7601"/>
                  <a:pt x="17542" y="7699"/>
                  <a:pt x="17611" y="7739"/>
                </a:cubicBezTo>
                <a:cubicBezTo>
                  <a:pt x="17639" y="7739"/>
                  <a:pt x="17650" y="7741"/>
                  <a:pt x="17661" y="7764"/>
                </a:cubicBezTo>
                <a:cubicBezTo>
                  <a:pt x="17661" y="7731"/>
                  <a:pt x="17661" y="7698"/>
                  <a:pt x="17661" y="7665"/>
                </a:cubicBezTo>
              </a:path>
              <a:path w="3077" h="1663">
                <a:moveTo>
                  <a:pt x="17562" y="6722"/>
                </a:moveTo>
                <a:cubicBezTo>
                  <a:pt x="17523" y="6789"/>
                  <a:pt x="17480" y="6855"/>
                  <a:pt x="17438" y="6921"/>
                </a:cubicBezTo>
                <a:cubicBezTo>
                  <a:pt x="17367" y="7034"/>
                  <a:pt x="17292" y="7138"/>
                  <a:pt x="17214" y="7243"/>
                </a:cubicBezTo>
                <a:cubicBezTo>
                  <a:pt x="17126" y="7360"/>
                  <a:pt x="17027" y="7483"/>
                  <a:pt x="16942" y="7590"/>
                </a:cubicBezTo>
                <a:cubicBezTo>
                  <a:pt x="16907" y="7634"/>
                  <a:pt x="16898" y="7696"/>
                  <a:pt x="16867" y="7665"/>
                </a:cubicBezTo>
                <a:cubicBezTo>
                  <a:pt x="16867" y="7657"/>
                  <a:pt x="16867" y="7648"/>
                  <a:pt x="16867" y="7640"/>
                </a:cubicBezTo>
              </a:path>
              <a:path w="3077" h="1663">
                <a:moveTo>
                  <a:pt x="17686" y="6548"/>
                </a:moveTo>
                <a:cubicBezTo>
                  <a:pt x="17719" y="6540"/>
                  <a:pt x="17752" y="6532"/>
                  <a:pt x="17785" y="6524"/>
                </a:cubicBezTo>
              </a:path>
              <a:path w="3077" h="1663">
                <a:moveTo>
                  <a:pt x="18058" y="6152"/>
                </a:moveTo>
                <a:cubicBezTo>
                  <a:pt x="18124" y="6095"/>
                  <a:pt x="18121" y="6102"/>
                  <a:pt x="18207" y="6102"/>
                </a:cubicBezTo>
                <a:cubicBezTo>
                  <a:pt x="18247" y="6102"/>
                  <a:pt x="18278" y="6138"/>
                  <a:pt x="18281" y="6176"/>
                </a:cubicBezTo>
                <a:cubicBezTo>
                  <a:pt x="18289" y="6285"/>
                  <a:pt x="18207" y="6312"/>
                  <a:pt x="18132" y="6375"/>
                </a:cubicBezTo>
                <a:cubicBezTo>
                  <a:pt x="18104" y="6398"/>
                  <a:pt x="18075" y="6456"/>
                  <a:pt x="18058" y="6424"/>
                </a:cubicBezTo>
                <a:cubicBezTo>
                  <a:pt x="18036" y="6383"/>
                  <a:pt x="18136" y="6400"/>
                  <a:pt x="18157" y="6400"/>
                </a:cubicBezTo>
                <a:cubicBezTo>
                  <a:pt x="18247" y="6400"/>
                  <a:pt x="18248" y="6442"/>
                  <a:pt x="18281" y="6499"/>
                </a:cubicBezTo>
                <a:cubicBezTo>
                  <a:pt x="18317" y="6562"/>
                  <a:pt x="18307" y="6572"/>
                  <a:pt x="18256" y="6623"/>
                </a:cubicBezTo>
                <a:cubicBezTo>
                  <a:pt x="18208" y="6671"/>
                  <a:pt x="18202" y="6672"/>
                  <a:pt x="18132" y="6672"/>
                </a:cubicBezTo>
                <a:cubicBezTo>
                  <a:pt x="18085" y="6672"/>
                  <a:pt x="17997" y="6627"/>
                  <a:pt x="18008" y="6672"/>
                </a:cubicBezTo>
                <a:cubicBezTo>
                  <a:pt x="18016" y="6680"/>
                  <a:pt x="18025" y="6689"/>
                  <a:pt x="18033" y="6697"/>
                </a:cubicBezTo>
              </a:path>
              <a:path w="3077" h="1663">
                <a:moveTo>
                  <a:pt x="18479" y="6945"/>
                </a:moveTo>
                <a:cubicBezTo>
                  <a:pt x="18579" y="6931"/>
                  <a:pt x="18655" y="6921"/>
                  <a:pt x="18752" y="6921"/>
                </a:cubicBezTo>
              </a:path>
              <a:path w="3077" h="1663">
                <a:moveTo>
                  <a:pt x="18604" y="7094"/>
                </a:moveTo>
                <a:cubicBezTo>
                  <a:pt x="18731" y="7113"/>
                  <a:pt x="18848" y="7119"/>
                  <a:pt x="18976" y="7119"/>
                </a:cubicBezTo>
              </a:path>
              <a:path w="3077" h="1663">
                <a:moveTo>
                  <a:pt x="19918" y="6672"/>
                </a:moveTo>
                <a:cubicBezTo>
                  <a:pt x="19935" y="6605"/>
                  <a:pt x="19935" y="6545"/>
                  <a:pt x="19844" y="6524"/>
                </a:cubicBezTo>
                <a:cubicBezTo>
                  <a:pt x="19775" y="6508"/>
                  <a:pt x="19706" y="6518"/>
                  <a:pt x="19645" y="6524"/>
                </a:cubicBezTo>
                <a:cubicBezTo>
                  <a:pt x="19568" y="6532"/>
                  <a:pt x="19513" y="6561"/>
                  <a:pt x="19447" y="6598"/>
                </a:cubicBezTo>
                <a:cubicBezTo>
                  <a:pt x="19388" y="6631"/>
                  <a:pt x="19376" y="6680"/>
                  <a:pt x="19372" y="6747"/>
                </a:cubicBezTo>
                <a:cubicBezTo>
                  <a:pt x="19369" y="6795"/>
                  <a:pt x="19420" y="6904"/>
                  <a:pt x="19447" y="6945"/>
                </a:cubicBezTo>
                <a:cubicBezTo>
                  <a:pt x="19508" y="7037"/>
                  <a:pt x="19583" y="7125"/>
                  <a:pt x="19645" y="7218"/>
                </a:cubicBezTo>
                <a:cubicBezTo>
                  <a:pt x="19706" y="7310"/>
                  <a:pt x="19763" y="7351"/>
                  <a:pt x="19769" y="7466"/>
                </a:cubicBezTo>
                <a:cubicBezTo>
                  <a:pt x="19771" y="7508"/>
                  <a:pt x="19781" y="7562"/>
                  <a:pt x="19745" y="7590"/>
                </a:cubicBezTo>
                <a:cubicBezTo>
                  <a:pt x="19677" y="7643"/>
                  <a:pt x="19587" y="7604"/>
                  <a:pt x="19521" y="7565"/>
                </a:cubicBezTo>
                <a:cubicBezTo>
                  <a:pt x="19454" y="7526"/>
                  <a:pt x="19450" y="7461"/>
                  <a:pt x="19447" y="7392"/>
                </a:cubicBezTo>
                <a:cubicBezTo>
                  <a:pt x="19443" y="7307"/>
                  <a:pt x="19522" y="7257"/>
                  <a:pt x="19571" y="7193"/>
                </a:cubicBezTo>
                <a:cubicBezTo>
                  <a:pt x="19632" y="7112"/>
                  <a:pt x="19722" y="7008"/>
                  <a:pt x="19769" y="6921"/>
                </a:cubicBezTo>
                <a:cubicBezTo>
                  <a:pt x="19810" y="6845"/>
                  <a:pt x="19812" y="6745"/>
                  <a:pt x="19844" y="6672"/>
                </a:cubicBezTo>
                <a:cubicBezTo>
                  <a:pt x="19864" y="6625"/>
                  <a:pt x="19863" y="6642"/>
                  <a:pt x="19819" y="65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28880" y="3438360"/>
            <a:ext cx="187200" cy="320760"/>
          </a:xfrm>
          <a:custGeom>
            <a:avLst/>
            <a:gdLst/>
            <a:ahLst/>
            <a:rect l="l" t="t" r="r" b="b"/>
            <a:pathLst>
              <a:path w="522" h="894">
                <a:moveTo>
                  <a:pt x="5531" y="9699"/>
                </a:moveTo>
                <a:cubicBezTo>
                  <a:pt x="5474" y="9737"/>
                  <a:pt x="5514" y="9674"/>
                  <a:pt x="5531" y="9649"/>
                </a:cubicBezTo>
                <a:cubicBezTo>
                  <a:pt x="5560" y="9605"/>
                  <a:pt x="5567" y="9601"/>
                  <a:pt x="5606" y="9575"/>
                </a:cubicBezTo>
                <a:cubicBezTo>
                  <a:pt x="5649" y="9547"/>
                  <a:pt x="5678" y="9550"/>
                  <a:pt x="5730" y="9550"/>
                </a:cubicBezTo>
                <a:cubicBezTo>
                  <a:pt x="5796" y="9550"/>
                  <a:pt x="5832" y="9680"/>
                  <a:pt x="5854" y="9723"/>
                </a:cubicBezTo>
                <a:cubicBezTo>
                  <a:pt x="5904" y="9822"/>
                  <a:pt x="5865" y="9896"/>
                  <a:pt x="5854" y="9996"/>
                </a:cubicBezTo>
                <a:cubicBezTo>
                  <a:pt x="5844" y="10084"/>
                  <a:pt x="5801" y="10202"/>
                  <a:pt x="5730" y="10269"/>
                </a:cubicBezTo>
                <a:cubicBezTo>
                  <a:pt x="5684" y="10312"/>
                  <a:pt x="5626" y="10377"/>
                  <a:pt x="5556" y="10393"/>
                </a:cubicBezTo>
                <a:cubicBezTo>
                  <a:pt x="5505" y="10404"/>
                  <a:pt x="5444" y="10401"/>
                  <a:pt x="5407" y="10368"/>
                </a:cubicBezTo>
                <a:cubicBezTo>
                  <a:pt x="5362" y="10328"/>
                  <a:pt x="5340" y="10284"/>
                  <a:pt x="5358" y="10220"/>
                </a:cubicBezTo>
                <a:cubicBezTo>
                  <a:pt x="5379" y="10145"/>
                  <a:pt x="5389" y="10112"/>
                  <a:pt x="5457" y="10071"/>
                </a:cubicBezTo>
                <a:cubicBezTo>
                  <a:pt x="5474" y="10063"/>
                  <a:pt x="5490" y="10054"/>
                  <a:pt x="5507" y="10046"/>
                </a:cubicBezTo>
                <a:cubicBezTo>
                  <a:pt x="5562" y="10103"/>
                  <a:pt x="5618" y="10150"/>
                  <a:pt x="5655" y="10220"/>
                </a:cubicBezTo>
                <a:cubicBezTo>
                  <a:pt x="5675" y="10259"/>
                  <a:pt x="5700" y="10347"/>
                  <a:pt x="5680" y="10393"/>
                </a:cubicBezTo>
                <a:cubicBezTo>
                  <a:pt x="5669" y="10418"/>
                  <a:pt x="5617" y="10460"/>
                  <a:pt x="5680" y="104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68360" y="3402000"/>
            <a:ext cx="776520" cy="357120"/>
          </a:xfrm>
          <a:custGeom>
            <a:avLst/>
            <a:gdLst/>
            <a:ahLst/>
            <a:rect l="l" t="t" r="r" b="b"/>
            <a:pathLst>
              <a:path w="2159" h="993">
                <a:moveTo>
                  <a:pt x="6375" y="9525"/>
                </a:moveTo>
                <a:cubicBezTo>
                  <a:pt x="6364" y="9683"/>
                  <a:pt x="6310" y="9834"/>
                  <a:pt x="6300" y="9996"/>
                </a:cubicBezTo>
                <a:cubicBezTo>
                  <a:pt x="6295" y="10088"/>
                  <a:pt x="6319" y="10208"/>
                  <a:pt x="6350" y="10294"/>
                </a:cubicBezTo>
                <a:cubicBezTo>
                  <a:pt x="6375" y="10362"/>
                  <a:pt x="6412" y="10408"/>
                  <a:pt x="6474" y="10418"/>
                </a:cubicBezTo>
                <a:cubicBezTo>
                  <a:pt x="6563" y="10433"/>
                  <a:pt x="6600" y="10349"/>
                  <a:pt x="6648" y="10294"/>
                </a:cubicBezTo>
              </a:path>
              <a:path w="2159" h="993">
                <a:moveTo>
                  <a:pt x="6747" y="9798"/>
                </a:moveTo>
                <a:cubicBezTo>
                  <a:pt x="6796" y="9904"/>
                  <a:pt x="6834" y="10009"/>
                  <a:pt x="6871" y="10120"/>
                </a:cubicBezTo>
                <a:cubicBezTo>
                  <a:pt x="6905" y="10223"/>
                  <a:pt x="6949" y="10293"/>
                  <a:pt x="7045" y="10344"/>
                </a:cubicBezTo>
                <a:cubicBezTo>
                  <a:pt x="7117" y="10382"/>
                  <a:pt x="7179" y="10423"/>
                  <a:pt x="7243" y="10368"/>
                </a:cubicBezTo>
                <a:cubicBezTo>
                  <a:pt x="7251" y="10360"/>
                  <a:pt x="7260" y="10352"/>
                  <a:pt x="7268" y="10344"/>
                </a:cubicBezTo>
              </a:path>
              <a:path w="2159" h="993">
                <a:moveTo>
                  <a:pt x="7045" y="9823"/>
                </a:moveTo>
                <a:cubicBezTo>
                  <a:pt x="6977" y="9945"/>
                  <a:pt x="6918" y="10063"/>
                  <a:pt x="6871" y="10195"/>
                </a:cubicBezTo>
                <a:cubicBezTo>
                  <a:pt x="6868" y="10204"/>
                  <a:pt x="6788" y="10369"/>
                  <a:pt x="6796" y="10368"/>
                </a:cubicBezTo>
                <a:cubicBezTo>
                  <a:pt x="6804" y="10360"/>
                  <a:pt x="6813" y="10352"/>
                  <a:pt x="6821" y="10344"/>
                </a:cubicBezTo>
              </a:path>
              <a:path w="2159" h="993">
                <a:moveTo>
                  <a:pt x="7317" y="9971"/>
                </a:moveTo>
                <a:cubicBezTo>
                  <a:pt x="7426" y="9971"/>
                  <a:pt x="7450" y="9965"/>
                  <a:pt x="7541" y="9947"/>
                </a:cubicBezTo>
              </a:path>
              <a:path w="2159" h="993">
                <a:moveTo>
                  <a:pt x="7764" y="9674"/>
                </a:moveTo>
                <a:cubicBezTo>
                  <a:pt x="7823" y="9674"/>
                  <a:pt x="7930" y="9649"/>
                  <a:pt x="7962" y="9723"/>
                </a:cubicBezTo>
                <a:cubicBezTo>
                  <a:pt x="7980" y="9765"/>
                  <a:pt x="7914" y="9845"/>
                  <a:pt x="7888" y="9872"/>
                </a:cubicBezTo>
                <a:cubicBezTo>
                  <a:pt x="7830" y="9934"/>
                  <a:pt x="7790" y="10004"/>
                  <a:pt x="7739" y="10071"/>
                </a:cubicBezTo>
                <a:cubicBezTo>
                  <a:pt x="7708" y="10112"/>
                  <a:pt x="7687" y="10160"/>
                  <a:pt x="7714" y="10195"/>
                </a:cubicBezTo>
                <a:cubicBezTo>
                  <a:pt x="7747" y="10237"/>
                  <a:pt x="7783" y="10276"/>
                  <a:pt x="7838" y="10269"/>
                </a:cubicBezTo>
                <a:cubicBezTo>
                  <a:pt x="7933" y="10257"/>
                  <a:pt x="7982" y="10234"/>
                  <a:pt x="8062" y="10195"/>
                </a:cubicBezTo>
              </a:path>
              <a:path w="2159" h="993">
                <a:moveTo>
                  <a:pt x="8210" y="9451"/>
                </a:moveTo>
                <a:cubicBezTo>
                  <a:pt x="8317" y="9534"/>
                  <a:pt x="8393" y="9590"/>
                  <a:pt x="8434" y="9723"/>
                </a:cubicBezTo>
                <a:cubicBezTo>
                  <a:pt x="8467" y="9832"/>
                  <a:pt x="8482" y="10007"/>
                  <a:pt x="8458" y="10120"/>
                </a:cubicBezTo>
                <a:cubicBezTo>
                  <a:pt x="8430" y="10248"/>
                  <a:pt x="8397" y="10330"/>
                  <a:pt x="8310" y="10418"/>
                </a:cubicBezTo>
                <a:cubicBezTo>
                  <a:pt x="8251" y="10477"/>
                  <a:pt x="8300" y="10407"/>
                  <a:pt x="8310" y="103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97160" y="3571920"/>
            <a:ext cx="98640" cy="98280"/>
          </a:xfrm>
          <a:custGeom>
            <a:avLst/>
            <a:gdLst/>
            <a:ahLst/>
            <a:rect l="l" t="t" r="r" b="b"/>
            <a:pathLst>
              <a:path w="274" h="274">
                <a:moveTo>
                  <a:pt x="8880" y="9922"/>
                </a:moveTo>
                <a:cubicBezTo>
                  <a:pt x="8946" y="9922"/>
                  <a:pt x="9013" y="9922"/>
                  <a:pt x="9079" y="9922"/>
                </a:cubicBezTo>
              </a:path>
              <a:path w="274" h="274">
                <a:moveTo>
                  <a:pt x="8880" y="10195"/>
                </a:moveTo>
                <a:cubicBezTo>
                  <a:pt x="8965" y="10195"/>
                  <a:pt x="9020" y="10182"/>
                  <a:pt x="9103" y="10170"/>
                </a:cubicBezTo>
                <a:cubicBezTo>
                  <a:pt x="9120" y="10170"/>
                  <a:pt x="9136" y="10170"/>
                  <a:pt x="9153" y="101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83000" y="3419640"/>
            <a:ext cx="473040" cy="304560"/>
          </a:xfrm>
          <a:custGeom>
            <a:avLst/>
            <a:gdLst/>
            <a:ahLst/>
            <a:rect l="l" t="t" r="r" b="b"/>
            <a:pathLst>
              <a:path w="1315" h="845">
                <a:moveTo>
                  <a:pt x="9674" y="9525"/>
                </a:moveTo>
                <a:cubicBezTo>
                  <a:pt x="9799" y="9504"/>
                  <a:pt x="9882" y="9485"/>
                  <a:pt x="9996" y="9550"/>
                </a:cubicBezTo>
                <a:cubicBezTo>
                  <a:pt x="10116" y="9618"/>
                  <a:pt x="9997" y="9767"/>
                  <a:pt x="9947" y="9823"/>
                </a:cubicBezTo>
                <a:cubicBezTo>
                  <a:pt x="9901" y="9875"/>
                  <a:pt x="9799" y="9871"/>
                  <a:pt x="9748" y="9897"/>
                </a:cubicBezTo>
                <a:cubicBezTo>
                  <a:pt x="9711" y="9916"/>
                  <a:pt x="9664" y="9937"/>
                  <a:pt x="9723" y="9922"/>
                </a:cubicBezTo>
                <a:cubicBezTo>
                  <a:pt x="9765" y="9911"/>
                  <a:pt x="9856" y="9888"/>
                  <a:pt x="9897" y="9897"/>
                </a:cubicBezTo>
                <a:cubicBezTo>
                  <a:pt x="9945" y="9908"/>
                  <a:pt x="10054" y="9949"/>
                  <a:pt x="10071" y="9996"/>
                </a:cubicBezTo>
                <a:cubicBezTo>
                  <a:pt x="10100" y="10078"/>
                  <a:pt x="10094" y="10169"/>
                  <a:pt x="10046" y="10244"/>
                </a:cubicBezTo>
                <a:cubicBezTo>
                  <a:pt x="10007" y="10304"/>
                  <a:pt x="9938" y="10333"/>
                  <a:pt x="9872" y="10344"/>
                </a:cubicBezTo>
                <a:cubicBezTo>
                  <a:pt x="9819" y="10353"/>
                  <a:pt x="9761" y="10354"/>
                  <a:pt x="9723" y="10319"/>
                </a:cubicBezTo>
                <a:cubicBezTo>
                  <a:pt x="9662" y="10264"/>
                  <a:pt x="9673" y="10213"/>
                  <a:pt x="9723" y="10145"/>
                </a:cubicBezTo>
                <a:cubicBezTo>
                  <a:pt x="9773" y="10096"/>
                  <a:pt x="9790" y="10079"/>
                  <a:pt x="9823" y="10046"/>
                </a:cubicBezTo>
              </a:path>
              <a:path w="1315" h="845">
                <a:moveTo>
                  <a:pt x="10393" y="9773"/>
                </a:moveTo>
                <a:cubicBezTo>
                  <a:pt x="10450" y="9850"/>
                  <a:pt x="10511" y="9920"/>
                  <a:pt x="10567" y="9996"/>
                </a:cubicBezTo>
                <a:cubicBezTo>
                  <a:pt x="10623" y="10072"/>
                  <a:pt x="10674" y="10155"/>
                  <a:pt x="10765" y="10195"/>
                </a:cubicBezTo>
                <a:cubicBezTo>
                  <a:pt x="10877" y="10244"/>
                  <a:pt x="10885" y="10256"/>
                  <a:pt x="10988" y="10195"/>
                </a:cubicBezTo>
              </a:path>
              <a:path w="1315" h="845">
                <a:moveTo>
                  <a:pt x="10716" y="9723"/>
                </a:moveTo>
                <a:cubicBezTo>
                  <a:pt x="10595" y="9837"/>
                  <a:pt x="10464" y="9931"/>
                  <a:pt x="10344" y="10046"/>
                </a:cubicBezTo>
                <a:cubicBezTo>
                  <a:pt x="10319" y="10071"/>
                  <a:pt x="10294" y="10095"/>
                  <a:pt x="10269" y="1012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89080" y="3946680"/>
            <a:ext cx="1795680" cy="376200"/>
          </a:xfrm>
          <a:custGeom>
            <a:avLst/>
            <a:gdLst/>
            <a:ahLst/>
            <a:rect l="l" t="t" r="r" b="b"/>
            <a:pathLst>
              <a:path w="4987" h="1042">
                <a:moveTo>
                  <a:pt x="5904" y="11286"/>
                </a:moveTo>
                <a:cubicBezTo>
                  <a:pt x="5897" y="11265"/>
                  <a:pt x="5859" y="11248"/>
                  <a:pt x="5879" y="11212"/>
                </a:cubicBezTo>
                <a:cubicBezTo>
                  <a:pt x="5906" y="11164"/>
                  <a:pt x="5963" y="11142"/>
                  <a:pt x="6003" y="11112"/>
                </a:cubicBezTo>
                <a:cubicBezTo>
                  <a:pt x="6039" y="11086"/>
                  <a:pt x="6119" y="11061"/>
                  <a:pt x="6152" y="11112"/>
                </a:cubicBezTo>
                <a:cubicBezTo>
                  <a:pt x="6232" y="11236"/>
                  <a:pt x="6234" y="11353"/>
                  <a:pt x="6226" y="11485"/>
                </a:cubicBezTo>
                <a:cubicBezTo>
                  <a:pt x="6219" y="11607"/>
                  <a:pt x="6181" y="11709"/>
                  <a:pt x="6102" y="11807"/>
                </a:cubicBezTo>
                <a:cubicBezTo>
                  <a:pt x="6056" y="11863"/>
                  <a:pt x="5996" y="11902"/>
                  <a:pt x="5928" y="11906"/>
                </a:cubicBezTo>
                <a:cubicBezTo>
                  <a:pt x="5880" y="11909"/>
                  <a:pt x="5827" y="11909"/>
                  <a:pt x="5804" y="11857"/>
                </a:cubicBezTo>
                <a:cubicBezTo>
                  <a:pt x="5786" y="11818"/>
                  <a:pt x="5807" y="11760"/>
                  <a:pt x="5829" y="11733"/>
                </a:cubicBezTo>
                <a:cubicBezTo>
                  <a:pt x="5864" y="11689"/>
                  <a:pt x="5931" y="11657"/>
                  <a:pt x="5978" y="11708"/>
                </a:cubicBezTo>
                <a:cubicBezTo>
                  <a:pt x="6029" y="11762"/>
                  <a:pt x="6088" y="11812"/>
                  <a:pt x="6127" y="11881"/>
                </a:cubicBezTo>
                <a:cubicBezTo>
                  <a:pt x="6150" y="11922"/>
                  <a:pt x="6202" y="11991"/>
                  <a:pt x="6251" y="11981"/>
                </a:cubicBezTo>
                <a:cubicBezTo>
                  <a:pt x="6293" y="11973"/>
                  <a:pt x="6329" y="11908"/>
                  <a:pt x="6350" y="11881"/>
                </a:cubicBezTo>
              </a:path>
              <a:path w="4987" h="1042">
                <a:moveTo>
                  <a:pt x="6648" y="11385"/>
                </a:moveTo>
                <a:cubicBezTo>
                  <a:pt x="6741" y="11512"/>
                  <a:pt x="6811" y="11656"/>
                  <a:pt x="6896" y="11782"/>
                </a:cubicBezTo>
                <a:cubicBezTo>
                  <a:pt x="6935" y="11840"/>
                  <a:pt x="7013" y="11905"/>
                  <a:pt x="7069" y="11931"/>
                </a:cubicBezTo>
                <a:cubicBezTo>
                  <a:pt x="7151" y="11969"/>
                  <a:pt x="7151" y="11957"/>
                  <a:pt x="7193" y="11881"/>
                </a:cubicBezTo>
              </a:path>
              <a:path w="4987" h="1042">
                <a:moveTo>
                  <a:pt x="7020" y="11286"/>
                </a:moveTo>
                <a:cubicBezTo>
                  <a:pt x="6944" y="11399"/>
                  <a:pt x="6891" y="11515"/>
                  <a:pt x="6821" y="11633"/>
                </a:cubicBezTo>
                <a:cubicBezTo>
                  <a:pt x="6773" y="11713"/>
                  <a:pt x="6700" y="11790"/>
                  <a:pt x="6672" y="11881"/>
                </a:cubicBezTo>
                <a:cubicBezTo>
                  <a:pt x="6670" y="11888"/>
                  <a:pt x="6672" y="11974"/>
                  <a:pt x="6672" y="11906"/>
                </a:cubicBezTo>
              </a:path>
              <a:path w="4987" h="1042">
                <a:moveTo>
                  <a:pt x="7268" y="11485"/>
                </a:moveTo>
                <a:cubicBezTo>
                  <a:pt x="7366" y="11502"/>
                  <a:pt x="7467" y="11529"/>
                  <a:pt x="7565" y="11534"/>
                </a:cubicBezTo>
                <a:cubicBezTo>
                  <a:pt x="7617" y="11534"/>
                  <a:pt x="7635" y="11533"/>
                  <a:pt x="7665" y="11509"/>
                </a:cubicBezTo>
              </a:path>
              <a:path w="4987" h="1042">
                <a:moveTo>
                  <a:pt x="7987" y="11261"/>
                </a:moveTo>
                <a:cubicBezTo>
                  <a:pt x="7974" y="11328"/>
                  <a:pt x="7945" y="11417"/>
                  <a:pt x="7938" y="11485"/>
                </a:cubicBezTo>
                <a:cubicBezTo>
                  <a:pt x="7935" y="11515"/>
                  <a:pt x="7982" y="11531"/>
                  <a:pt x="8012" y="11534"/>
                </a:cubicBezTo>
                <a:cubicBezTo>
                  <a:pt x="8084" y="11542"/>
                  <a:pt x="8145" y="11534"/>
                  <a:pt x="8210" y="11509"/>
                </a:cubicBezTo>
              </a:path>
              <a:path w="4987" h="1042">
                <a:moveTo>
                  <a:pt x="8260" y="10964"/>
                </a:moveTo>
                <a:cubicBezTo>
                  <a:pt x="8241" y="11139"/>
                  <a:pt x="8213" y="11311"/>
                  <a:pt x="8210" y="11485"/>
                </a:cubicBezTo>
                <a:cubicBezTo>
                  <a:pt x="8207" y="11621"/>
                  <a:pt x="8215" y="11732"/>
                  <a:pt x="8235" y="11857"/>
                </a:cubicBezTo>
                <a:cubicBezTo>
                  <a:pt x="8246" y="11928"/>
                  <a:pt x="8231" y="11927"/>
                  <a:pt x="8285" y="11981"/>
                </a:cubicBezTo>
              </a:path>
              <a:path w="4987" h="1042">
                <a:moveTo>
                  <a:pt x="8756" y="11435"/>
                </a:moveTo>
                <a:cubicBezTo>
                  <a:pt x="8913" y="11435"/>
                  <a:pt x="8921" y="11435"/>
                  <a:pt x="9004" y="11435"/>
                </a:cubicBezTo>
              </a:path>
              <a:path w="4987" h="1042">
                <a:moveTo>
                  <a:pt x="8731" y="11609"/>
                </a:moveTo>
                <a:cubicBezTo>
                  <a:pt x="8835" y="11631"/>
                  <a:pt x="8902" y="11647"/>
                  <a:pt x="9004" y="11609"/>
                </a:cubicBezTo>
                <a:cubicBezTo>
                  <a:pt x="9021" y="11601"/>
                  <a:pt x="9037" y="11592"/>
                  <a:pt x="9054" y="11584"/>
                </a:cubicBezTo>
              </a:path>
              <a:path w="4987" h="1042">
                <a:moveTo>
                  <a:pt x="9525" y="11063"/>
                </a:moveTo>
                <a:cubicBezTo>
                  <a:pt x="9611" y="11039"/>
                  <a:pt x="9690" y="11015"/>
                  <a:pt x="9773" y="11063"/>
                </a:cubicBezTo>
                <a:cubicBezTo>
                  <a:pt x="9846" y="11105"/>
                  <a:pt x="9830" y="11150"/>
                  <a:pt x="9823" y="11212"/>
                </a:cubicBezTo>
                <a:cubicBezTo>
                  <a:pt x="9814" y="11296"/>
                  <a:pt x="9760" y="11335"/>
                  <a:pt x="9699" y="11385"/>
                </a:cubicBezTo>
                <a:cubicBezTo>
                  <a:pt x="9665" y="11413"/>
                  <a:pt x="9613" y="11447"/>
                  <a:pt x="9575" y="11460"/>
                </a:cubicBezTo>
                <a:cubicBezTo>
                  <a:pt x="9521" y="11478"/>
                  <a:pt x="9630" y="11460"/>
                  <a:pt x="9649" y="11460"/>
                </a:cubicBezTo>
                <a:cubicBezTo>
                  <a:pt x="9749" y="11460"/>
                  <a:pt x="9805" y="11533"/>
                  <a:pt x="9847" y="11609"/>
                </a:cubicBezTo>
                <a:cubicBezTo>
                  <a:pt x="9885" y="11677"/>
                  <a:pt x="9919" y="11751"/>
                  <a:pt x="9897" y="11832"/>
                </a:cubicBezTo>
                <a:cubicBezTo>
                  <a:pt x="9888" y="11866"/>
                  <a:pt x="9833" y="11941"/>
                  <a:pt x="9798" y="11956"/>
                </a:cubicBezTo>
                <a:cubicBezTo>
                  <a:pt x="9759" y="11973"/>
                  <a:pt x="9702" y="11953"/>
                  <a:pt x="9674" y="11931"/>
                </a:cubicBezTo>
                <a:cubicBezTo>
                  <a:pt x="9644" y="11907"/>
                  <a:pt x="9633" y="11891"/>
                  <a:pt x="9624" y="11857"/>
                </a:cubicBezTo>
              </a:path>
              <a:path w="4987" h="1042">
                <a:moveTo>
                  <a:pt x="10220" y="11460"/>
                </a:moveTo>
                <a:cubicBezTo>
                  <a:pt x="10285" y="11552"/>
                  <a:pt x="10338" y="11629"/>
                  <a:pt x="10418" y="11708"/>
                </a:cubicBezTo>
                <a:cubicBezTo>
                  <a:pt x="10490" y="11780"/>
                  <a:pt x="10588" y="11862"/>
                  <a:pt x="10691" y="11881"/>
                </a:cubicBezTo>
                <a:cubicBezTo>
                  <a:pt x="10749" y="11881"/>
                  <a:pt x="10757" y="11881"/>
                  <a:pt x="10790" y="11881"/>
                </a:cubicBezTo>
              </a:path>
              <a:path w="4987" h="1042">
                <a:moveTo>
                  <a:pt x="10740" y="11385"/>
                </a:moveTo>
                <a:cubicBezTo>
                  <a:pt x="10562" y="11497"/>
                  <a:pt x="10481" y="11581"/>
                  <a:pt x="10344" y="11733"/>
                </a:cubicBezTo>
                <a:cubicBezTo>
                  <a:pt x="10258" y="11828"/>
                  <a:pt x="10194" y="11925"/>
                  <a:pt x="10096" y="1200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61040" y="2963880"/>
            <a:ext cx="1206720" cy="750960"/>
          </a:xfrm>
          <a:custGeom>
            <a:avLst/>
            <a:gdLst/>
            <a:ahLst/>
            <a:rect l="l" t="t" r="r" b="b"/>
            <a:pathLst>
              <a:path w="3350" h="2085">
                <a:moveTo>
                  <a:pt x="17115" y="8806"/>
                </a:moveTo>
                <a:cubicBezTo>
                  <a:pt x="17162" y="8852"/>
                  <a:pt x="17185" y="8895"/>
                  <a:pt x="17214" y="8954"/>
                </a:cubicBezTo>
                <a:cubicBezTo>
                  <a:pt x="17257" y="9041"/>
                  <a:pt x="17301" y="9137"/>
                  <a:pt x="17338" y="9227"/>
                </a:cubicBezTo>
                <a:cubicBezTo>
                  <a:pt x="17379" y="9327"/>
                  <a:pt x="17443" y="9437"/>
                  <a:pt x="17512" y="9525"/>
                </a:cubicBezTo>
                <a:cubicBezTo>
                  <a:pt x="17568" y="9597"/>
                  <a:pt x="17602" y="9710"/>
                  <a:pt x="17661" y="9773"/>
                </a:cubicBezTo>
                <a:cubicBezTo>
                  <a:pt x="17685" y="9798"/>
                  <a:pt x="17755" y="9830"/>
                  <a:pt x="17785" y="9847"/>
                </a:cubicBezTo>
                <a:cubicBezTo>
                  <a:pt x="17797" y="9782"/>
                  <a:pt x="17801" y="9788"/>
                  <a:pt x="17785" y="9723"/>
                </a:cubicBezTo>
              </a:path>
              <a:path w="3350" h="2085">
                <a:moveTo>
                  <a:pt x="17611" y="8756"/>
                </a:moveTo>
                <a:cubicBezTo>
                  <a:pt x="17567" y="8907"/>
                  <a:pt x="17532" y="9041"/>
                  <a:pt x="17462" y="9178"/>
                </a:cubicBezTo>
                <a:cubicBezTo>
                  <a:pt x="17404" y="9291"/>
                  <a:pt x="17369" y="9415"/>
                  <a:pt x="17314" y="9525"/>
                </a:cubicBezTo>
                <a:cubicBezTo>
                  <a:pt x="17273" y="9608"/>
                  <a:pt x="17231" y="9689"/>
                  <a:pt x="17190" y="9773"/>
                </a:cubicBezTo>
                <a:cubicBezTo>
                  <a:pt x="17177" y="9799"/>
                  <a:pt x="17092" y="9968"/>
                  <a:pt x="17165" y="9847"/>
                </a:cubicBezTo>
              </a:path>
              <a:path w="3350" h="2085">
                <a:moveTo>
                  <a:pt x="17810" y="8285"/>
                </a:moveTo>
                <a:cubicBezTo>
                  <a:pt x="17849" y="8275"/>
                  <a:pt x="17864" y="8260"/>
                  <a:pt x="17909" y="8260"/>
                </a:cubicBezTo>
                <a:cubicBezTo>
                  <a:pt x="17964" y="8260"/>
                  <a:pt x="17979" y="8272"/>
                  <a:pt x="18033" y="8285"/>
                </a:cubicBezTo>
                <a:cubicBezTo>
                  <a:pt x="18098" y="8301"/>
                  <a:pt x="18095" y="8368"/>
                  <a:pt x="18058" y="8409"/>
                </a:cubicBezTo>
                <a:cubicBezTo>
                  <a:pt x="18023" y="8448"/>
                  <a:pt x="17969" y="8459"/>
                  <a:pt x="17934" y="8483"/>
                </a:cubicBezTo>
                <a:cubicBezTo>
                  <a:pt x="17926" y="8491"/>
                  <a:pt x="17917" y="8500"/>
                  <a:pt x="17909" y="8508"/>
                </a:cubicBezTo>
                <a:cubicBezTo>
                  <a:pt x="17971" y="8508"/>
                  <a:pt x="18029" y="8524"/>
                  <a:pt x="18083" y="8558"/>
                </a:cubicBezTo>
                <a:cubicBezTo>
                  <a:pt x="18128" y="8587"/>
                  <a:pt x="18132" y="8635"/>
                  <a:pt x="18132" y="8682"/>
                </a:cubicBezTo>
                <a:cubicBezTo>
                  <a:pt x="18132" y="8720"/>
                  <a:pt x="18126" y="8747"/>
                  <a:pt x="18083" y="8756"/>
                </a:cubicBezTo>
                <a:cubicBezTo>
                  <a:pt x="18076" y="8757"/>
                  <a:pt x="17872" y="8744"/>
                  <a:pt x="17884" y="8781"/>
                </a:cubicBezTo>
                <a:cubicBezTo>
                  <a:pt x="17912" y="8781"/>
                  <a:pt x="17923" y="8783"/>
                  <a:pt x="17934" y="8806"/>
                </a:cubicBezTo>
              </a:path>
              <a:path w="3350" h="2085">
                <a:moveTo>
                  <a:pt x="18504" y="9277"/>
                </a:moveTo>
                <a:cubicBezTo>
                  <a:pt x="18579" y="9277"/>
                  <a:pt x="18653" y="9277"/>
                  <a:pt x="18728" y="9277"/>
                </a:cubicBezTo>
              </a:path>
              <a:path w="3350" h="2085">
                <a:moveTo>
                  <a:pt x="18604" y="9451"/>
                </a:moveTo>
                <a:lnTo>
                  <a:pt x="18604" y="9451"/>
                </a:lnTo>
              </a:path>
              <a:path w="3350" h="2085">
                <a:moveTo>
                  <a:pt x="19968" y="8235"/>
                </a:moveTo>
                <a:cubicBezTo>
                  <a:pt x="19968" y="8380"/>
                  <a:pt x="19970" y="8519"/>
                  <a:pt x="19993" y="8657"/>
                </a:cubicBezTo>
                <a:cubicBezTo>
                  <a:pt x="20010" y="8759"/>
                  <a:pt x="20008" y="8911"/>
                  <a:pt x="19968" y="9004"/>
                </a:cubicBezTo>
              </a:path>
              <a:path w="3350" h="2085">
                <a:moveTo>
                  <a:pt x="19472" y="9079"/>
                </a:moveTo>
                <a:cubicBezTo>
                  <a:pt x="19658" y="9079"/>
                  <a:pt x="19860" y="9112"/>
                  <a:pt x="20042" y="9103"/>
                </a:cubicBezTo>
                <a:cubicBezTo>
                  <a:pt x="20139" y="9098"/>
                  <a:pt x="20238" y="9079"/>
                  <a:pt x="20340" y="9079"/>
                </a:cubicBezTo>
                <a:cubicBezTo>
                  <a:pt x="20400" y="9079"/>
                  <a:pt x="20414" y="9067"/>
                  <a:pt x="20464" y="9054"/>
                </a:cubicBezTo>
              </a:path>
              <a:path w="3350" h="2085">
                <a:moveTo>
                  <a:pt x="20290" y="9525"/>
                </a:moveTo>
                <a:cubicBezTo>
                  <a:pt x="20275" y="9464"/>
                  <a:pt x="20252" y="9475"/>
                  <a:pt x="20191" y="9475"/>
                </a:cubicBezTo>
                <a:cubicBezTo>
                  <a:pt x="20086" y="9475"/>
                  <a:pt x="19992" y="9480"/>
                  <a:pt x="19893" y="9500"/>
                </a:cubicBezTo>
                <a:cubicBezTo>
                  <a:pt x="19853" y="9508"/>
                  <a:pt x="19822" y="9531"/>
                  <a:pt x="19819" y="9575"/>
                </a:cubicBezTo>
                <a:cubicBezTo>
                  <a:pt x="19815" y="9624"/>
                  <a:pt x="19851" y="9693"/>
                  <a:pt x="19893" y="9723"/>
                </a:cubicBezTo>
                <a:cubicBezTo>
                  <a:pt x="19946" y="9760"/>
                  <a:pt x="20024" y="9823"/>
                  <a:pt x="20067" y="9872"/>
                </a:cubicBezTo>
                <a:cubicBezTo>
                  <a:pt x="20115" y="9927"/>
                  <a:pt x="20133" y="10029"/>
                  <a:pt x="20166" y="10096"/>
                </a:cubicBezTo>
                <a:cubicBezTo>
                  <a:pt x="20196" y="10156"/>
                  <a:pt x="20209" y="10216"/>
                  <a:pt x="20166" y="10269"/>
                </a:cubicBezTo>
                <a:cubicBezTo>
                  <a:pt x="20126" y="10319"/>
                  <a:pt x="20104" y="10319"/>
                  <a:pt x="20042" y="10319"/>
                </a:cubicBezTo>
                <a:cubicBezTo>
                  <a:pt x="19985" y="10319"/>
                  <a:pt x="19937" y="10330"/>
                  <a:pt x="19893" y="10294"/>
                </a:cubicBezTo>
                <a:cubicBezTo>
                  <a:pt x="19870" y="10275"/>
                  <a:pt x="19815" y="10240"/>
                  <a:pt x="19819" y="10220"/>
                </a:cubicBezTo>
                <a:cubicBezTo>
                  <a:pt x="19841" y="10122"/>
                  <a:pt x="19890" y="10121"/>
                  <a:pt x="19943" y="10046"/>
                </a:cubicBezTo>
                <a:cubicBezTo>
                  <a:pt x="19987" y="9984"/>
                  <a:pt x="20030" y="9913"/>
                  <a:pt x="20067" y="9847"/>
                </a:cubicBezTo>
                <a:cubicBezTo>
                  <a:pt x="20106" y="9777"/>
                  <a:pt x="20153" y="9718"/>
                  <a:pt x="20191" y="9649"/>
                </a:cubicBezTo>
                <a:cubicBezTo>
                  <a:pt x="20227" y="9585"/>
                  <a:pt x="20260" y="9534"/>
                  <a:pt x="20216" y="9475"/>
                </a:cubicBezTo>
              </a:path>
              <a:path w="3350" h="2085">
                <a:moveTo>
                  <a:pt x="18430" y="9426"/>
                </a:moveTo>
                <a:cubicBezTo>
                  <a:pt x="18493" y="9426"/>
                  <a:pt x="18520" y="9446"/>
                  <a:pt x="18579" y="9451"/>
                </a:cubicBezTo>
                <a:cubicBezTo>
                  <a:pt x="18641" y="9456"/>
                  <a:pt x="18694" y="9466"/>
                  <a:pt x="18752" y="9475"/>
                </a:cubicBezTo>
                <a:cubicBezTo>
                  <a:pt x="18834" y="9488"/>
                  <a:pt x="18903" y="9475"/>
                  <a:pt x="18976" y="9500"/>
                </a:cubicBezTo>
                <a:cubicBezTo>
                  <a:pt x="18984" y="9500"/>
                  <a:pt x="18992" y="9500"/>
                  <a:pt x="19000" y="950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03240" y="4411800"/>
            <a:ext cx="723960" cy="231480"/>
          </a:xfrm>
          <a:custGeom>
            <a:avLst/>
            <a:gdLst/>
            <a:ahLst/>
            <a:rect l="l" t="t" r="r" b="b"/>
            <a:pathLst>
              <a:path w="2010" h="645">
                <a:moveTo>
                  <a:pt x="5011" y="12427"/>
                </a:moveTo>
                <a:cubicBezTo>
                  <a:pt x="5094" y="12427"/>
                  <a:pt x="5161" y="12435"/>
                  <a:pt x="5234" y="12427"/>
                </a:cubicBezTo>
                <a:cubicBezTo>
                  <a:pt x="5290" y="12421"/>
                  <a:pt x="5350" y="12427"/>
                  <a:pt x="5407" y="12427"/>
                </a:cubicBezTo>
              </a:path>
              <a:path w="2010" h="645">
                <a:moveTo>
                  <a:pt x="5804" y="12254"/>
                </a:moveTo>
                <a:cubicBezTo>
                  <a:pt x="5902" y="12268"/>
                  <a:pt x="6075" y="12251"/>
                  <a:pt x="6052" y="12402"/>
                </a:cubicBezTo>
                <a:cubicBezTo>
                  <a:pt x="6040" y="12485"/>
                  <a:pt x="5993" y="12551"/>
                  <a:pt x="5953" y="12626"/>
                </a:cubicBezTo>
                <a:cubicBezTo>
                  <a:pt x="5914" y="12699"/>
                  <a:pt x="5879" y="12686"/>
                  <a:pt x="5879" y="12774"/>
                </a:cubicBezTo>
                <a:cubicBezTo>
                  <a:pt x="5879" y="12834"/>
                  <a:pt x="5930" y="12846"/>
                  <a:pt x="5978" y="12849"/>
                </a:cubicBezTo>
                <a:cubicBezTo>
                  <a:pt x="6070" y="12854"/>
                  <a:pt x="6121" y="12840"/>
                  <a:pt x="6201" y="12799"/>
                </a:cubicBezTo>
              </a:path>
              <a:path w="2010" h="645">
                <a:moveTo>
                  <a:pt x="6499" y="12452"/>
                </a:moveTo>
                <a:cubicBezTo>
                  <a:pt x="6564" y="12558"/>
                  <a:pt x="6626" y="12691"/>
                  <a:pt x="6722" y="12774"/>
                </a:cubicBezTo>
                <a:cubicBezTo>
                  <a:pt x="6787" y="12830"/>
                  <a:pt x="6881" y="12892"/>
                  <a:pt x="6970" y="12898"/>
                </a:cubicBezTo>
                <a:cubicBezTo>
                  <a:pt x="6987" y="12898"/>
                  <a:pt x="7003" y="12898"/>
                  <a:pt x="7020" y="12898"/>
                </a:cubicBezTo>
              </a:path>
              <a:path w="2010" h="645">
                <a:moveTo>
                  <a:pt x="6896" y="12427"/>
                </a:moveTo>
                <a:cubicBezTo>
                  <a:pt x="6817" y="12537"/>
                  <a:pt x="6733" y="12648"/>
                  <a:pt x="6648" y="12750"/>
                </a:cubicBezTo>
                <a:cubicBezTo>
                  <a:pt x="6595" y="12813"/>
                  <a:pt x="6558" y="12859"/>
                  <a:pt x="6648" y="128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67080" y="4394160"/>
            <a:ext cx="606600" cy="266760"/>
          </a:xfrm>
          <a:custGeom>
            <a:avLst/>
            <a:gdLst/>
            <a:ahLst/>
            <a:rect l="l" t="t" r="r" b="b"/>
            <a:pathLst>
              <a:path w="1688" h="745">
                <a:moveTo>
                  <a:pt x="9351" y="12477"/>
                </a:moveTo>
                <a:cubicBezTo>
                  <a:pt x="9446" y="12477"/>
                  <a:pt x="9512" y="12485"/>
                  <a:pt x="9599" y="12477"/>
                </a:cubicBezTo>
                <a:cubicBezTo>
                  <a:pt x="9616" y="12477"/>
                  <a:pt x="9632" y="12477"/>
                  <a:pt x="9649" y="12477"/>
                </a:cubicBezTo>
              </a:path>
              <a:path w="1688" h="745">
                <a:moveTo>
                  <a:pt x="9971" y="12204"/>
                </a:moveTo>
                <a:cubicBezTo>
                  <a:pt x="10082" y="12211"/>
                  <a:pt x="10170" y="12206"/>
                  <a:pt x="10244" y="12303"/>
                </a:cubicBezTo>
                <a:cubicBezTo>
                  <a:pt x="10299" y="12375"/>
                  <a:pt x="10219" y="12451"/>
                  <a:pt x="10170" y="12502"/>
                </a:cubicBezTo>
                <a:cubicBezTo>
                  <a:pt x="10116" y="12558"/>
                  <a:pt x="10052" y="12595"/>
                  <a:pt x="9996" y="12650"/>
                </a:cubicBezTo>
                <a:cubicBezTo>
                  <a:pt x="9964" y="12682"/>
                  <a:pt x="9955" y="12737"/>
                  <a:pt x="9996" y="12774"/>
                </a:cubicBezTo>
                <a:cubicBezTo>
                  <a:pt x="10047" y="12821"/>
                  <a:pt x="10180" y="12821"/>
                  <a:pt x="10244" y="12824"/>
                </a:cubicBezTo>
                <a:cubicBezTo>
                  <a:pt x="10302" y="12824"/>
                  <a:pt x="10327" y="12824"/>
                  <a:pt x="10368" y="12824"/>
                </a:cubicBezTo>
              </a:path>
              <a:path w="1688" h="745">
                <a:moveTo>
                  <a:pt x="10592" y="12477"/>
                </a:moveTo>
                <a:cubicBezTo>
                  <a:pt x="10663" y="12548"/>
                  <a:pt x="10730" y="12621"/>
                  <a:pt x="10790" y="12700"/>
                </a:cubicBezTo>
                <a:cubicBezTo>
                  <a:pt x="10853" y="12783"/>
                  <a:pt x="10907" y="12834"/>
                  <a:pt x="11013" y="12849"/>
                </a:cubicBezTo>
                <a:cubicBezTo>
                  <a:pt x="11021" y="12849"/>
                  <a:pt x="11030" y="12849"/>
                  <a:pt x="11038" y="12849"/>
                </a:cubicBezTo>
              </a:path>
              <a:path w="1688" h="745">
                <a:moveTo>
                  <a:pt x="10889" y="12576"/>
                </a:moveTo>
                <a:cubicBezTo>
                  <a:pt x="10727" y="12701"/>
                  <a:pt x="10588" y="12803"/>
                  <a:pt x="10443" y="129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14760" y="4929120"/>
            <a:ext cx="973080" cy="384120"/>
          </a:xfrm>
          <a:custGeom>
            <a:avLst/>
            <a:gdLst/>
            <a:ahLst/>
            <a:rect l="l" t="t" r="r" b="b"/>
            <a:pathLst>
              <a:path w="2704" h="1068">
                <a:moveTo>
                  <a:pt x="7541" y="14089"/>
                </a:moveTo>
                <a:cubicBezTo>
                  <a:pt x="7618" y="14141"/>
                  <a:pt x="7672" y="14139"/>
                  <a:pt x="7764" y="14139"/>
                </a:cubicBezTo>
                <a:cubicBezTo>
                  <a:pt x="7862" y="14139"/>
                  <a:pt x="7927" y="14107"/>
                  <a:pt x="8012" y="14064"/>
                </a:cubicBezTo>
                <a:cubicBezTo>
                  <a:pt x="8078" y="14031"/>
                  <a:pt x="8099" y="14000"/>
                  <a:pt x="8136" y="13940"/>
                </a:cubicBezTo>
              </a:path>
              <a:path w="2704" h="1068">
                <a:moveTo>
                  <a:pt x="8285" y="13866"/>
                </a:moveTo>
                <a:cubicBezTo>
                  <a:pt x="8246" y="13989"/>
                  <a:pt x="8201" y="14038"/>
                  <a:pt x="8285" y="14139"/>
                </a:cubicBezTo>
                <a:cubicBezTo>
                  <a:pt x="8338" y="14202"/>
                  <a:pt x="8409" y="14188"/>
                  <a:pt x="8483" y="14188"/>
                </a:cubicBezTo>
                <a:cubicBezTo>
                  <a:pt x="8585" y="14188"/>
                  <a:pt x="8609" y="14186"/>
                  <a:pt x="8682" y="14114"/>
                </a:cubicBezTo>
              </a:path>
              <a:path w="2704" h="1068">
                <a:moveTo>
                  <a:pt x="8632" y="13692"/>
                </a:moveTo>
                <a:cubicBezTo>
                  <a:pt x="8598" y="13884"/>
                  <a:pt x="8563" y="14068"/>
                  <a:pt x="8558" y="14263"/>
                </a:cubicBezTo>
                <a:cubicBezTo>
                  <a:pt x="8555" y="14359"/>
                  <a:pt x="8553" y="14469"/>
                  <a:pt x="8582" y="14560"/>
                </a:cubicBezTo>
                <a:cubicBezTo>
                  <a:pt x="8596" y="14605"/>
                  <a:pt x="8622" y="14620"/>
                  <a:pt x="8632" y="14660"/>
                </a:cubicBezTo>
              </a:path>
              <a:path w="2704" h="1068">
                <a:moveTo>
                  <a:pt x="8930" y="14288"/>
                </a:moveTo>
                <a:cubicBezTo>
                  <a:pt x="9023" y="14271"/>
                  <a:pt x="9113" y="14245"/>
                  <a:pt x="9203" y="14238"/>
                </a:cubicBezTo>
                <a:cubicBezTo>
                  <a:pt x="9211" y="14238"/>
                  <a:pt x="9219" y="14238"/>
                  <a:pt x="9227" y="14238"/>
                </a:cubicBezTo>
              </a:path>
              <a:path w="2704" h="1068">
                <a:moveTo>
                  <a:pt x="8979" y="14486"/>
                </a:moveTo>
                <a:cubicBezTo>
                  <a:pt x="9097" y="14500"/>
                  <a:pt x="9160" y="14495"/>
                  <a:pt x="9277" y="14461"/>
                </a:cubicBezTo>
              </a:path>
              <a:path w="2704" h="1068">
                <a:moveTo>
                  <a:pt x="9599" y="14064"/>
                </a:moveTo>
                <a:cubicBezTo>
                  <a:pt x="9713" y="14275"/>
                  <a:pt x="9804" y="14486"/>
                  <a:pt x="9996" y="14635"/>
                </a:cubicBezTo>
                <a:cubicBezTo>
                  <a:pt x="10084" y="14703"/>
                  <a:pt x="10142" y="14725"/>
                  <a:pt x="10244" y="14759"/>
                </a:cubicBezTo>
              </a:path>
              <a:path w="2704" h="1068">
                <a:moveTo>
                  <a:pt x="9971" y="14139"/>
                </a:moveTo>
                <a:cubicBezTo>
                  <a:pt x="9777" y="14376"/>
                  <a:pt x="9730" y="14429"/>
                  <a:pt x="9624" y="145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90960" y="5616720"/>
            <a:ext cx="27000" cy="80640"/>
          </a:xfrm>
          <a:custGeom>
            <a:avLst/>
            <a:gdLst/>
            <a:ahLst/>
            <a:rect l="l" t="t" r="r" b="b"/>
            <a:pathLst>
              <a:path w="75" h="224">
                <a:moveTo>
                  <a:pt x="11088" y="15602"/>
                </a:moveTo>
                <a:cubicBezTo>
                  <a:pt x="11110" y="15700"/>
                  <a:pt x="11120" y="15742"/>
                  <a:pt x="11162" y="158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97760" y="3938760"/>
            <a:ext cx="438120" cy="320400"/>
          </a:xfrm>
          <a:custGeom>
            <a:avLst/>
            <a:gdLst/>
            <a:ahLst/>
            <a:rect l="l" t="t" r="r" b="b"/>
            <a:pathLst>
              <a:path w="1217" h="894">
                <a:moveTo>
                  <a:pt x="17363" y="11063"/>
                </a:moveTo>
                <a:cubicBezTo>
                  <a:pt x="17414" y="11114"/>
                  <a:pt x="17409" y="11146"/>
                  <a:pt x="17438" y="11212"/>
                </a:cubicBezTo>
                <a:cubicBezTo>
                  <a:pt x="17467" y="11277"/>
                  <a:pt x="17499" y="11378"/>
                  <a:pt x="17537" y="11435"/>
                </a:cubicBezTo>
                <a:cubicBezTo>
                  <a:pt x="17585" y="11507"/>
                  <a:pt x="17637" y="11590"/>
                  <a:pt x="17686" y="11658"/>
                </a:cubicBezTo>
                <a:cubicBezTo>
                  <a:pt x="17728" y="11717"/>
                  <a:pt x="17799" y="11771"/>
                  <a:pt x="17859" y="11807"/>
                </a:cubicBezTo>
                <a:cubicBezTo>
                  <a:pt x="17900" y="11827"/>
                  <a:pt x="17906" y="11836"/>
                  <a:pt x="17934" y="11832"/>
                </a:cubicBezTo>
              </a:path>
              <a:path w="1217" h="894">
                <a:moveTo>
                  <a:pt x="17661" y="10939"/>
                </a:moveTo>
                <a:cubicBezTo>
                  <a:pt x="17612" y="11073"/>
                  <a:pt x="17561" y="11185"/>
                  <a:pt x="17487" y="11311"/>
                </a:cubicBezTo>
                <a:cubicBezTo>
                  <a:pt x="17432" y="11404"/>
                  <a:pt x="17364" y="11488"/>
                  <a:pt x="17314" y="11584"/>
                </a:cubicBezTo>
                <a:cubicBezTo>
                  <a:pt x="17284" y="11640"/>
                  <a:pt x="17249" y="11687"/>
                  <a:pt x="17214" y="11733"/>
                </a:cubicBezTo>
              </a:path>
              <a:path w="1217" h="894">
                <a:moveTo>
                  <a:pt x="18132" y="11385"/>
                </a:moveTo>
                <a:cubicBezTo>
                  <a:pt x="18231" y="11385"/>
                  <a:pt x="18331" y="11385"/>
                  <a:pt x="18430" y="11385"/>
                </a:cubicBezTo>
              </a:path>
              <a:path w="1217" h="894">
                <a:moveTo>
                  <a:pt x="18207" y="11609"/>
                </a:moveTo>
                <a:cubicBezTo>
                  <a:pt x="18273" y="11609"/>
                  <a:pt x="18339" y="11609"/>
                  <a:pt x="18405" y="116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956280" y="3990960"/>
            <a:ext cx="446400" cy="662040"/>
          </a:xfrm>
          <a:custGeom>
            <a:avLst/>
            <a:gdLst/>
            <a:ahLst/>
            <a:rect l="l" t="t" r="r" b="b"/>
            <a:pathLst>
              <a:path w="1241" h="1836">
                <a:moveTo>
                  <a:pt x="19323" y="11881"/>
                </a:moveTo>
                <a:cubicBezTo>
                  <a:pt x="19370" y="11881"/>
                  <a:pt x="19386" y="11898"/>
                  <a:pt x="19422" y="11906"/>
                </a:cubicBezTo>
                <a:cubicBezTo>
                  <a:pt x="19543" y="11932"/>
                  <a:pt x="19697" y="11919"/>
                  <a:pt x="19819" y="11931"/>
                </a:cubicBezTo>
                <a:cubicBezTo>
                  <a:pt x="20023" y="11950"/>
                  <a:pt x="20251" y="11900"/>
                  <a:pt x="20439" y="11956"/>
                </a:cubicBezTo>
                <a:cubicBezTo>
                  <a:pt x="20464" y="11956"/>
                  <a:pt x="20472" y="11956"/>
                  <a:pt x="20489" y="11956"/>
                </a:cubicBezTo>
                <a:cubicBezTo>
                  <a:pt x="20521" y="11972"/>
                  <a:pt x="20453" y="11981"/>
                  <a:pt x="20489" y="11981"/>
                </a:cubicBezTo>
                <a:cubicBezTo>
                  <a:pt x="20513" y="11981"/>
                  <a:pt x="20521" y="11981"/>
                  <a:pt x="20489" y="11981"/>
                </a:cubicBezTo>
              </a:path>
              <a:path w="1241" h="1836">
                <a:moveTo>
                  <a:pt x="19769" y="11112"/>
                </a:moveTo>
                <a:cubicBezTo>
                  <a:pt x="19769" y="11052"/>
                  <a:pt x="19769" y="11167"/>
                  <a:pt x="19769" y="11187"/>
                </a:cubicBezTo>
                <a:cubicBezTo>
                  <a:pt x="19769" y="11391"/>
                  <a:pt x="19733" y="11648"/>
                  <a:pt x="19794" y="11832"/>
                </a:cubicBezTo>
                <a:cubicBezTo>
                  <a:pt x="19794" y="11857"/>
                  <a:pt x="19794" y="11865"/>
                  <a:pt x="19794" y="11832"/>
                </a:cubicBezTo>
              </a:path>
              <a:path w="1241" h="1836">
                <a:moveTo>
                  <a:pt x="19769" y="12278"/>
                </a:moveTo>
                <a:cubicBezTo>
                  <a:pt x="19807" y="12266"/>
                  <a:pt x="19798" y="12257"/>
                  <a:pt x="19819" y="12229"/>
                </a:cubicBezTo>
                <a:cubicBezTo>
                  <a:pt x="19856" y="12179"/>
                  <a:pt x="19926" y="12197"/>
                  <a:pt x="19968" y="12204"/>
                </a:cubicBezTo>
                <a:cubicBezTo>
                  <a:pt x="20021" y="12213"/>
                  <a:pt x="20047" y="12215"/>
                  <a:pt x="20092" y="12254"/>
                </a:cubicBezTo>
                <a:cubicBezTo>
                  <a:pt x="20164" y="12318"/>
                  <a:pt x="20141" y="12415"/>
                  <a:pt x="20141" y="12502"/>
                </a:cubicBezTo>
                <a:cubicBezTo>
                  <a:pt x="20141" y="12578"/>
                  <a:pt x="20137" y="12634"/>
                  <a:pt x="20092" y="12700"/>
                </a:cubicBezTo>
                <a:cubicBezTo>
                  <a:pt x="20041" y="12774"/>
                  <a:pt x="20014" y="12822"/>
                  <a:pt x="19943" y="12874"/>
                </a:cubicBezTo>
                <a:cubicBezTo>
                  <a:pt x="19898" y="12907"/>
                  <a:pt x="19875" y="12923"/>
                  <a:pt x="19819" y="12923"/>
                </a:cubicBezTo>
                <a:cubicBezTo>
                  <a:pt x="19776" y="12923"/>
                  <a:pt x="19749" y="12888"/>
                  <a:pt x="19745" y="12849"/>
                </a:cubicBezTo>
                <a:cubicBezTo>
                  <a:pt x="19740" y="12805"/>
                  <a:pt x="19775" y="12788"/>
                  <a:pt x="19794" y="12774"/>
                </a:cubicBezTo>
                <a:cubicBezTo>
                  <a:pt x="19821" y="12755"/>
                  <a:pt x="19850" y="12701"/>
                  <a:pt x="19893" y="12725"/>
                </a:cubicBezTo>
                <a:cubicBezTo>
                  <a:pt x="19945" y="12754"/>
                  <a:pt x="20012" y="12768"/>
                  <a:pt x="20067" y="12799"/>
                </a:cubicBezTo>
                <a:cubicBezTo>
                  <a:pt x="20124" y="12831"/>
                  <a:pt x="20177" y="12873"/>
                  <a:pt x="20241" y="12898"/>
                </a:cubicBezTo>
                <a:cubicBezTo>
                  <a:pt x="20308" y="12924"/>
                  <a:pt x="20417" y="12940"/>
                  <a:pt x="20489" y="12923"/>
                </a:cubicBezTo>
                <a:cubicBezTo>
                  <a:pt x="20532" y="12901"/>
                  <a:pt x="20543" y="12897"/>
                  <a:pt x="20563" y="128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52360" y="2768760"/>
            <a:ext cx="204840" cy="517320"/>
          </a:xfrm>
          <a:custGeom>
            <a:avLst/>
            <a:gdLst/>
            <a:ahLst/>
            <a:rect l="l" t="t" r="r" b="b"/>
            <a:pathLst>
              <a:path w="571" h="1440">
                <a:moveTo>
                  <a:pt x="3473" y="7838"/>
                </a:moveTo>
                <a:cubicBezTo>
                  <a:pt x="3451" y="7897"/>
                  <a:pt x="3460" y="7965"/>
                  <a:pt x="3423" y="8012"/>
                </a:cubicBezTo>
                <a:cubicBezTo>
                  <a:pt x="3423" y="8037"/>
                  <a:pt x="3423" y="8045"/>
                  <a:pt x="3398" y="8037"/>
                </a:cubicBezTo>
                <a:cubicBezTo>
                  <a:pt x="3403" y="7998"/>
                  <a:pt x="3417" y="7968"/>
                  <a:pt x="3423" y="7938"/>
                </a:cubicBezTo>
                <a:cubicBezTo>
                  <a:pt x="3435" y="7877"/>
                  <a:pt x="3451" y="7840"/>
                  <a:pt x="3497" y="7789"/>
                </a:cubicBezTo>
                <a:cubicBezTo>
                  <a:pt x="3538" y="7743"/>
                  <a:pt x="3547" y="7689"/>
                  <a:pt x="3621" y="7689"/>
                </a:cubicBezTo>
                <a:cubicBezTo>
                  <a:pt x="3679" y="7689"/>
                  <a:pt x="3737" y="7793"/>
                  <a:pt x="3746" y="7838"/>
                </a:cubicBezTo>
                <a:cubicBezTo>
                  <a:pt x="3768" y="7945"/>
                  <a:pt x="3770" y="8050"/>
                  <a:pt x="3770" y="8161"/>
                </a:cubicBezTo>
                <a:cubicBezTo>
                  <a:pt x="3770" y="8298"/>
                  <a:pt x="3783" y="8476"/>
                  <a:pt x="3746" y="8607"/>
                </a:cubicBezTo>
                <a:cubicBezTo>
                  <a:pt x="3717" y="8709"/>
                  <a:pt x="3648" y="8838"/>
                  <a:pt x="3597" y="8930"/>
                </a:cubicBezTo>
                <a:cubicBezTo>
                  <a:pt x="3533" y="9046"/>
                  <a:pt x="3480" y="9067"/>
                  <a:pt x="3373" y="9103"/>
                </a:cubicBezTo>
                <a:cubicBezTo>
                  <a:pt x="3318" y="9122"/>
                  <a:pt x="3269" y="9116"/>
                  <a:pt x="3225" y="9054"/>
                </a:cubicBezTo>
                <a:cubicBezTo>
                  <a:pt x="3177" y="8987"/>
                  <a:pt x="3196" y="8899"/>
                  <a:pt x="3225" y="8830"/>
                </a:cubicBezTo>
                <a:cubicBezTo>
                  <a:pt x="3258" y="8751"/>
                  <a:pt x="3309" y="8677"/>
                  <a:pt x="3398" y="8657"/>
                </a:cubicBezTo>
                <a:cubicBezTo>
                  <a:pt x="3464" y="8642"/>
                  <a:pt x="3522" y="8751"/>
                  <a:pt x="3547" y="8806"/>
                </a:cubicBezTo>
                <a:cubicBezTo>
                  <a:pt x="3595" y="8911"/>
                  <a:pt x="3597" y="8951"/>
                  <a:pt x="3597" y="9054"/>
                </a:cubicBezTo>
                <a:cubicBezTo>
                  <a:pt x="3588" y="9031"/>
                  <a:pt x="3559" y="8966"/>
                  <a:pt x="3572" y="8905"/>
                </a:cubicBezTo>
                <a:cubicBezTo>
                  <a:pt x="3599" y="8823"/>
                  <a:pt x="3610" y="8790"/>
                  <a:pt x="3621" y="87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00120" y="2446200"/>
            <a:ext cx="652680" cy="804960"/>
          </a:xfrm>
          <a:custGeom>
            <a:avLst/>
            <a:gdLst/>
            <a:ahLst/>
            <a:rect l="l" t="t" r="r" b="b"/>
            <a:pathLst>
              <a:path w="1812" h="2234">
                <a:moveTo>
                  <a:pt x="4192" y="7169"/>
                </a:moveTo>
                <a:cubicBezTo>
                  <a:pt x="4185" y="7228"/>
                  <a:pt x="4167" y="7282"/>
                  <a:pt x="4167" y="7342"/>
                </a:cubicBezTo>
                <a:cubicBezTo>
                  <a:pt x="4167" y="7384"/>
                  <a:pt x="4203" y="7414"/>
                  <a:pt x="4242" y="7417"/>
                </a:cubicBezTo>
                <a:cubicBezTo>
                  <a:pt x="4306" y="7422"/>
                  <a:pt x="4339" y="7406"/>
                  <a:pt x="4390" y="7367"/>
                </a:cubicBezTo>
                <a:cubicBezTo>
                  <a:pt x="4428" y="7338"/>
                  <a:pt x="4444" y="7284"/>
                  <a:pt x="4465" y="7243"/>
                </a:cubicBezTo>
              </a:path>
              <a:path w="1812" h="2234">
                <a:moveTo>
                  <a:pt x="4465" y="6796"/>
                </a:moveTo>
                <a:cubicBezTo>
                  <a:pt x="4465" y="6949"/>
                  <a:pt x="4478" y="7091"/>
                  <a:pt x="4490" y="7243"/>
                </a:cubicBezTo>
                <a:cubicBezTo>
                  <a:pt x="4501" y="7382"/>
                  <a:pt x="4490" y="7525"/>
                  <a:pt x="4490" y="7665"/>
                </a:cubicBezTo>
              </a:path>
              <a:path w="1812" h="2234">
                <a:moveTo>
                  <a:pt x="4787" y="7938"/>
                </a:moveTo>
                <a:cubicBezTo>
                  <a:pt x="4874" y="7946"/>
                  <a:pt x="4882" y="7943"/>
                  <a:pt x="4961" y="7938"/>
                </a:cubicBezTo>
                <a:cubicBezTo>
                  <a:pt x="5022" y="7934"/>
                  <a:pt x="5029" y="7939"/>
                  <a:pt x="5085" y="7962"/>
                </a:cubicBezTo>
              </a:path>
              <a:path w="1812" h="2234">
                <a:moveTo>
                  <a:pt x="4762" y="8186"/>
                </a:moveTo>
                <a:cubicBezTo>
                  <a:pt x="4864" y="8213"/>
                  <a:pt x="4891" y="8201"/>
                  <a:pt x="4986" y="8186"/>
                </a:cubicBezTo>
                <a:cubicBezTo>
                  <a:pt x="5002" y="8186"/>
                  <a:pt x="5019" y="8186"/>
                  <a:pt x="5035" y="8186"/>
                </a:cubicBezTo>
              </a:path>
              <a:path w="1812" h="2234">
                <a:moveTo>
                  <a:pt x="5631" y="7714"/>
                </a:moveTo>
                <a:cubicBezTo>
                  <a:pt x="5721" y="7624"/>
                  <a:pt x="5754" y="7539"/>
                  <a:pt x="5904" y="7615"/>
                </a:cubicBezTo>
                <a:cubicBezTo>
                  <a:pt x="5974" y="7650"/>
                  <a:pt x="5984" y="7856"/>
                  <a:pt x="5978" y="7913"/>
                </a:cubicBezTo>
                <a:cubicBezTo>
                  <a:pt x="5963" y="8047"/>
                  <a:pt x="5952" y="8206"/>
                  <a:pt x="5904" y="8334"/>
                </a:cubicBezTo>
                <a:cubicBezTo>
                  <a:pt x="5858" y="8456"/>
                  <a:pt x="5786" y="8604"/>
                  <a:pt x="5705" y="8706"/>
                </a:cubicBezTo>
                <a:cubicBezTo>
                  <a:pt x="5638" y="8791"/>
                  <a:pt x="5563" y="8792"/>
                  <a:pt x="5482" y="8830"/>
                </a:cubicBezTo>
                <a:cubicBezTo>
                  <a:pt x="5423" y="8857"/>
                  <a:pt x="5406" y="8829"/>
                  <a:pt x="5358" y="8781"/>
                </a:cubicBezTo>
                <a:cubicBezTo>
                  <a:pt x="5324" y="8747"/>
                  <a:pt x="5370" y="8642"/>
                  <a:pt x="5407" y="8607"/>
                </a:cubicBezTo>
                <a:cubicBezTo>
                  <a:pt x="5462" y="8555"/>
                  <a:pt x="5543" y="8544"/>
                  <a:pt x="5606" y="8582"/>
                </a:cubicBezTo>
                <a:cubicBezTo>
                  <a:pt x="5653" y="8611"/>
                  <a:pt x="5731" y="8709"/>
                  <a:pt x="5755" y="8756"/>
                </a:cubicBezTo>
                <a:cubicBezTo>
                  <a:pt x="5791" y="8826"/>
                  <a:pt x="5799" y="8894"/>
                  <a:pt x="5854" y="8954"/>
                </a:cubicBezTo>
                <a:cubicBezTo>
                  <a:pt x="5887" y="8990"/>
                  <a:pt x="5892" y="9003"/>
                  <a:pt x="5928" y="902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68360" y="2490840"/>
            <a:ext cx="687600" cy="268200"/>
          </a:xfrm>
          <a:custGeom>
            <a:avLst/>
            <a:gdLst/>
            <a:ahLst/>
            <a:rect l="l" t="t" r="r" b="b"/>
            <a:pathLst>
              <a:path w="1911" h="745">
                <a:moveTo>
                  <a:pt x="6300" y="7094"/>
                </a:moveTo>
                <a:cubicBezTo>
                  <a:pt x="6428" y="7094"/>
                  <a:pt x="6551" y="7097"/>
                  <a:pt x="6672" y="7069"/>
                </a:cubicBezTo>
                <a:cubicBezTo>
                  <a:pt x="6694" y="7064"/>
                  <a:pt x="6725" y="7069"/>
                  <a:pt x="6747" y="7069"/>
                </a:cubicBezTo>
                <a:cubicBezTo>
                  <a:pt x="6700" y="7128"/>
                  <a:pt x="6661" y="7202"/>
                  <a:pt x="6623" y="7268"/>
                </a:cubicBezTo>
                <a:cubicBezTo>
                  <a:pt x="6581" y="7342"/>
                  <a:pt x="6561" y="7437"/>
                  <a:pt x="6548" y="7516"/>
                </a:cubicBezTo>
                <a:cubicBezTo>
                  <a:pt x="6545" y="7535"/>
                  <a:pt x="6556" y="7668"/>
                  <a:pt x="6573" y="7665"/>
                </a:cubicBezTo>
                <a:cubicBezTo>
                  <a:pt x="6596" y="7642"/>
                  <a:pt x="6604" y="7638"/>
                  <a:pt x="6598" y="7615"/>
                </a:cubicBezTo>
              </a:path>
              <a:path w="1911" h="745">
                <a:moveTo>
                  <a:pt x="6921" y="7119"/>
                </a:moveTo>
                <a:cubicBezTo>
                  <a:pt x="6977" y="7264"/>
                  <a:pt x="6993" y="7327"/>
                  <a:pt x="7069" y="7441"/>
                </a:cubicBezTo>
                <a:cubicBezTo>
                  <a:pt x="7115" y="7510"/>
                  <a:pt x="7115" y="7542"/>
                  <a:pt x="7193" y="7565"/>
                </a:cubicBezTo>
                <a:cubicBezTo>
                  <a:pt x="7227" y="7575"/>
                  <a:pt x="7248" y="7536"/>
                  <a:pt x="7268" y="7516"/>
                </a:cubicBezTo>
              </a:path>
              <a:path w="1911" h="745">
                <a:moveTo>
                  <a:pt x="7144" y="7119"/>
                </a:moveTo>
                <a:cubicBezTo>
                  <a:pt x="7047" y="7223"/>
                  <a:pt x="6964" y="7334"/>
                  <a:pt x="6871" y="7441"/>
                </a:cubicBezTo>
                <a:cubicBezTo>
                  <a:pt x="6823" y="7496"/>
                  <a:pt x="6796" y="7518"/>
                  <a:pt x="6796" y="7590"/>
                </a:cubicBezTo>
                <a:cubicBezTo>
                  <a:pt x="6796" y="7634"/>
                  <a:pt x="6840" y="7583"/>
                  <a:pt x="6871" y="7565"/>
                </a:cubicBezTo>
              </a:path>
              <a:path w="1911" h="745">
                <a:moveTo>
                  <a:pt x="7367" y="7243"/>
                </a:moveTo>
                <a:cubicBezTo>
                  <a:pt x="7457" y="7227"/>
                  <a:pt x="7530" y="7216"/>
                  <a:pt x="7615" y="7193"/>
                </a:cubicBezTo>
              </a:path>
              <a:path w="1911" h="745">
                <a:moveTo>
                  <a:pt x="7913" y="6945"/>
                </a:moveTo>
                <a:cubicBezTo>
                  <a:pt x="7997" y="6945"/>
                  <a:pt x="8059" y="6949"/>
                  <a:pt x="8136" y="6921"/>
                </a:cubicBezTo>
              </a:path>
              <a:path w="1911" h="745">
                <a:moveTo>
                  <a:pt x="7838" y="6945"/>
                </a:moveTo>
                <a:cubicBezTo>
                  <a:pt x="7798" y="7013"/>
                  <a:pt x="7759" y="7051"/>
                  <a:pt x="7813" y="7119"/>
                </a:cubicBezTo>
                <a:cubicBezTo>
                  <a:pt x="7840" y="7154"/>
                  <a:pt x="7867" y="7177"/>
                  <a:pt x="7888" y="7193"/>
                </a:cubicBezTo>
                <a:cubicBezTo>
                  <a:pt x="7944" y="7235"/>
                  <a:pt x="7933" y="7211"/>
                  <a:pt x="7987" y="7193"/>
                </a:cubicBezTo>
                <a:cubicBezTo>
                  <a:pt x="8029" y="7179"/>
                  <a:pt x="8102" y="7192"/>
                  <a:pt x="8136" y="7218"/>
                </a:cubicBezTo>
                <a:cubicBezTo>
                  <a:pt x="8235" y="7294"/>
                  <a:pt x="8241" y="7408"/>
                  <a:pt x="8136" y="7491"/>
                </a:cubicBezTo>
                <a:cubicBezTo>
                  <a:pt x="8107" y="7514"/>
                  <a:pt x="8004" y="7516"/>
                  <a:pt x="7962" y="7516"/>
                </a:cubicBezTo>
                <a:cubicBezTo>
                  <a:pt x="7896" y="7516"/>
                  <a:pt x="7830" y="7516"/>
                  <a:pt x="7764" y="751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1760" y="1901880"/>
            <a:ext cx="339480" cy="509400"/>
          </a:xfrm>
          <a:custGeom>
            <a:avLst/>
            <a:gdLst/>
            <a:ahLst/>
            <a:rect l="l" t="t" r="r" b="b"/>
            <a:pathLst>
              <a:path w="944" h="1415">
                <a:moveTo>
                  <a:pt x="1116" y="5804"/>
                </a:moveTo>
                <a:cubicBezTo>
                  <a:pt x="1153" y="5854"/>
                  <a:pt x="1163" y="5914"/>
                  <a:pt x="1166" y="5978"/>
                </a:cubicBezTo>
                <a:cubicBezTo>
                  <a:pt x="1170" y="6055"/>
                  <a:pt x="1191" y="6119"/>
                  <a:pt x="1191" y="6201"/>
                </a:cubicBezTo>
                <a:cubicBezTo>
                  <a:pt x="1191" y="6342"/>
                  <a:pt x="1183" y="6461"/>
                  <a:pt x="1166" y="6598"/>
                </a:cubicBezTo>
                <a:cubicBezTo>
                  <a:pt x="1162" y="6629"/>
                  <a:pt x="1166" y="6665"/>
                  <a:pt x="1166" y="6697"/>
                </a:cubicBezTo>
              </a:path>
              <a:path w="944" h="1415">
                <a:moveTo>
                  <a:pt x="1786" y="5829"/>
                </a:moveTo>
                <a:cubicBezTo>
                  <a:pt x="1767" y="5755"/>
                  <a:pt x="1759" y="5748"/>
                  <a:pt x="1761" y="5705"/>
                </a:cubicBezTo>
                <a:cubicBezTo>
                  <a:pt x="1716" y="5705"/>
                  <a:pt x="1668" y="5690"/>
                  <a:pt x="1637" y="5730"/>
                </a:cubicBezTo>
                <a:cubicBezTo>
                  <a:pt x="1593" y="5787"/>
                  <a:pt x="1563" y="5861"/>
                  <a:pt x="1538" y="5928"/>
                </a:cubicBezTo>
                <a:cubicBezTo>
                  <a:pt x="1518" y="5981"/>
                  <a:pt x="1445" y="6093"/>
                  <a:pt x="1463" y="6152"/>
                </a:cubicBezTo>
                <a:cubicBezTo>
                  <a:pt x="1477" y="6196"/>
                  <a:pt x="1496" y="6201"/>
                  <a:pt x="1538" y="6201"/>
                </a:cubicBezTo>
                <a:cubicBezTo>
                  <a:pt x="1594" y="6201"/>
                  <a:pt x="1643" y="6126"/>
                  <a:pt x="1662" y="6077"/>
                </a:cubicBezTo>
                <a:cubicBezTo>
                  <a:pt x="1678" y="6035"/>
                  <a:pt x="1704" y="5966"/>
                  <a:pt x="1712" y="5928"/>
                </a:cubicBezTo>
                <a:cubicBezTo>
                  <a:pt x="1718" y="5900"/>
                  <a:pt x="1712" y="5859"/>
                  <a:pt x="1712" y="5829"/>
                </a:cubicBezTo>
                <a:cubicBezTo>
                  <a:pt x="1734" y="5829"/>
                  <a:pt x="1712" y="5839"/>
                  <a:pt x="1712" y="5904"/>
                </a:cubicBezTo>
                <a:cubicBezTo>
                  <a:pt x="1712" y="6025"/>
                  <a:pt x="1706" y="6138"/>
                  <a:pt x="1687" y="6251"/>
                </a:cubicBezTo>
                <a:cubicBezTo>
                  <a:pt x="1677" y="6312"/>
                  <a:pt x="1717" y="6456"/>
                  <a:pt x="1662" y="6474"/>
                </a:cubicBezTo>
                <a:cubicBezTo>
                  <a:pt x="1670" y="6418"/>
                  <a:pt x="1679" y="6406"/>
                  <a:pt x="1687" y="6350"/>
                </a:cubicBezTo>
              </a:path>
              <a:path w="944" h="1415">
                <a:moveTo>
                  <a:pt x="1811" y="5283"/>
                </a:moveTo>
                <a:cubicBezTo>
                  <a:pt x="1864" y="5296"/>
                  <a:pt x="1850" y="5321"/>
                  <a:pt x="1885" y="5358"/>
                </a:cubicBezTo>
                <a:cubicBezTo>
                  <a:pt x="1961" y="5439"/>
                  <a:pt x="1976" y="5526"/>
                  <a:pt x="2009" y="5631"/>
                </a:cubicBezTo>
                <a:cubicBezTo>
                  <a:pt x="2043" y="5739"/>
                  <a:pt x="2059" y="5815"/>
                  <a:pt x="2059" y="5928"/>
                </a:cubicBezTo>
                <a:cubicBezTo>
                  <a:pt x="2059" y="6002"/>
                  <a:pt x="2039" y="6085"/>
                  <a:pt x="2009" y="6152"/>
                </a:cubicBezTo>
                <a:cubicBezTo>
                  <a:pt x="1987" y="6200"/>
                  <a:pt x="1904" y="6298"/>
                  <a:pt x="1860" y="6325"/>
                </a:cubicBezTo>
                <a:cubicBezTo>
                  <a:pt x="1832" y="6342"/>
                  <a:pt x="1826" y="6405"/>
                  <a:pt x="1811" y="6375"/>
                </a:cubicBezTo>
                <a:cubicBezTo>
                  <a:pt x="1811" y="6367"/>
                  <a:pt x="1811" y="6358"/>
                  <a:pt x="1811" y="63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41280" y="1901880"/>
            <a:ext cx="795600" cy="411120"/>
          </a:xfrm>
          <a:custGeom>
            <a:avLst/>
            <a:gdLst/>
            <a:ahLst/>
            <a:rect l="l" t="t" r="r" b="b"/>
            <a:pathLst>
              <a:path w="2208" h="1142">
                <a:moveTo>
                  <a:pt x="3448" y="5333"/>
                </a:moveTo>
                <a:cubicBezTo>
                  <a:pt x="3448" y="5575"/>
                  <a:pt x="3447" y="5816"/>
                  <a:pt x="3473" y="6052"/>
                </a:cubicBezTo>
                <a:cubicBezTo>
                  <a:pt x="3482" y="6137"/>
                  <a:pt x="3485" y="6219"/>
                  <a:pt x="3497" y="6300"/>
                </a:cubicBezTo>
                <a:cubicBezTo>
                  <a:pt x="3505" y="6352"/>
                  <a:pt x="3501" y="6386"/>
                  <a:pt x="3473" y="6424"/>
                </a:cubicBezTo>
                <a:cubicBezTo>
                  <a:pt x="3473" y="6375"/>
                  <a:pt x="3473" y="6325"/>
                  <a:pt x="3473" y="6276"/>
                </a:cubicBezTo>
              </a:path>
              <a:path w="2208" h="1142">
                <a:moveTo>
                  <a:pt x="3919" y="5308"/>
                </a:moveTo>
                <a:cubicBezTo>
                  <a:pt x="3910" y="5370"/>
                  <a:pt x="3897" y="5421"/>
                  <a:pt x="3870" y="5482"/>
                </a:cubicBezTo>
                <a:cubicBezTo>
                  <a:pt x="3832" y="5568"/>
                  <a:pt x="3804" y="5662"/>
                  <a:pt x="3795" y="5755"/>
                </a:cubicBezTo>
                <a:cubicBezTo>
                  <a:pt x="3782" y="5891"/>
                  <a:pt x="3802" y="6021"/>
                  <a:pt x="3820" y="6152"/>
                </a:cubicBezTo>
                <a:cubicBezTo>
                  <a:pt x="3827" y="6204"/>
                  <a:pt x="3848" y="6289"/>
                  <a:pt x="3894" y="6325"/>
                </a:cubicBezTo>
                <a:cubicBezTo>
                  <a:pt x="3930" y="6353"/>
                  <a:pt x="4035" y="6315"/>
                  <a:pt x="4068" y="6300"/>
                </a:cubicBezTo>
                <a:cubicBezTo>
                  <a:pt x="4135" y="6269"/>
                  <a:pt x="4181" y="6192"/>
                  <a:pt x="4217" y="6127"/>
                </a:cubicBezTo>
                <a:cubicBezTo>
                  <a:pt x="4250" y="6068"/>
                  <a:pt x="4255" y="6011"/>
                  <a:pt x="4217" y="5953"/>
                </a:cubicBezTo>
                <a:cubicBezTo>
                  <a:pt x="4199" y="5926"/>
                  <a:pt x="4155" y="5884"/>
                  <a:pt x="4118" y="5904"/>
                </a:cubicBezTo>
                <a:cubicBezTo>
                  <a:pt x="4048" y="5942"/>
                  <a:pt x="4019" y="6039"/>
                  <a:pt x="3994" y="6102"/>
                </a:cubicBezTo>
                <a:cubicBezTo>
                  <a:pt x="3972" y="6159"/>
                  <a:pt x="3954" y="6249"/>
                  <a:pt x="3944" y="6300"/>
                </a:cubicBezTo>
                <a:cubicBezTo>
                  <a:pt x="3931" y="6365"/>
                  <a:pt x="3956" y="6375"/>
                  <a:pt x="3969" y="6400"/>
                </a:cubicBezTo>
                <a:cubicBezTo>
                  <a:pt x="3969" y="6424"/>
                  <a:pt x="3969" y="6432"/>
                  <a:pt x="3994" y="6424"/>
                </a:cubicBezTo>
              </a:path>
              <a:path w="2208" h="1142">
                <a:moveTo>
                  <a:pt x="4415" y="5779"/>
                </a:moveTo>
                <a:cubicBezTo>
                  <a:pt x="4463" y="5779"/>
                  <a:pt x="4524" y="5779"/>
                  <a:pt x="4564" y="5755"/>
                </a:cubicBezTo>
                <a:cubicBezTo>
                  <a:pt x="4609" y="5728"/>
                  <a:pt x="4648" y="5740"/>
                  <a:pt x="4688" y="5705"/>
                </a:cubicBezTo>
                <a:cubicBezTo>
                  <a:pt x="4711" y="5682"/>
                  <a:pt x="4715" y="5674"/>
                  <a:pt x="4738" y="5680"/>
                </a:cubicBezTo>
              </a:path>
              <a:path w="2208" h="1142">
                <a:moveTo>
                  <a:pt x="4415" y="5978"/>
                </a:moveTo>
                <a:cubicBezTo>
                  <a:pt x="4501" y="5978"/>
                  <a:pt x="4501" y="5974"/>
                  <a:pt x="4564" y="5953"/>
                </a:cubicBezTo>
                <a:cubicBezTo>
                  <a:pt x="4590" y="5944"/>
                  <a:pt x="4635" y="5953"/>
                  <a:pt x="4663" y="5953"/>
                </a:cubicBezTo>
              </a:path>
              <a:path w="2208" h="1142">
                <a:moveTo>
                  <a:pt x="5060" y="5531"/>
                </a:moveTo>
                <a:cubicBezTo>
                  <a:pt x="5122" y="5461"/>
                  <a:pt x="5149" y="5425"/>
                  <a:pt x="5234" y="5383"/>
                </a:cubicBezTo>
                <a:cubicBezTo>
                  <a:pt x="5302" y="5349"/>
                  <a:pt x="5365" y="5331"/>
                  <a:pt x="5432" y="5308"/>
                </a:cubicBezTo>
                <a:cubicBezTo>
                  <a:pt x="5473" y="5294"/>
                  <a:pt x="5508" y="5231"/>
                  <a:pt x="5581" y="5308"/>
                </a:cubicBezTo>
                <a:cubicBezTo>
                  <a:pt x="5668" y="5400"/>
                  <a:pt x="5616" y="5456"/>
                  <a:pt x="5581" y="5556"/>
                </a:cubicBezTo>
                <a:cubicBezTo>
                  <a:pt x="5542" y="5668"/>
                  <a:pt x="5475" y="5737"/>
                  <a:pt x="5407" y="5829"/>
                </a:cubicBezTo>
                <a:cubicBezTo>
                  <a:pt x="5338" y="5922"/>
                  <a:pt x="5282" y="5997"/>
                  <a:pt x="5234" y="6102"/>
                </a:cubicBezTo>
                <a:cubicBezTo>
                  <a:pt x="5202" y="6172"/>
                  <a:pt x="5152" y="6225"/>
                  <a:pt x="5135" y="6300"/>
                </a:cubicBezTo>
                <a:cubicBezTo>
                  <a:pt x="5115" y="6389"/>
                  <a:pt x="5149" y="6379"/>
                  <a:pt x="5209" y="6400"/>
                </a:cubicBezTo>
                <a:cubicBezTo>
                  <a:pt x="5292" y="6428"/>
                  <a:pt x="5369" y="6420"/>
                  <a:pt x="5457" y="6400"/>
                </a:cubicBezTo>
                <a:cubicBezTo>
                  <a:pt x="5547" y="6380"/>
                  <a:pt x="5584" y="6373"/>
                  <a:pt x="5655" y="63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14720" y="1581120"/>
            <a:ext cx="571320" cy="258840"/>
          </a:xfrm>
          <a:custGeom>
            <a:avLst/>
            <a:gdLst/>
            <a:ahLst/>
            <a:rect l="l" t="t" r="r" b="b"/>
            <a:pathLst>
              <a:path w="1588" h="721">
                <a:moveTo>
                  <a:pt x="6152" y="4663"/>
                </a:moveTo>
                <a:cubicBezTo>
                  <a:pt x="6191" y="4633"/>
                  <a:pt x="6249" y="4625"/>
                  <a:pt x="6300" y="4614"/>
                </a:cubicBezTo>
                <a:cubicBezTo>
                  <a:pt x="6330" y="4607"/>
                  <a:pt x="6398" y="4604"/>
                  <a:pt x="6424" y="4589"/>
                </a:cubicBezTo>
                <a:cubicBezTo>
                  <a:pt x="6432" y="4581"/>
                  <a:pt x="6441" y="4572"/>
                  <a:pt x="6449" y="4564"/>
                </a:cubicBezTo>
                <a:cubicBezTo>
                  <a:pt x="6481" y="4627"/>
                  <a:pt x="6433" y="4644"/>
                  <a:pt x="6400" y="4713"/>
                </a:cubicBezTo>
                <a:cubicBezTo>
                  <a:pt x="6350" y="4817"/>
                  <a:pt x="6335" y="4956"/>
                  <a:pt x="6300" y="5060"/>
                </a:cubicBezTo>
                <a:cubicBezTo>
                  <a:pt x="6291" y="5088"/>
                  <a:pt x="6290" y="5137"/>
                  <a:pt x="6300" y="5110"/>
                </a:cubicBezTo>
                <a:cubicBezTo>
                  <a:pt x="6313" y="5075"/>
                  <a:pt x="6307" y="5052"/>
                  <a:pt x="6325" y="5011"/>
                </a:cubicBezTo>
              </a:path>
              <a:path w="1588" h="721">
                <a:moveTo>
                  <a:pt x="6598" y="4688"/>
                </a:moveTo>
                <a:cubicBezTo>
                  <a:pt x="6630" y="4776"/>
                  <a:pt x="6649" y="4882"/>
                  <a:pt x="6697" y="4961"/>
                </a:cubicBezTo>
                <a:cubicBezTo>
                  <a:pt x="6726" y="5009"/>
                  <a:pt x="6783" y="4995"/>
                  <a:pt x="6796" y="5035"/>
                </a:cubicBezTo>
                <a:cubicBezTo>
                  <a:pt x="6821" y="5011"/>
                  <a:pt x="6830" y="5003"/>
                  <a:pt x="6846" y="4986"/>
                </a:cubicBezTo>
              </a:path>
              <a:path w="1588" h="721">
                <a:moveTo>
                  <a:pt x="6796" y="4638"/>
                </a:moveTo>
                <a:cubicBezTo>
                  <a:pt x="6733" y="4727"/>
                  <a:pt x="6591" y="4875"/>
                  <a:pt x="6548" y="4986"/>
                </a:cubicBezTo>
                <a:cubicBezTo>
                  <a:pt x="6535" y="5019"/>
                  <a:pt x="6492" y="5074"/>
                  <a:pt x="6548" y="5035"/>
                </a:cubicBezTo>
              </a:path>
              <a:path w="1588" h="721">
                <a:moveTo>
                  <a:pt x="6945" y="4738"/>
                </a:moveTo>
                <a:cubicBezTo>
                  <a:pt x="7035" y="4731"/>
                  <a:pt x="7074" y="4730"/>
                  <a:pt x="7144" y="4688"/>
                </a:cubicBezTo>
              </a:path>
              <a:path w="1588" h="721">
                <a:moveTo>
                  <a:pt x="7516" y="4390"/>
                </a:moveTo>
                <a:cubicBezTo>
                  <a:pt x="7590" y="4390"/>
                  <a:pt x="7665" y="4390"/>
                  <a:pt x="7739" y="4390"/>
                </a:cubicBezTo>
              </a:path>
              <a:path w="1588" h="721">
                <a:moveTo>
                  <a:pt x="7417" y="4415"/>
                </a:moveTo>
                <a:cubicBezTo>
                  <a:pt x="7342" y="4498"/>
                  <a:pt x="7325" y="4502"/>
                  <a:pt x="7342" y="4589"/>
                </a:cubicBezTo>
                <a:cubicBezTo>
                  <a:pt x="7350" y="4629"/>
                  <a:pt x="7372" y="4660"/>
                  <a:pt x="7417" y="4663"/>
                </a:cubicBezTo>
                <a:cubicBezTo>
                  <a:pt x="7469" y="4667"/>
                  <a:pt x="7522" y="4629"/>
                  <a:pt x="7565" y="4638"/>
                </a:cubicBezTo>
                <a:cubicBezTo>
                  <a:pt x="7666" y="4658"/>
                  <a:pt x="7665" y="4702"/>
                  <a:pt x="7665" y="4787"/>
                </a:cubicBezTo>
                <a:cubicBezTo>
                  <a:pt x="7665" y="4886"/>
                  <a:pt x="7654" y="4908"/>
                  <a:pt x="7590" y="4961"/>
                </a:cubicBezTo>
                <a:cubicBezTo>
                  <a:pt x="7548" y="4995"/>
                  <a:pt x="7522" y="4986"/>
                  <a:pt x="7466" y="4986"/>
                </a:cubicBezTo>
                <a:cubicBezTo>
                  <a:pt x="7377" y="4986"/>
                  <a:pt x="7304" y="4959"/>
                  <a:pt x="7218" y="49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70000" y="3562200"/>
            <a:ext cx="1492200" cy="430200"/>
          </a:xfrm>
          <a:custGeom>
            <a:avLst/>
            <a:gdLst/>
            <a:ahLst/>
            <a:rect l="l" t="t" r="r" b="b"/>
            <a:pathLst>
              <a:path w="4144" h="1192">
                <a:moveTo>
                  <a:pt x="3324" y="9971"/>
                </a:moveTo>
                <a:cubicBezTo>
                  <a:pt x="3332" y="10003"/>
                  <a:pt x="3363" y="10033"/>
                  <a:pt x="3349" y="10071"/>
                </a:cubicBezTo>
                <a:cubicBezTo>
                  <a:pt x="3325" y="10137"/>
                  <a:pt x="3320" y="10205"/>
                  <a:pt x="3299" y="10269"/>
                </a:cubicBezTo>
                <a:cubicBezTo>
                  <a:pt x="3283" y="10318"/>
                  <a:pt x="3260" y="10349"/>
                  <a:pt x="3249" y="10393"/>
                </a:cubicBezTo>
                <a:cubicBezTo>
                  <a:pt x="3309" y="10393"/>
                  <a:pt x="3337" y="10409"/>
                  <a:pt x="3398" y="10418"/>
                </a:cubicBezTo>
                <a:cubicBezTo>
                  <a:pt x="3468" y="10429"/>
                  <a:pt x="3550" y="10418"/>
                  <a:pt x="3621" y="10418"/>
                </a:cubicBezTo>
              </a:path>
              <a:path w="4144" h="1192">
                <a:moveTo>
                  <a:pt x="3671" y="9897"/>
                </a:moveTo>
                <a:cubicBezTo>
                  <a:pt x="3694" y="10033"/>
                  <a:pt x="3717" y="10157"/>
                  <a:pt x="3721" y="10294"/>
                </a:cubicBezTo>
                <a:cubicBezTo>
                  <a:pt x="3726" y="10445"/>
                  <a:pt x="3736" y="10592"/>
                  <a:pt x="3746" y="10740"/>
                </a:cubicBezTo>
                <a:cubicBezTo>
                  <a:pt x="3754" y="10853"/>
                  <a:pt x="3744" y="10940"/>
                  <a:pt x="3770" y="11038"/>
                </a:cubicBezTo>
                <a:cubicBezTo>
                  <a:pt x="3781" y="11080"/>
                  <a:pt x="3743" y="11098"/>
                  <a:pt x="3795" y="11063"/>
                </a:cubicBezTo>
              </a:path>
              <a:path w="4144" h="1192">
                <a:moveTo>
                  <a:pt x="4118" y="10468"/>
                </a:moveTo>
                <a:cubicBezTo>
                  <a:pt x="4225" y="10468"/>
                  <a:pt x="4333" y="10468"/>
                  <a:pt x="4440" y="10468"/>
                </a:cubicBezTo>
              </a:path>
              <a:path w="4144" h="1192">
                <a:moveTo>
                  <a:pt x="4192" y="10641"/>
                </a:moveTo>
                <a:cubicBezTo>
                  <a:pt x="4288" y="10654"/>
                  <a:pt x="4323" y="10651"/>
                  <a:pt x="4415" y="10641"/>
                </a:cubicBezTo>
              </a:path>
              <a:path w="4144" h="1192">
                <a:moveTo>
                  <a:pt x="4887" y="10096"/>
                </a:moveTo>
                <a:cubicBezTo>
                  <a:pt x="4982" y="10070"/>
                  <a:pt x="5060" y="10071"/>
                  <a:pt x="5159" y="10071"/>
                </a:cubicBezTo>
                <a:cubicBezTo>
                  <a:pt x="5220" y="10071"/>
                  <a:pt x="5273" y="10053"/>
                  <a:pt x="5333" y="10046"/>
                </a:cubicBezTo>
              </a:path>
              <a:path w="4144" h="1192">
                <a:moveTo>
                  <a:pt x="5482" y="10021"/>
                </a:moveTo>
                <a:cubicBezTo>
                  <a:pt x="5482" y="10092"/>
                  <a:pt x="5469" y="10129"/>
                  <a:pt x="5457" y="10195"/>
                </a:cubicBezTo>
                <a:cubicBezTo>
                  <a:pt x="5443" y="10271"/>
                  <a:pt x="5441" y="10367"/>
                  <a:pt x="5432" y="10443"/>
                </a:cubicBezTo>
                <a:cubicBezTo>
                  <a:pt x="5418" y="10565"/>
                  <a:pt x="5411" y="10693"/>
                  <a:pt x="5407" y="10815"/>
                </a:cubicBezTo>
                <a:cubicBezTo>
                  <a:pt x="5404" y="10895"/>
                  <a:pt x="5412" y="10948"/>
                  <a:pt x="5432" y="11013"/>
                </a:cubicBezTo>
                <a:cubicBezTo>
                  <a:pt x="5447" y="11064"/>
                  <a:pt x="5436" y="11061"/>
                  <a:pt x="5482" y="11038"/>
                </a:cubicBezTo>
              </a:path>
              <a:path w="4144" h="1192">
                <a:moveTo>
                  <a:pt x="5779" y="10492"/>
                </a:moveTo>
                <a:cubicBezTo>
                  <a:pt x="5844" y="10597"/>
                  <a:pt x="5900" y="10722"/>
                  <a:pt x="5978" y="10815"/>
                </a:cubicBezTo>
                <a:cubicBezTo>
                  <a:pt x="6036" y="10884"/>
                  <a:pt x="6097" y="10925"/>
                  <a:pt x="6176" y="10964"/>
                </a:cubicBezTo>
                <a:cubicBezTo>
                  <a:pt x="6244" y="10997"/>
                  <a:pt x="6233" y="10992"/>
                  <a:pt x="6300" y="10964"/>
                </a:cubicBezTo>
              </a:path>
              <a:path w="4144" h="1192">
                <a:moveTo>
                  <a:pt x="6028" y="10492"/>
                </a:moveTo>
                <a:cubicBezTo>
                  <a:pt x="5961" y="10600"/>
                  <a:pt x="5858" y="10735"/>
                  <a:pt x="5829" y="10864"/>
                </a:cubicBezTo>
                <a:cubicBezTo>
                  <a:pt x="5818" y="10910"/>
                  <a:pt x="5804" y="10940"/>
                  <a:pt x="5804" y="10988"/>
                </a:cubicBezTo>
                <a:cubicBezTo>
                  <a:pt x="5804" y="10996"/>
                  <a:pt x="5804" y="11005"/>
                  <a:pt x="5804" y="11013"/>
                </a:cubicBezTo>
              </a:path>
              <a:path w="4144" h="1192">
                <a:moveTo>
                  <a:pt x="6350" y="10616"/>
                </a:moveTo>
                <a:cubicBezTo>
                  <a:pt x="6452" y="10623"/>
                  <a:pt x="6480" y="10633"/>
                  <a:pt x="6573" y="10616"/>
                </a:cubicBezTo>
              </a:path>
              <a:path w="4144" h="1192">
                <a:moveTo>
                  <a:pt x="6896" y="10294"/>
                </a:moveTo>
                <a:cubicBezTo>
                  <a:pt x="6993" y="10278"/>
                  <a:pt x="7069" y="10274"/>
                  <a:pt x="7169" y="10269"/>
                </a:cubicBezTo>
                <a:cubicBezTo>
                  <a:pt x="7210" y="10269"/>
                  <a:pt x="7218" y="10269"/>
                  <a:pt x="7243" y="10269"/>
                </a:cubicBezTo>
              </a:path>
              <a:path w="4144" h="1192">
                <a:moveTo>
                  <a:pt x="6871" y="10368"/>
                </a:moveTo>
                <a:cubicBezTo>
                  <a:pt x="6842" y="10549"/>
                  <a:pt x="6836" y="10498"/>
                  <a:pt x="6871" y="10567"/>
                </a:cubicBezTo>
                <a:cubicBezTo>
                  <a:pt x="6883" y="10592"/>
                  <a:pt x="6897" y="10642"/>
                  <a:pt x="6945" y="10616"/>
                </a:cubicBezTo>
                <a:cubicBezTo>
                  <a:pt x="6986" y="10594"/>
                  <a:pt x="7026" y="10561"/>
                  <a:pt x="7069" y="10542"/>
                </a:cubicBezTo>
                <a:cubicBezTo>
                  <a:pt x="7116" y="10521"/>
                  <a:pt x="7165" y="10517"/>
                  <a:pt x="7218" y="10517"/>
                </a:cubicBezTo>
                <a:cubicBezTo>
                  <a:pt x="7302" y="10517"/>
                  <a:pt x="7340" y="10599"/>
                  <a:pt x="7367" y="10666"/>
                </a:cubicBezTo>
                <a:cubicBezTo>
                  <a:pt x="7397" y="10742"/>
                  <a:pt x="7401" y="10841"/>
                  <a:pt x="7367" y="10914"/>
                </a:cubicBezTo>
                <a:cubicBezTo>
                  <a:pt x="7345" y="10962"/>
                  <a:pt x="7310" y="10995"/>
                  <a:pt x="7268" y="11013"/>
                </a:cubicBezTo>
                <a:cubicBezTo>
                  <a:pt x="7213" y="11036"/>
                  <a:pt x="7156" y="11052"/>
                  <a:pt x="7094" y="11038"/>
                </a:cubicBezTo>
                <a:cubicBezTo>
                  <a:pt x="7069" y="11030"/>
                  <a:pt x="7045" y="11021"/>
                  <a:pt x="7020" y="1101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2000" y="4044960"/>
            <a:ext cx="1563840" cy="2143080"/>
          </a:xfrm>
          <a:custGeom>
            <a:avLst/>
            <a:gdLst/>
            <a:ahLst/>
            <a:rect l="l" t="t" r="r" b="b"/>
            <a:pathLst>
              <a:path w="4342" h="5954">
                <a:moveTo>
                  <a:pt x="6276" y="11435"/>
                </a:moveTo>
                <a:cubicBezTo>
                  <a:pt x="6276" y="11548"/>
                  <a:pt x="6254" y="11679"/>
                  <a:pt x="6300" y="11782"/>
                </a:cubicBezTo>
                <a:cubicBezTo>
                  <a:pt x="6317" y="11822"/>
                  <a:pt x="6325" y="11949"/>
                  <a:pt x="6325" y="11906"/>
                </a:cubicBezTo>
                <a:cubicBezTo>
                  <a:pt x="6325" y="11898"/>
                  <a:pt x="6325" y="11889"/>
                  <a:pt x="6325" y="11881"/>
                </a:cubicBezTo>
              </a:path>
              <a:path w="4342" h="5954">
                <a:moveTo>
                  <a:pt x="6077" y="11658"/>
                </a:moveTo>
                <a:cubicBezTo>
                  <a:pt x="6183" y="11658"/>
                  <a:pt x="6271" y="11679"/>
                  <a:pt x="6375" y="11683"/>
                </a:cubicBezTo>
                <a:cubicBezTo>
                  <a:pt x="6400" y="11683"/>
                  <a:pt x="6424" y="11683"/>
                  <a:pt x="6449" y="11683"/>
                </a:cubicBezTo>
              </a:path>
              <a:path w="4342" h="5954">
                <a:moveTo>
                  <a:pt x="6896" y="11410"/>
                </a:moveTo>
                <a:cubicBezTo>
                  <a:pt x="6966" y="11399"/>
                  <a:pt x="7125" y="11403"/>
                  <a:pt x="7193" y="11361"/>
                </a:cubicBezTo>
                <a:cubicBezTo>
                  <a:pt x="7201" y="11353"/>
                  <a:pt x="7210" y="11344"/>
                  <a:pt x="7218" y="11336"/>
                </a:cubicBezTo>
              </a:path>
              <a:path w="4342" h="5954">
                <a:moveTo>
                  <a:pt x="6871" y="11435"/>
                </a:moveTo>
                <a:cubicBezTo>
                  <a:pt x="6840" y="11536"/>
                  <a:pt x="6862" y="11516"/>
                  <a:pt x="6871" y="11609"/>
                </a:cubicBezTo>
                <a:cubicBezTo>
                  <a:pt x="6874" y="11642"/>
                  <a:pt x="6905" y="11680"/>
                  <a:pt x="6945" y="11658"/>
                </a:cubicBezTo>
                <a:cubicBezTo>
                  <a:pt x="6982" y="11637"/>
                  <a:pt x="7006" y="11597"/>
                  <a:pt x="7045" y="11584"/>
                </a:cubicBezTo>
                <a:cubicBezTo>
                  <a:pt x="7087" y="11570"/>
                  <a:pt x="7121" y="11560"/>
                  <a:pt x="7169" y="11584"/>
                </a:cubicBezTo>
                <a:cubicBezTo>
                  <a:pt x="7251" y="11626"/>
                  <a:pt x="7285" y="11778"/>
                  <a:pt x="7293" y="11857"/>
                </a:cubicBezTo>
                <a:cubicBezTo>
                  <a:pt x="7301" y="11936"/>
                  <a:pt x="7270" y="11998"/>
                  <a:pt x="7218" y="12055"/>
                </a:cubicBezTo>
                <a:cubicBezTo>
                  <a:pt x="7176" y="12101"/>
                  <a:pt x="7107" y="12122"/>
                  <a:pt x="7045" y="12105"/>
                </a:cubicBezTo>
                <a:cubicBezTo>
                  <a:pt x="6988" y="12077"/>
                  <a:pt x="6965" y="12066"/>
                  <a:pt x="6921" y="12055"/>
                </a:cubicBezTo>
              </a:path>
              <a:path w="4342" h="5954">
                <a:moveTo>
                  <a:pt x="3200" y="11385"/>
                </a:moveTo>
                <a:cubicBezTo>
                  <a:pt x="3223" y="11478"/>
                  <a:pt x="3245" y="11564"/>
                  <a:pt x="3249" y="11658"/>
                </a:cubicBezTo>
                <a:cubicBezTo>
                  <a:pt x="3251" y="11693"/>
                  <a:pt x="3277" y="11803"/>
                  <a:pt x="3274" y="11807"/>
                </a:cubicBezTo>
                <a:cubicBezTo>
                  <a:pt x="3246" y="11807"/>
                  <a:pt x="3235" y="11805"/>
                  <a:pt x="3225" y="11782"/>
                </a:cubicBezTo>
              </a:path>
              <a:path w="4342" h="5954">
                <a:moveTo>
                  <a:pt x="2952" y="11609"/>
                </a:moveTo>
                <a:cubicBezTo>
                  <a:pt x="3056" y="11631"/>
                  <a:pt x="3142" y="11633"/>
                  <a:pt x="3249" y="11633"/>
                </a:cubicBezTo>
                <a:cubicBezTo>
                  <a:pt x="3308" y="11633"/>
                  <a:pt x="3334" y="11630"/>
                  <a:pt x="3373" y="11609"/>
                </a:cubicBezTo>
              </a:path>
              <a:path w="4342" h="5954">
                <a:moveTo>
                  <a:pt x="3746" y="11311"/>
                </a:moveTo>
                <a:cubicBezTo>
                  <a:pt x="3835" y="11293"/>
                  <a:pt x="3935" y="11288"/>
                  <a:pt x="4018" y="11261"/>
                </a:cubicBezTo>
                <a:cubicBezTo>
                  <a:pt x="4059" y="11241"/>
                  <a:pt x="4065" y="11233"/>
                  <a:pt x="4093" y="11237"/>
                </a:cubicBezTo>
              </a:path>
              <a:path w="4342" h="5954">
                <a:moveTo>
                  <a:pt x="3696" y="11336"/>
                </a:moveTo>
                <a:cubicBezTo>
                  <a:pt x="3680" y="11416"/>
                  <a:pt x="3671" y="11479"/>
                  <a:pt x="3671" y="11559"/>
                </a:cubicBezTo>
                <a:cubicBezTo>
                  <a:pt x="3725" y="11559"/>
                  <a:pt x="3732" y="11547"/>
                  <a:pt x="3770" y="11509"/>
                </a:cubicBezTo>
                <a:cubicBezTo>
                  <a:pt x="3813" y="11466"/>
                  <a:pt x="3848" y="11485"/>
                  <a:pt x="3894" y="11509"/>
                </a:cubicBezTo>
                <a:cubicBezTo>
                  <a:pt x="3954" y="11541"/>
                  <a:pt x="4017" y="11616"/>
                  <a:pt x="4043" y="11683"/>
                </a:cubicBezTo>
                <a:cubicBezTo>
                  <a:pt x="4069" y="11751"/>
                  <a:pt x="4068" y="11776"/>
                  <a:pt x="4018" y="11832"/>
                </a:cubicBezTo>
                <a:cubicBezTo>
                  <a:pt x="3975" y="11881"/>
                  <a:pt x="3882" y="11934"/>
                  <a:pt x="3820" y="11931"/>
                </a:cubicBezTo>
                <a:cubicBezTo>
                  <a:pt x="3773" y="11929"/>
                  <a:pt x="3725" y="11906"/>
                  <a:pt x="3671" y="11906"/>
                </a:cubicBezTo>
              </a:path>
              <a:path w="4342" h="5954">
                <a:moveTo>
                  <a:pt x="3919" y="12948"/>
                </a:moveTo>
                <a:cubicBezTo>
                  <a:pt x="3919" y="13017"/>
                  <a:pt x="3922" y="12907"/>
                  <a:pt x="3919" y="12898"/>
                </a:cubicBezTo>
                <a:cubicBezTo>
                  <a:pt x="3897" y="12836"/>
                  <a:pt x="3898" y="12779"/>
                  <a:pt x="3870" y="12725"/>
                </a:cubicBezTo>
                <a:cubicBezTo>
                  <a:pt x="3842" y="12672"/>
                  <a:pt x="3862" y="12608"/>
                  <a:pt x="3795" y="12601"/>
                </a:cubicBezTo>
                <a:cubicBezTo>
                  <a:pt x="3755" y="12597"/>
                  <a:pt x="3715" y="12610"/>
                  <a:pt x="3696" y="12650"/>
                </a:cubicBezTo>
                <a:cubicBezTo>
                  <a:pt x="3659" y="12728"/>
                  <a:pt x="3587" y="12810"/>
                  <a:pt x="3572" y="12898"/>
                </a:cubicBezTo>
                <a:cubicBezTo>
                  <a:pt x="3559" y="12977"/>
                  <a:pt x="3575" y="13035"/>
                  <a:pt x="3621" y="13097"/>
                </a:cubicBezTo>
                <a:cubicBezTo>
                  <a:pt x="3670" y="13163"/>
                  <a:pt x="3679" y="13138"/>
                  <a:pt x="3746" y="13122"/>
                </a:cubicBezTo>
                <a:cubicBezTo>
                  <a:pt x="3771" y="13116"/>
                  <a:pt x="3806" y="13056"/>
                  <a:pt x="3820" y="13022"/>
                </a:cubicBezTo>
                <a:cubicBezTo>
                  <a:pt x="3834" y="12987"/>
                  <a:pt x="3845" y="12965"/>
                  <a:pt x="3845" y="12923"/>
                </a:cubicBezTo>
                <a:cubicBezTo>
                  <a:pt x="3845" y="12915"/>
                  <a:pt x="3845" y="12906"/>
                  <a:pt x="3845" y="12898"/>
                </a:cubicBezTo>
                <a:cubicBezTo>
                  <a:pt x="3907" y="12919"/>
                  <a:pt x="3851" y="13017"/>
                  <a:pt x="3845" y="13072"/>
                </a:cubicBezTo>
                <a:cubicBezTo>
                  <a:pt x="3827" y="13245"/>
                  <a:pt x="3755" y="13698"/>
                  <a:pt x="3870" y="13568"/>
                </a:cubicBezTo>
                <a:cubicBezTo>
                  <a:pt x="3878" y="13552"/>
                  <a:pt x="3886" y="13535"/>
                  <a:pt x="3894" y="13519"/>
                </a:cubicBezTo>
              </a:path>
              <a:path w="4342" h="5954">
                <a:moveTo>
                  <a:pt x="4217" y="12973"/>
                </a:moveTo>
                <a:cubicBezTo>
                  <a:pt x="4336" y="12973"/>
                  <a:pt x="4388" y="12968"/>
                  <a:pt x="4490" y="12948"/>
                </a:cubicBezTo>
              </a:path>
              <a:path w="4342" h="5954">
                <a:moveTo>
                  <a:pt x="4266" y="13146"/>
                </a:moveTo>
                <a:cubicBezTo>
                  <a:pt x="4387" y="13189"/>
                  <a:pt x="4416" y="13187"/>
                  <a:pt x="4539" y="13146"/>
                </a:cubicBezTo>
              </a:path>
              <a:path w="4342" h="5954">
                <a:moveTo>
                  <a:pt x="4812" y="12650"/>
                </a:moveTo>
                <a:cubicBezTo>
                  <a:pt x="4967" y="12650"/>
                  <a:pt x="5144" y="12667"/>
                  <a:pt x="5283" y="12626"/>
                </a:cubicBezTo>
                <a:cubicBezTo>
                  <a:pt x="5291" y="12626"/>
                  <a:pt x="5300" y="12626"/>
                  <a:pt x="5308" y="12626"/>
                </a:cubicBezTo>
                <a:cubicBezTo>
                  <a:pt x="5336" y="12667"/>
                  <a:pt x="5292" y="12730"/>
                  <a:pt x="5283" y="12799"/>
                </a:cubicBezTo>
                <a:cubicBezTo>
                  <a:pt x="5267" y="12923"/>
                  <a:pt x="5259" y="13044"/>
                  <a:pt x="5259" y="13171"/>
                </a:cubicBezTo>
                <a:cubicBezTo>
                  <a:pt x="5259" y="13280"/>
                  <a:pt x="5264" y="13365"/>
                  <a:pt x="5283" y="13469"/>
                </a:cubicBezTo>
                <a:cubicBezTo>
                  <a:pt x="5294" y="13530"/>
                  <a:pt x="5263" y="13543"/>
                  <a:pt x="5333" y="13543"/>
                </a:cubicBezTo>
              </a:path>
              <a:path w="4342" h="5954">
                <a:moveTo>
                  <a:pt x="5606" y="13047"/>
                </a:moveTo>
                <a:cubicBezTo>
                  <a:pt x="5673" y="13124"/>
                  <a:pt x="5700" y="13214"/>
                  <a:pt x="5755" y="13295"/>
                </a:cubicBezTo>
                <a:cubicBezTo>
                  <a:pt x="5815" y="13383"/>
                  <a:pt x="5884" y="13445"/>
                  <a:pt x="5978" y="13494"/>
                </a:cubicBezTo>
                <a:cubicBezTo>
                  <a:pt x="6035" y="13522"/>
                  <a:pt x="6058" y="13533"/>
                  <a:pt x="6102" y="13543"/>
                </a:cubicBezTo>
              </a:path>
              <a:path w="4342" h="5954">
                <a:moveTo>
                  <a:pt x="5928" y="12998"/>
                </a:moveTo>
                <a:cubicBezTo>
                  <a:pt x="5822" y="13111"/>
                  <a:pt x="5763" y="13216"/>
                  <a:pt x="5680" y="13345"/>
                </a:cubicBezTo>
                <a:cubicBezTo>
                  <a:pt x="5642" y="13404"/>
                  <a:pt x="5605" y="13445"/>
                  <a:pt x="5556" y="13494"/>
                </a:cubicBezTo>
              </a:path>
              <a:path w="4342" h="5954">
                <a:moveTo>
                  <a:pt x="5308" y="13568"/>
                </a:moveTo>
                <a:cubicBezTo>
                  <a:pt x="5494" y="13588"/>
                  <a:pt x="5625" y="13583"/>
                  <a:pt x="5804" y="13568"/>
                </a:cubicBezTo>
                <a:cubicBezTo>
                  <a:pt x="5918" y="13558"/>
                  <a:pt x="5997" y="13541"/>
                  <a:pt x="6102" y="13494"/>
                </a:cubicBezTo>
              </a:path>
              <a:path w="4342" h="5954">
                <a:moveTo>
                  <a:pt x="5507" y="13791"/>
                </a:moveTo>
                <a:cubicBezTo>
                  <a:pt x="5618" y="13822"/>
                  <a:pt x="5668" y="13803"/>
                  <a:pt x="5779" y="13791"/>
                </a:cubicBezTo>
                <a:cubicBezTo>
                  <a:pt x="5862" y="13782"/>
                  <a:pt x="5924" y="13760"/>
                  <a:pt x="6003" y="13742"/>
                </a:cubicBezTo>
                <a:cubicBezTo>
                  <a:pt x="6011" y="13742"/>
                  <a:pt x="6020" y="13742"/>
                  <a:pt x="6028" y="13742"/>
                </a:cubicBezTo>
                <a:cubicBezTo>
                  <a:pt x="6052" y="13791"/>
                  <a:pt x="6031" y="13792"/>
                  <a:pt x="6003" y="13841"/>
                </a:cubicBezTo>
                <a:cubicBezTo>
                  <a:pt x="5949" y="13936"/>
                  <a:pt x="5921" y="14041"/>
                  <a:pt x="5879" y="14139"/>
                </a:cubicBezTo>
                <a:cubicBezTo>
                  <a:pt x="5846" y="14215"/>
                  <a:pt x="5785" y="14347"/>
                  <a:pt x="5804" y="14436"/>
                </a:cubicBezTo>
                <a:cubicBezTo>
                  <a:pt x="5829" y="14486"/>
                  <a:pt x="5837" y="14503"/>
                  <a:pt x="5854" y="14536"/>
                </a:cubicBezTo>
              </a:path>
              <a:path w="4342" h="5954">
                <a:moveTo>
                  <a:pt x="3572" y="13593"/>
                </a:moveTo>
                <a:cubicBezTo>
                  <a:pt x="3641" y="13593"/>
                  <a:pt x="3700" y="13571"/>
                  <a:pt x="3770" y="13568"/>
                </a:cubicBezTo>
                <a:cubicBezTo>
                  <a:pt x="3876" y="13564"/>
                  <a:pt x="3991" y="13569"/>
                  <a:pt x="4093" y="13543"/>
                </a:cubicBezTo>
                <a:cubicBezTo>
                  <a:pt x="4148" y="13516"/>
                  <a:pt x="4171" y="13508"/>
                  <a:pt x="4217" y="13519"/>
                </a:cubicBezTo>
              </a:path>
              <a:path w="4342" h="5954">
                <a:moveTo>
                  <a:pt x="3770" y="13717"/>
                </a:moveTo>
                <a:cubicBezTo>
                  <a:pt x="3851" y="13739"/>
                  <a:pt x="3910" y="13742"/>
                  <a:pt x="3994" y="13742"/>
                </a:cubicBezTo>
                <a:cubicBezTo>
                  <a:pt x="4051" y="13742"/>
                  <a:pt x="4100" y="13730"/>
                  <a:pt x="4142" y="13767"/>
                </a:cubicBezTo>
                <a:cubicBezTo>
                  <a:pt x="4195" y="13813"/>
                  <a:pt x="4167" y="13951"/>
                  <a:pt x="4167" y="14015"/>
                </a:cubicBezTo>
                <a:cubicBezTo>
                  <a:pt x="4167" y="14152"/>
                  <a:pt x="4178" y="14280"/>
                  <a:pt x="4192" y="14412"/>
                </a:cubicBezTo>
                <a:cubicBezTo>
                  <a:pt x="4199" y="14481"/>
                  <a:pt x="4201" y="14564"/>
                  <a:pt x="4291" y="14511"/>
                </a:cubicBezTo>
                <a:cubicBezTo>
                  <a:pt x="4321" y="14481"/>
                  <a:pt x="4332" y="14467"/>
                  <a:pt x="4341" y="14436"/>
                </a:cubicBezTo>
              </a:path>
              <a:path w="4342" h="5954">
                <a:moveTo>
                  <a:pt x="5035" y="12477"/>
                </a:moveTo>
                <a:cubicBezTo>
                  <a:pt x="5091" y="12692"/>
                  <a:pt x="5148" y="12855"/>
                  <a:pt x="5259" y="13047"/>
                </a:cubicBezTo>
                <a:cubicBezTo>
                  <a:pt x="5369" y="13237"/>
                  <a:pt x="5479" y="13413"/>
                  <a:pt x="5606" y="13593"/>
                </a:cubicBezTo>
                <a:cubicBezTo>
                  <a:pt x="5756" y="13806"/>
                  <a:pt x="5884" y="14039"/>
                  <a:pt x="6052" y="14238"/>
                </a:cubicBezTo>
                <a:cubicBezTo>
                  <a:pt x="6148" y="14333"/>
                  <a:pt x="6178" y="14361"/>
                  <a:pt x="6226" y="14436"/>
                </a:cubicBezTo>
              </a:path>
              <a:path w="4342" h="5954">
                <a:moveTo>
                  <a:pt x="4266" y="15280"/>
                </a:moveTo>
                <a:cubicBezTo>
                  <a:pt x="4241" y="15314"/>
                  <a:pt x="4242" y="15311"/>
                  <a:pt x="4242" y="15354"/>
                </a:cubicBezTo>
                <a:cubicBezTo>
                  <a:pt x="4212" y="15344"/>
                  <a:pt x="4177" y="15270"/>
                  <a:pt x="4167" y="15230"/>
                </a:cubicBezTo>
                <a:cubicBezTo>
                  <a:pt x="4156" y="15185"/>
                  <a:pt x="4148" y="15131"/>
                  <a:pt x="4093" y="15106"/>
                </a:cubicBezTo>
                <a:cubicBezTo>
                  <a:pt x="4055" y="15089"/>
                  <a:pt x="4031" y="15081"/>
                  <a:pt x="3994" y="15106"/>
                </a:cubicBezTo>
                <a:cubicBezTo>
                  <a:pt x="3944" y="15140"/>
                  <a:pt x="3904" y="15250"/>
                  <a:pt x="3894" y="15304"/>
                </a:cubicBezTo>
                <a:cubicBezTo>
                  <a:pt x="3878" y="15388"/>
                  <a:pt x="3940" y="15441"/>
                  <a:pt x="3969" y="15503"/>
                </a:cubicBezTo>
                <a:cubicBezTo>
                  <a:pt x="3991" y="15550"/>
                  <a:pt x="4014" y="15553"/>
                  <a:pt x="4068" y="15553"/>
                </a:cubicBezTo>
                <a:cubicBezTo>
                  <a:pt x="4135" y="15553"/>
                  <a:pt x="4133" y="15516"/>
                  <a:pt x="4167" y="15478"/>
                </a:cubicBezTo>
                <a:cubicBezTo>
                  <a:pt x="4195" y="15447"/>
                  <a:pt x="4230" y="15416"/>
                  <a:pt x="4242" y="15379"/>
                </a:cubicBezTo>
                <a:cubicBezTo>
                  <a:pt x="4242" y="15351"/>
                  <a:pt x="4244" y="15340"/>
                  <a:pt x="4266" y="15329"/>
                </a:cubicBezTo>
                <a:cubicBezTo>
                  <a:pt x="4266" y="15417"/>
                  <a:pt x="4251" y="15493"/>
                  <a:pt x="4242" y="15577"/>
                </a:cubicBezTo>
                <a:cubicBezTo>
                  <a:pt x="4232" y="15668"/>
                  <a:pt x="4243" y="15789"/>
                  <a:pt x="4266" y="15875"/>
                </a:cubicBezTo>
                <a:cubicBezTo>
                  <a:pt x="4282" y="15934"/>
                  <a:pt x="4304" y="15989"/>
                  <a:pt x="4316" y="16049"/>
                </a:cubicBezTo>
              </a:path>
              <a:path w="4342" h="5954">
                <a:moveTo>
                  <a:pt x="3746" y="16024"/>
                </a:moveTo>
                <a:cubicBezTo>
                  <a:pt x="3901" y="16045"/>
                  <a:pt x="4039" y="16073"/>
                  <a:pt x="4192" y="16073"/>
                </a:cubicBezTo>
                <a:cubicBezTo>
                  <a:pt x="4299" y="16073"/>
                  <a:pt x="4391" y="16064"/>
                  <a:pt x="4490" y="16049"/>
                </a:cubicBezTo>
                <a:cubicBezTo>
                  <a:pt x="4531" y="16049"/>
                  <a:pt x="4539" y="16049"/>
                  <a:pt x="4564" y="16049"/>
                </a:cubicBezTo>
              </a:path>
              <a:path w="4342" h="5954">
                <a:moveTo>
                  <a:pt x="4018" y="16222"/>
                </a:moveTo>
                <a:cubicBezTo>
                  <a:pt x="4138" y="16250"/>
                  <a:pt x="4135" y="16240"/>
                  <a:pt x="4242" y="16222"/>
                </a:cubicBezTo>
                <a:cubicBezTo>
                  <a:pt x="4312" y="16210"/>
                  <a:pt x="4393" y="16222"/>
                  <a:pt x="4465" y="16222"/>
                </a:cubicBezTo>
                <a:cubicBezTo>
                  <a:pt x="4465" y="16267"/>
                  <a:pt x="4443" y="16281"/>
                  <a:pt x="4440" y="16321"/>
                </a:cubicBezTo>
                <a:cubicBezTo>
                  <a:pt x="4434" y="16407"/>
                  <a:pt x="4419" y="16485"/>
                  <a:pt x="4415" y="16570"/>
                </a:cubicBezTo>
                <a:cubicBezTo>
                  <a:pt x="4410" y="16681"/>
                  <a:pt x="4411" y="16796"/>
                  <a:pt x="4440" y="16892"/>
                </a:cubicBezTo>
                <a:cubicBezTo>
                  <a:pt x="4440" y="16920"/>
                  <a:pt x="4442" y="16931"/>
                  <a:pt x="4465" y="16942"/>
                </a:cubicBezTo>
                <a:cubicBezTo>
                  <a:pt x="4536" y="16888"/>
                  <a:pt x="4495" y="16951"/>
                  <a:pt x="4539" y="16818"/>
                </a:cubicBezTo>
              </a:path>
              <a:path w="4342" h="5954">
                <a:moveTo>
                  <a:pt x="4887" y="15825"/>
                </a:moveTo>
                <a:cubicBezTo>
                  <a:pt x="4987" y="15840"/>
                  <a:pt x="5062" y="15850"/>
                  <a:pt x="5159" y="15850"/>
                </a:cubicBezTo>
              </a:path>
              <a:path w="4342" h="5954">
                <a:moveTo>
                  <a:pt x="4911" y="16073"/>
                </a:moveTo>
                <a:cubicBezTo>
                  <a:pt x="5025" y="16111"/>
                  <a:pt x="5053" y="16127"/>
                  <a:pt x="5159" y="16073"/>
                </a:cubicBezTo>
              </a:path>
              <a:path w="4342" h="5954">
                <a:moveTo>
                  <a:pt x="5581" y="15776"/>
                </a:moveTo>
                <a:cubicBezTo>
                  <a:pt x="5664" y="15942"/>
                  <a:pt x="5733" y="16085"/>
                  <a:pt x="5854" y="16222"/>
                </a:cubicBezTo>
                <a:cubicBezTo>
                  <a:pt x="5901" y="16276"/>
                  <a:pt x="6014" y="16398"/>
                  <a:pt x="6102" y="16371"/>
                </a:cubicBezTo>
                <a:cubicBezTo>
                  <a:pt x="6110" y="16363"/>
                  <a:pt x="6119" y="16354"/>
                  <a:pt x="6127" y="16346"/>
                </a:cubicBezTo>
              </a:path>
              <a:path w="4342" h="5954">
                <a:moveTo>
                  <a:pt x="5928" y="15751"/>
                </a:moveTo>
                <a:cubicBezTo>
                  <a:pt x="5800" y="15829"/>
                  <a:pt x="5690" y="15918"/>
                  <a:pt x="5581" y="16024"/>
                </a:cubicBezTo>
                <a:cubicBezTo>
                  <a:pt x="5507" y="16096"/>
                  <a:pt x="5440" y="16160"/>
                  <a:pt x="5358" y="16222"/>
                </a:cubicBezTo>
              </a:path>
              <a:path w="4342" h="5954">
                <a:moveTo>
                  <a:pt x="3572" y="14858"/>
                </a:moveTo>
                <a:cubicBezTo>
                  <a:pt x="3542" y="15048"/>
                  <a:pt x="3546" y="15239"/>
                  <a:pt x="3522" y="15429"/>
                </a:cubicBezTo>
                <a:cubicBezTo>
                  <a:pt x="3499" y="15609"/>
                  <a:pt x="3530" y="15775"/>
                  <a:pt x="3522" y="15949"/>
                </a:cubicBezTo>
                <a:cubicBezTo>
                  <a:pt x="3516" y="16078"/>
                  <a:pt x="3517" y="16243"/>
                  <a:pt x="3497" y="16371"/>
                </a:cubicBezTo>
                <a:cubicBezTo>
                  <a:pt x="3497" y="16416"/>
                  <a:pt x="3501" y="16429"/>
                  <a:pt x="3473" y="16446"/>
                </a:cubicBezTo>
                <a:cubicBezTo>
                  <a:pt x="3473" y="16088"/>
                  <a:pt x="3497" y="15736"/>
                  <a:pt x="3497" y="15379"/>
                </a:cubicBezTo>
                <a:cubicBezTo>
                  <a:pt x="3497" y="15237"/>
                  <a:pt x="3502" y="15073"/>
                  <a:pt x="3522" y="14932"/>
                </a:cubicBezTo>
                <a:cubicBezTo>
                  <a:pt x="3534" y="14843"/>
                  <a:pt x="3524" y="14680"/>
                  <a:pt x="3572" y="14610"/>
                </a:cubicBezTo>
                <a:cubicBezTo>
                  <a:pt x="3628" y="14528"/>
                  <a:pt x="3665" y="14577"/>
                  <a:pt x="3746" y="14585"/>
                </a:cubicBezTo>
                <a:cubicBezTo>
                  <a:pt x="3896" y="14599"/>
                  <a:pt x="4023" y="14649"/>
                  <a:pt x="4167" y="14684"/>
                </a:cubicBezTo>
                <a:cubicBezTo>
                  <a:pt x="4491" y="14762"/>
                  <a:pt x="4831" y="14802"/>
                  <a:pt x="5159" y="14858"/>
                </a:cubicBezTo>
                <a:cubicBezTo>
                  <a:pt x="5337" y="14888"/>
                  <a:pt x="5500" y="14908"/>
                  <a:pt x="5680" y="14908"/>
                </a:cubicBezTo>
                <a:cubicBezTo>
                  <a:pt x="5763" y="14908"/>
                  <a:pt x="5896" y="14911"/>
                  <a:pt x="5978" y="14932"/>
                </a:cubicBezTo>
                <a:cubicBezTo>
                  <a:pt x="6045" y="14950"/>
                  <a:pt x="6091" y="14983"/>
                  <a:pt x="6127" y="15056"/>
                </a:cubicBezTo>
                <a:cubicBezTo>
                  <a:pt x="6153" y="15109"/>
                  <a:pt x="6170" y="15246"/>
                  <a:pt x="6176" y="15304"/>
                </a:cubicBezTo>
                <a:cubicBezTo>
                  <a:pt x="6190" y="15433"/>
                  <a:pt x="6198" y="15571"/>
                  <a:pt x="6201" y="15701"/>
                </a:cubicBezTo>
                <a:cubicBezTo>
                  <a:pt x="6205" y="15861"/>
                  <a:pt x="6240" y="16014"/>
                  <a:pt x="6251" y="16173"/>
                </a:cubicBezTo>
                <a:cubicBezTo>
                  <a:pt x="6262" y="16336"/>
                  <a:pt x="6291" y="16484"/>
                  <a:pt x="6325" y="16644"/>
                </a:cubicBezTo>
                <a:cubicBezTo>
                  <a:pt x="6348" y="16752"/>
                  <a:pt x="6387" y="16858"/>
                  <a:pt x="6400" y="16966"/>
                </a:cubicBezTo>
                <a:cubicBezTo>
                  <a:pt x="6405" y="17013"/>
                  <a:pt x="6434" y="17100"/>
                  <a:pt x="6424" y="17140"/>
                </a:cubicBezTo>
                <a:cubicBezTo>
                  <a:pt x="6423" y="17143"/>
                  <a:pt x="6382" y="17174"/>
                  <a:pt x="6375" y="17190"/>
                </a:cubicBezTo>
                <a:cubicBezTo>
                  <a:pt x="6317" y="17187"/>
                  <a:pt x="6245" y="17168"/>
                  <a:pt x="6201" y="17165"/>
                </a:cubicBezTo>
                <a:cubicBezTo>
                  <a:pt x="6142" y="17161"/>
                  <a:pt x="6081" y="17145"/>
                  <a:pt x="6028" y="17140"/>
                </a:cubicBezTo>
                <a:cubicBezTo>
                  <a:pt x="5893" y="17128"/>
                  <a:pt x="5810" y="17104"/>
                  <a:pt x="5680" y="17066"/>
                </a:cubicBezTo>
                <a:cubicBezTo>
                  <a:pt x="5457" y="17001"/>
                  <a:pt x="5231" y="16923"/>
                  <a:pt x="5011" y="16842"/>
                </a:cubicBezTo>
                <a:cubicBezTo>
                  <a:pt x="4635" y="16703"/>
                  <a:pt x="4270" y="16615"/>
                  <a:pt x="3870" y="16570"/>
                </a:cubicBezTo>
                <a:cubicBezTo>
                  <a:pt x="3548" y="16545"/>
                  <a:pt x="3441" y="16537"/>
                  <a:pt x="3225" y="1654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97280" y="1751040"/>
            <a:ext cx="438120" cy="490680"/>
          </a:xfrm>
          <a:custGeom>
            <a:avLst/>
            <a:gdLst/>
            <a:ahLst/>
            <a:rect l="l" t="t" r="r" b="b"/>
            <a:pathLst>
              <a:path w="1217" h="1365">
                <a:moveTo>
                  <a:pt x="13196" y="5432"/>
                </a:moveTo>
                <a:cubicBezTo>
                  <a:pt x="13167" y="5394"/>
                  <a:pt x="13171" y="5381"/>
                  <a:pt x="13171" y="5333"/>
                </a:cubicBezTo>
                <a:cubicBezTo>
                  <a:pt x="13171" y="5298"/>
                  <a:pt x="13198" y="5259"/>
                  <a:pt x="13221" y="5234"/>
                </a:cubicBezTo>
                <a:cubicBezTo>
                  <a:pt x="13271" y="5178"/>
                  <a:pt x="13321" y="5172"/>
                  <a:pt x="13370" y="5234"/>
                </a:cubicBezTo>
                <a:cubicBezTo>
                  <a:pt x="13468" y="5358"/>
                  <a:pt x="13490" y="5449"/>
                  <a:pt x="13494" y="5606"/>
                </a:cubicBezTo>
                <a:cubicBezTo>
                  <a:pt x="13498" y="5744"/>
                  <a:pt x="13500" y="5899"/>
                  <a:pt x="13444" y="6028"/>
                </a:cubicBezTo>
                <a:cubicBezTo>
                  <a:pt x="13415" y="6096"/>
                  <a:pt x="13321" y="6205"/>
                  <a:pt x="13246" y="6226"/>
                </a:cubicBezTo>
                <a:cubicBezTo>
                  <a:pt x="13203" y="6238"/>
                  <a:pt x="13095" y="6222"/>
                  <a:pt x="13072" y="6176"/>
                </a:cubicBezTo>
                <a:cubicBezTo>
                  <a:pt x="13024" y="6081"/>
                  <a:pt x="13054" y="5969"/>
                  <a:pt x="13097" y="5879"/>
                </a:cubicBezTo>
                <a:cubicBezTo>
                  <a:pt x="13136" y="5797"/>
                  <a:pt x="13213" y="5778"/>
                  <a:pt x="13295" y="5829"/>
                </a:cubicBezTo>
                <a:cubicBezTo>
                  <a:pt x="13376" y="5880"/>
                  <a:pt x="13408" y="5961"/>
                  <a:pt x="13444" y="6028"/>
                </a:cubicBezTo>
                <a:cubicBezTo>
                  <a:pt x="13460" y="6057"/>
                  <a:pt x="13474" y="6075"/>
                  <a:pt x="13494" y="6102"/>
                </a:cubicBezTo>
                <a:cubicBezTo>
                  <a:pt x="13494" y="6036"/>
                  <a:pt x="13511" y="5987"/>
                  <a:pt x="13519" y="5928"/>
                </a:cubicBezTo>
                <a:cubicBezTo>
                  <a:pt x="13519" y="5852"/>
                  <a:pt x="13519" y="5826"/>
                  <a:pt x="13543" y="5779"/>
                </a:cubicBezTo>
              </a:path>
              <a:path w="1217" h="1365">
                <a:moveTo>
                  <a:pt x="13593" y="5383"/>
                </a:moveTo>
                <a:cubicBezTo>
                  <a:pt x="13567" y="5546"/>
                  <a:pt x="13543" y="5689"/>
                  <a:pt x="13543" y="5854"/>
                </a:cubicBezTo>
                <a:cubicBezTo>
                  <a:pt x="13543" y="5972"/>
                  <a:pt x="13548" y="6087"/>
                  <a:pt x="13692" y="6028"/>
                </a:cubicBezTo>
                <a:cubicBezTo>
                  <a:pt x="13759" y="6000"/>
                  <a:pt x="13806" y="5900"/>
                  <a:pt x="13816" y="5829"/>
                </a:cubicBezTo>
                <a:cubicBezTo>
                  <a:pt x="13825" y="5761"/>
                  <a:pt x="13821" y="5591"/>
                  <a:pt x="13791" y="5531"/>
                </a:cubicBezTo>
                <a:cubicBezTo>
                  <a:pt x="13755" y="5459"/>
                  <a:pt x="13654" y="5403"/>
                  <a:pt x="13593" y="5358"/>
                </a:cubicBezTo>
                <a:cubicBezTo>
                  <a:pt x="13585" y="5350"/>
                  <a:pt x="13576" y="5341"/>
                  <a:pt x="13568" y="5333"/>
                </a:cubicBezTo>
              </a:path>
              <a:path w="1217" h="1365">
                <a:moveTo>
                  <a:pt x="13593" y="4862"/>
                </a:moveTo>
                <a:cubicBezTo>
                  <a:pt x="13801" y="4882"/>
                  <a:pt x="13861" y="4935"/>
                  <a:pt x="14015" y="5085"/>
                </a:cubicBezTo>
                <a:cubicBezTo>
                  <a:pt x="14150" y="5216"/>
                  <a:pt x="14193" y="5304"/>
                  <a:pt x="14238" y="5482"/>
                </a:cubicBezTo>
                <a:cubicBezTo>
                  <a:pt x="14269" y="5605"/>
                  <a:pt x="14274" y="5709"/>
                  <a:pt x="14238" y="5829"/>
                </a:cubicBezTo>
                <a:cubicBezTo>
                  <a:pt x="14231" y="5853"/>
                  <a:pt x="14179" y="6028"/>
                  <a:pt x="14139" y="6028"/>
                </a:cubicBezTo>
                <a:cubicBezTo>
                  <a:pt x="14082" y="6028"/>
                  <a:pt x="14127" y="6001"/>
                  <a:pt x="14139" y="597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83160" y="1687680"/>
            <a:ext cx="320760" cy="492120"/>
          </a:xfrm>
          <a:custGeom>
            <a:avLst/>
            <a:gdLst/>
            <a:ahLst/>
            <a:rect l="l" t="t" r="r" b="b"/>
            <a:pathLst>
              <a:path w="894" h="1365">
                <a:moveTo>
                  <a:pt x="15230" y="4688"/>
                </a:moveTo>
                <a:cubicBezTo>
                  <a:pt x="15245" y="4760"/>
                  <a:pt x="15273" y="4834"/>
                  <a:pt x="15280" y="4911"/>
                </a:cubicBezTo>
                <a:cubicBezTo>
                  <a:pt x="15297" y="5099"/>
                  <a:pt x="15296" y="5297"/>
                  <a:pt x="15329" y="5482"/>
                </a:cubicBezTo>
                <a:cubicBezTo>
                  <a:pt x="15351" y="5607"/>
                  <a:pt x="15354" y="5725"/>
                  <a:pt x="15354" y="5854"/>
                </a:cubicBezTo>
                <a:cubicBezTo>
                  <a:pt x="15354" y="5856"/>
                  <a:pt x="15362" y="6073"/>
                  <a:pt x="15379" y="6052"/>
                </a:cubicBezTo>
                <a:cubicBezTo>
                  <a:pt x="15387" y="6027"/>
                  <a:pt x="15396" y="6003"/>
                  <a:pt x="15404" y="5978"/>
                </a:cubicBezTo>
              </a:path>
              <a:path w="894" h="1365">
                <a:moveTo>
                  <a:pt x="15602" y="5507"/>
                </a:moveTo>
                <a:cubicBezTo>
                  <a:pt x="15636" y="5640"/>
                  <a:pt x="15670" y="5767"/>
                  <a:pt x="15677" y="5904"/>
                </a:cubicBezTo>
                <a:cubicBezTo>
                  <a:pt x="15680" y="5961"/>
                  <a:pt x="15682" y="5962"/>
                  <a:pt x="15652" y="6003"/>
                </a:cubicBezTo>
                <a:cubicBezTo>
                  <a:pt x="15652" y="5942"/>
                  <a:pt x="15663" y="5886"/>
                  <a:pt x="15677" y="5829"/>
                </a:cubicBezTo>
                <a:cubicBezTo>
                  <a:pt x="15702" y="5730"/>
                  <a:pt x="15753" y="5644"/>
                  <a:pt x="15801" y="5556"/>
                </a:cubicBezTo>
                <a:cubicBezTo>
                  <a:pt x="15846" y="5473"/>
                  <a:pt x="15939" y="5417"/>
                  <a:pt x="16024" y="5507"/>
                </a:cubicBezTo>
                <a:cubicBezTo>
                  <a:pt x="16074" y="5560"/>
                  <a:pt x="16095" y="5732"/>
                  <a:pt x="16098" y="5804"/>
                </a:cubicBezTo>
                <a:cubicBezTo>
                  <a:pt x="16098" y="5812"/>
                  <a:pt x="16088" y="6035"/>
                  <a:pt x="16123" y="5953"/>
                </a:cubicBezTo>
                <a:cubicBezTo>
                  <a:pt x="16123" y="5945"/>
                  <a:pt x="16123" y="5936"/>
                  <a:pt x="16123" y="592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19840" y="1901880"/>
            <a:ext cx="179280" cy="260280"/>
          </a:xfrm>
          <a:custGeom>
            <a:avLst/>
            <a:gdLst/>
            <a:ahLst/>
            <a:rect l="l" t="t" r="r" b="b"/>
            <a:pathLst>
              <a:path w="497" h="721">
                <a:moveTo>
                  <a:pt x="16446" y="5680"/>
                </a:moveTo>
                <a:cubicBezTo>
                  <a:pt x="16681" y="5624"/>
                  <a:pt x="16657" y="5640"/>
                  <a:pt x="16793" y="5531"/>
                </a:cubicBezTo>
                <a:cubicBezTo>
                  <a:pt x="16846" y="5489"/>
                  <a:pt x="16879" y="5448"/>
                  <a:pt x="16892" y="5383"/>
                </a:cubicBezTo>
                <a:cubicBezTo>
                  <a:pt x="16902" y="5334"/>
                  <a:pt x="16877" y="5323"/>
                  <a:pt x="16867" y="5283"/>
                </a:cubicBezTo>
                <a:cubicBezTo>
                  <a:pt x="16810" y="5283"/>
                  <a:pt x="16738" y="5287"/>
                  <a:pt x="16694" y="5333"/>
                </a:cubicBezTo>
                <a:cubicBezTo>
                  <a:pt x="16605" y="5427"/>
                  <a:pt x="16532" y="5560"/>
                  <a:pt x="16495" y="5680"/>
                </a:cubicBezTo>
                <a:cubicBezTo>
                  <a:pt x="16472" y="5753"/>
                  <a:pt x="16441" y="5866"/>
                  <a:pt x="16495" y="5928"/>
                </a:cubicBezTo>
                <a:cubicBezTo>
                  <a:pt x="16553" y="5994"/>
                  <a:pt x="16619" y="6001"/>
                  <a:pt x="16694" y="5978"/>
                </a:cubicBezTo>
                <a:cubicBezTo>
                  <a:pt x="16822" y="5939"/>
                  <a:pt x="16864" y="5911"/>
                  <a:pt x="16942" y="580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32680" y="1554120"/>
            <a:ext cx="1071360" cy="482760"/>
          </a:xfrm>
          <a:custGeom>
            <a:avLst/>
            <a:gdLst/>
            <a:ahLst/>
            <a:rect l="l" t="t" r="r" b="b"/>
            <a:pathLst>
              <a:path w="2977" h="1340">
                <a:moveTo>
                  <a:pt x="17363" y="4440"/>
                </a:moveTo>
                <a:cubicBezTo>
                  <a:pt x="17355" y="4529"/>
                  <a:pt x="17333" y="4604"/>
                  <a:pt x="17314" y="4688"/>
                </a:cubicBezTo>
                <a:cubicBezTo>
                  <a:pt x="17309" y="4711"/>
                  <a:pt x="17305" y="4780"/>
                  <a:pt x="17338" y="4787"/>
                </a:cubicBezTo>
                <a:cubicBezTo>
                  <a:pt x="17393" y="4799"/>
                  <a:pt x="17491" y="4784"/>
                  <a:pt x="17537" y="4762"/>
                </a:cubicBezTo>
                <a:cubicBezTo>
                  <a:pt x="17545" y="4754"/>
                  <a:pt x="17554" y="4746"/>
                  <a:pt x="17562" y="4738"/>
                </a:cubicBezTo>
              </a:path>
              <a:path w="2977" h="1340">
                <a:moveTo>
                  <a:pt x="17636" y="4316"/>
                </a:moveTo>
                <a:cubicBezTo>
                  <a:pt x="17610" y="4482"/>
                  <a:pt x="17580" y="4647"/>
                  <a:pt x="17562" y="4812"/>
                </a:cubicBezTo>
                <a:cubicBezTo>
                  <a:pt x="17560" y="4833"/>
                  <a:pt x="17567" y="4986"/>
                  <a:pt x="17587" y="4986"/>
                </a:cubicBezTo>
                <a:cubicBezTo>
                  <a:pt x="17587" y="4978"/>
                  <a:pt x="17587" y="4969"/>
                  <a:pt x="17587" y="4961"/>
                </a:cubicBezTo>
              </a:path>
              <a:path w="2977" h="1340">
                <a:moveTo>
                  <a:pt x="17785" y="4514"/>
                </a:moveTo>
                <a:cubicBezTo>
                  <a:pt x="17908" y="4599"/>
                  <a:pt x="17939" y="4632"/>
                  <a:pt x="18008" y="4762"/>
                </a:cubicBezTo>
                <a:cubicBezTo>
                  <a:pt x="18034" y="4811"/>
                  <a:pt x="18077" y="4856"/>
                  <a:pt x="18132" y="4862"/>
                </a:cubicBezTo>
                <a:cubicBezTo>
                  <a:pt x="18140" y="4862"/>
                  <a:pt x="18149" y="4862"/>
                  <a:pt x="18157" y="4862"/>
                </a:cubicBezTo>
              </a:path>
              <a:path w="2977" h="1340">
                <a:moveTo>
                  <a:pt x="18058" y="4589"/>
                </a:moveTo>
                <a:cubicBezTo>
                  <a:pt x="17983" y="4739"/>
                  <a:pt x="17910" y="4921"/>
                  <a:pt x="17810" y="5060"/>
                </a:cubicBezTo>
                <a:cubicBezTo>
                  <a:pt x="17787" y="5083"/>
                  <a:pt x="17779" y="5087"/>
                  <a:pt x="17785" y="5110"/>
                </a:cubicBezTo>
              </a:path>
              <a:path w="2977" h="1340">
                <a:moveTo>
                  <a:pt x="18405" y="4986"/>
                </a:moveTo>
                <a:cubicBezTo>
                  <a:pt x="18562" y="5015"/>
                  <a:pt x="18621" y="5035"/>
                  <a:pt x="18752" y="5035"/>
                </a:cubicBezTo>
              </a:path>
              <a:path w="2977" h="1340">
                <a:moveTo>
                  <a:pt x="18430" y="5407"/>
                </a:moveTo>
                <a:cubicBezTo>
                  <a:pt x="18529" y="5407"/>
                  <a:pt x="18640" y="5417"/>
                  <a:pt x="18728" y="5358"/>
                </a:cubicBezTo>
                <a:cubicBezTo>
                  <a:pt x="18744" y="5341"/>
                  <a:pt x="18761" y="5325"/>
                  <a:pt x="18777" y="5308"/>
                </a:cubicBezTo>
              </a:path>
              <a:path w="2977" h="1340">
                <a:moveTo>
                  <a:pt x="19075" y="4787"/>
                </a:moveTo>
                <a:cubicBezTo>
                  <a:pt x="19075" y="5004"/>
                  <a:pt x="19067" y="5224"/>
                  <a:pt x="19100" y="5432"/>
                </a:cubicBezTo>
                <a:cubicBezTo>
                  <a:pt x="19110" y="5498"/>
                  <a:pt x="19126" y="5532"/>
                  <a:pt x="19199" y="5556"/>
                </a:cubicBezTo>
                <a:cubicBezTo>
                  <a:pt x="19256" y="5575"/>
                  <a:pt x="19341" y="5561"/>
                  <a:pt x="19372" y="5507"/>
                </a:cubicBezTo>
                <a:cubicBezTo>
                  <a:pt x="19425" y="5412"/>
                  <a:pt x="19472" y="5315"/>
                  <a:pt x="19472" y="5209"/>
                </a:cubicBezTo>
                <a:cubicBezTo>
                  <a:pt x="19406" y="5209"/>
                  <a:pt x="19396" y="5246"/>
                  <a:pt x="19372" y="5308"/>
                </a:cubicBezTo>
                <a:cubicBezTo>
                  <a:pt x="19348" y="5370"/>
                  <a:pt x="19291" y="5494"/>
                  <a:pt x="19298" y="5556"/>
                </a:cubicBezTo>
                <a:cubicBezTo>
                  <a:pt x="19306" y="5627"/>
                  <a:pt x="19370" y="5648"/>
                  <a:pt x="19422" y="5655"/>
                </a:cubicBezTo>
              </a:path>
              <a:path w="2977" h="1340">
                <a:moveTo>
                  <a:pt x="19670" y="4986"/>
                </a:moveTo>
                <a:cubicBezTo>
                  <a:pt x="19649" y="5108"/>
                  <a:pt x="19555" y="5431"/>
                  <a:pt x="19645" y="5556"/>
                </a:cubicBezTo>
                <a:cubicBezTo>
                  <a:pt x="19683" y="5608"/>
                  <a:pt x="19813" y="5629"/>
                  <a:pt x="19869" y="5631"/>
                </a:cubicBezTo>
                <a:cubicBezTo>
                  <a:pt x="19984" y="5636"/>
                  <a:pt x="20068" y="5568"/>
                  <a:pt x="20141" y="5482"/>
                </a:cubicBezTo>
                <a:cubicBezTo>
                  <a:pt x="20212" y="5398"/>
                  <a:pt x="20270" y="5268"/>
                  <a:pt x="20290" y="5159"/>
                </a:cubicBezTo>
                <a:cubicBezTo>
                  <a:pt x="20302" y="5093"/>
                  <a:pt x="20256" y="5026"/>
                  <a:pt x="20191" y="5011"/>
                </a:cubicBezTo>
                <a:cubicBezTo>
                  <a:pt x="20078" y="4985"/>
                  <a:pt x="20007" y="5001"/>
                  <a:pt x="19893" y="5011"/>
                </a:cubicBezTo>
                <a:cubicBezTo>
                  <a:pt x="19860" y="5011"/>
                  <a:pt x="19827" y="5011"/>
                  <a:pt x="19794" y="50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59280" y="2616120"/>
            <a:ext cx="1420920" cy="884160"/>
          </a:xfrm>
          <a:custGeom>
            <a:avLst/>
            <a:gdLst/>
            <a:ahLst/>
            <a:rect l="l" t="t" r="r" b="b"/>
            <a:pathLst>
              <a:path w="3945" h="2456">
                <a:moveTo>
                  <a:pt x="16098" y="7466"/>
                </a:moveTo>
                <a:cubicBezTo>
                  <a:pt x="16098" y="7522"/>
                  <a:pt x="16078" y="7500"/>
                  <a:pt x="16073" y="7541"/>
                </a:cubicBezTo>
                <a:cubicBezTo>
                  <a:pt x="16068" y="7584"/>
                  <a:pt x="16040" y="7621"/>
                  <a:pt x="16024" y="7665"/>
                </a:cubicBezTo>
                <a:cubicBezTo>
                  <a:pt x="15998" y="7736"/>
                  <a:pt x="15999" y="7789"/>
                  <a:pt x="15999" y="7863"/>
                </a:cubicBezTo>
                <a:cubicBezTo>
                  <a:pt x="15999" y="7892"/>
                  <a:pt x="16040" y="7912"/>
                  <a:pt x="16073" y="7913"/>
                </a:cubicBezTo>
                <a:cubicBezTo>
                  <a:pt x="16185" y="7918"/>
                  <a:pt x="16287" y="7933"/>
                  <a:pt x="16396" y="7938"/>
                </a:cubicBezTo>
                <a:cubicBezTo>
                  <a:pt x="16479" y="7942"/>
                  <a:pt x="16544" y="7923"/>
                  <a:pt x="16619" y="7913"/>
                </a:cubicBezTo>
                <a:cubicBezTo>
                  <a:pt x="16681" y="7913"/>
                  <a:pt x="16696" y="7923"/>
                  <a:pt x="16718" y="7888"/>
                </a:cubicBezTo>
              </a:path>
              <a:path w="3945" h="2456">
                <a:moveTo>
                  <a:pt x="16594" y="7268"/>
                </a:moveTo>
                <a:cubicBezTo>
                  <a:pt x="16578" y="7470"/>
                  <a:pt x="16570" y="7661"/>
                  <a:pt x="16570" y="7863"/>
                </a:cubicBezTo>
                <a:cubicBezTo>
                  <a:pt x="16570" y="7974"/>
                  <a:pt x="16594" y="8074"/>
                  <a:pt x="16594" y="8186"/>
                </a:cubicBezTo>
                <a:cubicBezTo>
                  <a:pt x="16594" y="8251"/>
                  <a:pt x="16576" y="8298"/>
                  <a:pt x="16570" y="8359"/>
                </a:cubicBezTo>
                <a:cubicBezTo>
                  <a:pt x="16562" y="8444"/>
                  <a:pt x="16585" y="8381"/>
                  <a:pt x="16594" y="8334"/>
                </a:cubicBezTo>
              </a:path>
              <a:path w="3945" h="2456">
                <a:moveTo>
                  <a:pt x="16942" y="7813"/>
                </a:moveTo>
                <a:cubicBezTo>
                  <a:pt x="16967" y="7948"/>
                  <a:pt x="16974" y="8059"/>
                  <a:pt x="17066" y="8161"/>
                </a:cubicBezTo>
                <a:cubicBezTo>
                  <a:pt x="17126" y="8228"/>
                  <a:pt x="17159" y="8290"/>
                  <a:pt x="17239" y="8334"/>
                </a:cubicBezTo>
                <a:cubicBezTo>
                  <a:pt x="17267" y="8350"/>
                  <a:pt x="17383" y="8396"/>
                  <a:pt x="17413" y="8384"/>
                </a:cubicBezTo>
                <a:cubicBezTo>
                  <a:pt x="17436" y="8375"/>
                  <a:pt x="17469" y="8328"/>
                  <a:pt x="17487" y="8310"/>
                </a:cubicBezTo>
              </a:path>
              <a:path w="3945" h="2456">
                <a:moveTo>
                  <a:pt x="17115" y="7913"/>
                </a:moveTo>
                <a:cubicBezTo>
                  <a:pt x="17069" y="8029"/>
                  <a:pt x="17023" y="8203"/>
                  <a:pt x="16942" y="8310"/>
                </a:cubicBezTo>
                <a:cubicBezTo>
                  <a:pt x="16889" y="8381"/>
                  <a:pt x="16955" y="8296"/>
                  <a:pt x="16966" y="8285"/>
                </a:cubicBezTo>
              </a:path>
              <a:path w="3945" h="2456">
                <a:moveTo>
                  <a:pt x="17562" y="7962"/>
                </a:moveTo>
                <a:cubicBezTo>
                  <a:pt x="17690" y="7962"/>
                  <a:pt x="17788" y="7960"/>
                  <a:pt x="17909" y="7938"/>
                </a:cubicBezTo>
                <a:cubicBezTo>
                  <a:pt x="17917" y="7938"/>
                  <a:pt x="17926" y="7938"/>
                  <a:pt x="17934" y="7938"/>
                </a:cubicBezTo>
              </a:path>
              <a:path w="3945" h="2456">
                <a:moveTo>
                  <a:pt x="17661" y="8111"/>
                </a:moveTo>
                <a:cubicBezTo>
                  <a:pt x="17701" y="8141"/>
                  <a:pt x="17755" y="8148"/>
                  <a:pt x="17810" y="8136"/>
                </a:cubicBezTo>
                <a:cubicBezTo>
                  <a:pt x="17904" y="8115"/>
                  <a:pt x="17989" y="8085"/>
                  <a:pt x="18083" y="8062"/>
                </a:cubicBezTo>
              </a:path>
              <a:path w="3945" h="2456">
                <a:moveTo>
                  <a:pt x="18653" y="7466"/>
                </a:moveTo>
                <a:cubicBezTo>
                  <a:pt x="18661" y="7458"/>
                  <a:pt x="18670" y="7449"/>
                  <a:pt x="18678" y="7441"/>
                </a:cubicBezTo>
                <a:cubicBezTo>
                  <a:pt x="18708" y="7456"/>
                  <a:pt x="18669" y="7509"/>
                  <a:pt x="18653" y="7565"/>
                </a:cubicBezTo>
                <a:cubicBezTo>
                  <a:pt x="18618" y="7688"/>
                  <a:pt x="18546" y="7813"/>
                  <a:pt x="18529" y="7938"/>
                </a:cubicBezTo>
                <a:cubicBezTo>
                  <a:pt x="18514" y="8042"/>
                  <a:pt x="18539" y="8139"/>
                  <a:pt x="18554" y="8235"/>
                </a:cubicBezTo>
                <a:cubicBezTo>
                  <a:pt x="18564" y="8296"/>
                  <a:pt x="18610" y="8337"/>
                  <a:pt x="18678" y="8359"/>
                </a:cubicBezTo>
                <a:cubicBezTo>
                  <a:pt x="18729" y="8376"/>
                  <a:pt x="18814" y="8343"/>
                  <a:pt x="18852" y="8310"/>
                </a:cubicBezTo>
                <a:cubicBezTo>
                  <a:pt x="18963" y="8213"/>
                  <a:pt x="19004" y="8130"/>
                  <a:pt x="19050" y="8012"/>
                </a:cubicBezTo>
                <a:cubicBezTo>
                  <a:pt x="19074" y="7964"/>
                  <a:pt x="19082" y="7950"/>
                  <a:pt x="19075" y="7913"/>
                </a:cubicBezTo>
                <a:cubicBezTo>
                  <a:pt x="19031" y="7880"/>
                  <a:pt x="19004" y="7877"/>
                  <a:pt x="18951" y="7913"/>
                </a:cubicBezTo>
                <a:cubicBezTo>
                  <a:pt x="18870" y="7968"/>
                  <a:pt x="18856" y="8049"/>
                  <a:pt x="18827" y="8136"/>
                </a:cubicBezTo>
                <a:cubicBezTo>
                  <a:pt x="18804" y="8205"/>
                  <a:pt x="18779" y="8275"/>
                  <a:pt x="18827" y="8334"/>
                </a:cubicBezTo>
                <a:cubicBezTo>
                  <a:pt x="18849" y="8356"/>
                  <a:pt x="18854" y="8365"/>
                  <a:pt x="18876" y="8359"/>
                </a:cubicBezTo>
              </a:path>
              <a:path w="3945" h="2456">
                <a:moveTo>
                  <a:pt x="19348" y="7565"/>
                </a:moveTo>
                <a:cubicBezTo>
                  <a:pt x="19319" y="7693"/>
                  <a:pt x="19261" y="7832"/>
                  <a:pt x="19248" y="7962"/>
                </a:cubicBezTo>
                <a:cubicBezTo>
                  <a:pt x="19237" y="8076"/>
                  <a:pt x="19237" y="8204"/>
                  <a:pt x="19273" y="8310"/>
                </a:cubicBezTo>
                <a:cubicBezTo>
                  <a:pt x="19294" y="8371"/>
                  <a:pt x="19354" y="8463"/>
                  <a:pt x="19422" y="8483"/>
                </a:cubicBezTo>
                <a:cubicBezTo>
                  <a:pt x="19481" y="8500"/>
                  <a:pt x="19596" y="8491"/>
                  <a:pt x="19645" y="8458"/>
                </a:cubicBezTo>
                <a:cubicBezTo>
                  <a:pt x="19818" y="8341"/>
                  <a:pt x="19902" y="8107"/>
                  <a:pt x="19943" y="7913"/>
                </a:cubicBezTo>
                <a:cubicBezTo>
                  <a:pt x="19965" y="7808"/>
                  <a:pt x="19907" y="7671"/>
                  <a:pt x="19844" y="7590"/>
                </a:cubicBezTo>
                <a:cubicBezTo>
                  <a:pt x="19785" y="7514"/>
                  <a:pt x="19638" y="7478"/>
                  <a:pt x="19546" y="7466"/>
                </a:cubicBezTo>
                <a:cubicBezTo>
                  <a:pt x="19472" y="7466"/>
                  <a:pt x="19447" y="7466"/>
                  <a:pt x="19397" y="7466"/>
                </a:cubicBezTo>
              </a:path>
              <a:path w="3945" h="2456">
                <a:moveTo>
                  <a:pt x="16247" y="8657"/>
                </a:moveTo>
                <a:cubicBezTo>
                  <a:pt x="16342" y="8657"/>
                  <a:pt x="16425" y="8693"/>
                  <a:pt x="16520" y="8682"/>
                </a:cubicBezTo>
                <a:cubicBezTo>
                  <a:pt x="16654" y="8667"/>
                  <a:pt x="16781" y="8636"/>
                  <a:pt x="16917" y="8632"/>
                </a:cubicBezTo>
                <a:cubicBezTo>
                  <a:pt x="17011" y="8629"/>
                  <a:pt x="17096" y="8607"/>
                  <a:pt x="17190" y="8607"/>
                </a:cubicBezTo>
              </a:path>
              <a:path w="3945" h="2456">
                <a:moveTo>
                  <a:pt x="16644" y="9004"/>
                </a:moveTo>
                <a:cubicBezTo>
                  <a:pt x="16616" y="9078"/>
                  <a:pt x="16631" y="9177"/>
                  <a:pt x="16570" y="9227"/>
                </a:cubicBezTo>
                <a:cubicBezTo>
                  <a:pt x="16545" y="9227"/>
                  <a:pt x="16537" y="9227"/>
                  <a:pt x="16545" y="9252"/>
                </a:cubicBezTo>
                <a:cubicBezTo>
                  <a:pt x="16554" y="9280"/>
                  <a:pt x="16579" y="9299"/>
                  <a:pt x="16619" y="9302"/>
                </a:cubicBezTo>
                <a:cubicBezTo>
                  <a:pt x="16736" y="9310"/>
                  <a:pt x="16886" y="9317"/>
                  <a:pt x="16991" y="9277"/>
                </a:cubicBezTo>
                <a:cubicBezTo>
                  <a:pt x="17035" y="9255"/>
                  <a:pt x="17047" y="9252"/>
                  <a:pt x="17066" y="9227"/>
                </a:cubicBezTo>
              </a:path>
              <a:path w="3945" h="2456">
                <a:moveTo>
                  <a:pt x="17066" y="8806"/>
                </a:moveTo>
                <a:cubicBezTo>
                  <a:pt x="17018" y="8996"/>
                  <a:pt x="16991" y="9134"/>
                  <a:pt x="16991" y="9327"/>
                </a:cubicBezTo>
                <a:cubicBezTo>
                  <a:pt x="16991" y="9443"/>
                  <a:pt x="16995" y="9538"/>
                  <a:pt x="17016" y="9649"/>
                </a:cubicBezTo>
                <a:cubicBezTo>
                  <a:pt x="17024" y="9692"/>
                  <a:pt x="17032" y="9743"/>
                  <a:pt x="17090" y="9723"/>
                </a:cubicBezTo>
                <a:cubicBezTo>
                  <a:pt x="17140" y="9699"/>
                  <a:pt x="17157" y="9691"/>
                  <a:pt x="17190" y="96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42080" y="3081240"/>
            <a:ext cx="347760" cy="27000"/>
          </a:xfrm>
          <a:custGeom>
            <a:avLst/>
            <a:gdLst/>
            <a:ahLst/>
            <a:rect l="l" t="t" r="r" b="b"/>
            <a:pathLst>
              <a:path w="968" h="75">
                <a:moveTo>
                  <a:pt x="18728" y="8607"/>
                </a:moveTo>
                <a:cubicBezTo>
                  <a:pt x="18922" y="8620"/>
                  <a:pt x="19170" y="8660"/>
                  <a:pt x="19372" y="8632"/>
                </a:cubicBezTo>
                <a:cubicBezTo>
                  <a:pt x="19456" y="8620"/>
                  <a:pt x="19593" y="8614"/>
                  <a:pt x="19670" y="8582"/>
                </a:cubicBezTo>
                <a:cubicBezTo>
                  <a:pt x="19678" y="8574"/>
                  <a:pt x="19687" y="8566"/>
                  <a:pt x="19695" y="85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96080" y="3205080"/>
            <a:ext cx="196920" cy="100080"/>
          </a:xfrm>
          <a:custGeom>
            <a:avLst/>
            <a:gdLst/>
            <a:ahLst/>
            <a:rect l="l" t="t" r="r" b="b"/>
            <a:pathLst>
              <a:path w="547" h="274">
                <a:moveTo>
                  <a:pt x="18926" y="8905"/>
                </a:moveTo>
                <a:cubicBezTo>
                  <a:pt x="18895" y="8987"/>
                  <a:pt x="18844" y="9039"/>
                  <a:pt x="18901" y="9103"/>
                </a:cubicBezTo>
                <a:cubicBezTo>
                  <a:pt x="18958" y="9166"/>
                  <a:pt x="18977" y="9133"/>
                  <a:pt x="19050" y="9153"/>
                </a:cubicBezTo>
                <a:cubicBezTo>
                  <a:pt x="19114" y="9171"/>
                  <a:pt x="19235" y="9192"/>
                  <a:pt x="19298" y="9153"/>
                </a:cubicBezTo>
                <a:cubicBezTo>
                  <a:pt x="19369" y="9082"/>
                  <a:pt x="19391" y="9062"/>
                  <a:pt x="19422" y="900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39000" y="3116160"/>
            <a:ext cx="44280" cy="357120"/>
          </a:xfrm>
          <a:custGeom>
            <a:avLst/>
            <a:gdLst/>
            <a:ahLst/>
            <a:rect l="l" t="t" r="r" b="b"/>
            <a:pathLst>
              <a:path w="125" h="993">
                <a:moveTo>
                  <a:pt x="19397" y="8657"/>
                </a:moveTo>
                <a:cubicBezTo>
                  <a:pt x="19372" y="8838"/>
                  <a:pt x="19351" y="9024"/>
                  <a:pt x="19323" y="9203"/>
                </a:cubicBezTo>
                <a:cubicBezTo>
                  <a:pt x="19300" y="9352"/>
                  <a:pt x="19297" y="9499"/>
                  <a:pt x="19273" y="96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97760" y="3759120"/>
            <a:ext cx="231480" cy="285840"/>
          </a:xfrm>
          <a:custGeom>
            <a:avLst/>
            <a:gdLst/>
            <a:ahLst/>
            <a:rect l="l" t="t" r="r" b="b"/>
            <a:pathLst>
              <a:path w="646" h="795">
                <a:moveTo>
                  <a:pt x="17214" y="10443"/>
                </a:moveTo>
                <a:cubicBezTo>
                  <a:pt x="17296" y="10574"/>
                  <a:pt x="17358" y="10710"/>
                  <a:pt x="17438" y="10840"/>
                </a:cubicBezTo>
                <a:cubicBezTo>
                  <a:pt x="17504" y="10946"/>
                  <a:pt x="17594" y="11099"/>
                  <a:pt x="17686" y="11187"/>
                </a:cubicBezTo>
                <a:cubicBezTo>
                  <a:pt x="17730" y="11229"/>
                  <a:pt x="17791" y="11252"/>
                  <a:pt x="17835" y="11212"/>
                </a:cubicBezTo>
                <a:cubicBezTo>
                  <a:pt x="17863" y="11183"/>
                  <a:pt x="17871" y="11170"/>
                  <a:pt x="17859" y="1113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80120" y="3751200"/>
            <a:ext cx="133200" cy="241200"/>
          </a:xfrm>
          <a:custGeom>
            <a:avLst/>
            <a:gdLst/>
            <a:ahLst/>
            <a:rect l="l" t="t" r="r" b="b"/>
            <a:pathLst>
              <a:path w="373" h="671">
                <a:moveTo>
                  <a:pt x="17537" y="10418"/>
                </a:moveTo>
                <a:cubicBezTo>
                  <a:pt x="17467" y="10508"/>
                  <a:pt x="17417" y="10611"/>
                  <a:pt x="17363" y="10716"/>
                </a:cubicBezTo>
                <a:cubicBezTo>
                  <a:pt x="17307" y="10825"/>
                  <a:pt x="17246" y="10930"/>
                  <a:pt x="17190" y="11038"/>
                </a:cubicBezTo>
                <a:cubicBezTo>
                  <a:pt x="17170" y="11079"/>
                  <a:pt x="17151" y="11095"/>
                  <a:pt x="17190" y="110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02240" y="3821040"/>
            <a:ext cx="152640" cy="9720"/>
          </a:xfrm>
          <a:custGeom>
            <a:avLst/>
            <a:gdLst/>
            <a:ahLst/>
            <a:rect l="l" t="t" r="r" b="b"/>
            <a:pathLst>
              <a:path w="423" h="26">
                <a:moveTo>
                  <a:pt x="17785" y="10641"/>
                </a:moveTo>
                <a:cubicBezTo>
                  <a:pt x="17922" y="10641"/>
                  <a:pt x="18079" y="10664"/>
                  <a:pt x="18207" y="1061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6880" y="3894120"/>
            <a:ext cx="125280" cy="34920"/>
          </a:xfrm>
          <a:custGeom>
            <a:avLst/>
            <a:gdLst/>
            <a:ahLst/>
            <a:rect l="l" t="t" r="r" b="b"/>
            <a:pathLst>
              <a:path w="348" h="100">
                <a:moveTo>
                  <a:pt x="17909" y="10914"/>
                </a:moveTo>
                <a:cubicBezTo>
                  <a:pt x="18072" y="10884"/>
                  <a:pt x="18119" y="10872"/>
                  <a:pt x="18256" y="1081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59720" y="3714840"/>
            <a:ext cx="19080" cy="303120"/>
          </a:xfrm>
          <a:custGeom>
            <a:avLst/>
            <a:gdLst/>
            <a:ahLst/>
            <a:rect l="l" t="t" r="r" b="b"/>
            <a:pathLst>
              <a:path w="51" h="844">
                <a:moveTo>
                  <a:pt x="18802" y="10319"/>
                </a:moveTo>
                <a:cubicBezTo>
                  <a:pt x="18796" y="10523"/>
                  <a:pt x="18739" y="10786"/>
                  <a:pt x="18777" y="10988"/>
                </a:cubicBezTo>
                <a:cubicBezTo>
                  <a:pt x="18788" y="11046"/>
                  <a:pt x="18815" y="11104"/>
                  <a:pt x="18827" y="1116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12000" y="3751200"/>
            <a:ext cx="204840" cy="17640"/>
          </a:xfrm>
          <a:custGeom>
            <a:avLst/>
            <a:gdLst/>
            <a:ahLst/>
            <a:rect l="l" t="t" r="r" b="b"/>
            <a:pathLst>
              <a:path w="571" h="51">
                <a:moveTo>
                  <a:pt x="19199" y="10443"/>
                </a:moveTo>
                <a:cubicBezTo>
                  <a:pt x="19339" y="10443"/>
                  <a:pt x="19462" y="10453"/>
                  <a:pt x="19596" y="10468"/>
                </a:cubicBezTo>
                <a:cubicBezTo>
                  <a:pt x="19671" y="10476"/>
                  <a:pt x="19706" y="10450"/>
                  <a:pt x="19769" y="104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75640" y="3776760"/>
            <a:ext cx="277560" cy="322200"/>
          </a:xfrm>
          <a:custGeom>
            <a:avLst/>
            <a:gdLst/>
            <a:ahLst/>
            <a:rect l="l" t="t" r="r" b="b"/>
            <a:pathLst>
              <a:path w="770" h="894">
                <a:moveTo>
                  <a:pt x="19298" y="10492"/>
                </a:moveTo>
                <a:cubicBezTo>
                  <a:pt x="19139" y="10758"/>
                  <a:pt x="19157" y="10626"/>
                  <a:pt x="19199" y="10765"/>
                </a:cubicBezTo>
                <a:cubicBezTo>
                  <a:pt x="19210" y="10803"/>
                  <a:pt x="19229" y="10790"/>
                  <a:pt x="19273" y="10790"/>
                </a:cubicBezTo>
                <a:cubicBezTo>
                  <a:pt x="19305" y="10790"/>
                  <a:pt x="19312" y="10760"/>
                  <a:pt x="19348" y="10740"/>
                </a:cubicBezTo>
                <a:cubicBezTo>
                  <a:pt x="19402" y="10709"/>
                  <a:pt x="19450" y="10716"/>
                  <a:pt x="19521" y="10716"/>
                </a:cubicBezTo>
                <a:cubicBezTo>
                  <a:pt x="19554" y="10716"/>
                  <a:pt x="19669" y="10773"/>
                  <a:pt x="19695" y="10790"/>
                </a:cubicBezTo>
                <a:cubicBezTo>
                  <a:pt x="19784" y="10850"/>
                  <a:pt x="19855" y="10955"/>
                  <a:pt x="19869" y="11063"/>
                </a:cubicBezTo>
                <a:cubicBezTo>
                  <a:pt x="19883" y="11173"/>
                  <a:pt x="19793" y="11265"/>
                  <a:pt x="19695" y="11311"/>
                </a:cubicBezTo>
                <a:cubicBezTo>
                  <a:pt x="19546" y="11380"/>
                  <a:pt x="19468" y="11378"/>
                  <a:pt x="19323" y="11361"/>
                </a:cubicBezTo>
                <a:cubicBezTo>
                  <a:pt x="19239" y="11351"/>
                  <a:pt x="19189" y="11346"/>
                  <a:pt x="19124" y="11286"/>
                </a:cubicBezTo>
                <a:cubicBezTo>
                  <a:pt x="19100" y="11286"/>
                  <a:pt x="19092" y="11286"/>
                  <a:pt x="19100" y="11261"/>
                </a:cubicBezTo>
                <a:cubicBezTo>
                  <a:pt x="19161" y="11261"/>
                  <a:pt x="19193" y="11259"/>
                  <a:pt x="19224" y="1123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80080" y="3394080"/>
            <a:ext cx="2071800" cy="1133640"/>
          </a:xfrm>
          <a:custGeom>
            <a:avLst/>
            <a:gdLst/>
            <a:ahLst/>
            <a:rect l="l" t="t" r="r" b="b"/>
            <a:pathLst>
              <a:path w="5755" h="3151">
                <a:moveTo>
                  <a:pt x="20513" y="10740"/>
                </a:moveTo>
                <a:cubicBezTo>
                  <a:pt x="20444" y="10606"/>
                  <a:pt x="20390" y="10493"/>
                  <a:pt x="20290" y="10368"/>
                </a:cubicBezTo>
                <a:cubicBezTo>
                  <a:pt x="20167" y="10215"/>
                  <a:pt x="19963" y="10068"/>
                  <a:pt x="19794" y="9971"/>
                </a:cubicBezTo>
                <a:cubicBezTo>
                  <a:pt x="19544" y="9828"/>
                  <a:pt x="19233" y="9728"/>
                  <a:pt x="18951" y="9674"/>
                </a:cubicBezTo>
                <a:cubicBezTo>
                  <a:pt x="18567" y="9600"/>
                  <a:pt x="18042" y="9566"/>
                  <a:pt x="17661" y="9674"/>
                </a:cubicBezTo>
                <a:cubicBezTo>
                  <a:pt x="17125" y="9825"/>
                  <a:pt x="16781" y="9964"/>
                  <a:pt x="16371" y="10294"/>
                </a:cubicBezTo>
                <a:cubicBezTo>
                  <a:pt x="16136" y="10483"/>
                  <a:pt x="15944" y="10701"/>
                  <a:pt x="15850" y="10988"/>
                </a:cubicBezTo>
                <a:cubicBezTo>
                  <a:pt x="15788" y="11176"/>
                  <a:pt x="15768" y="11289"/>
                  <a:pt x="15825" y="11485"/>
                </a:cubicBezTo>
                <a:cubicBezTo>
                  <a:pt x="15867" y="11632"/>
                  <a:pt x="16009" y="11811"/>
                  <a:pt x="16123" y="11906"/>
                </a:cubicBezTo>
                <a:cubicBezTo>
                  <a:pt x="16294" y="12048"/>
                  <a:pt x="16517" y="12141"/>
                  <a:pt x="16718" y="12229"/>
                </a:cubicBezTo>
                <a:cubicBezTo>
                  <a:pt x="16966" y="12337"/>
                  <a:pt x="17245" y="12408"/>
                  <a:pt x="17512" y="12452"/>
                </a:cubicBezTo>
                <a:cubicBezTo>
                  <a:pt x="17991" y="12530"/>
                  <a:pt x="18492" y="12561"/>
                  <a:pt x="18976" y="12576"/>
                </a:cubicBezTo>
                <a:cubicBezTo>
                  <a:pt x="19329" y="12587"/>
                  <a:pt x="19690" y="12576"/>
                  <a:pt x="20042" y="12551"/>
                </a:cubicBezTo>
                <a:cubicBezTo>
                  <a:pt x="20340" y="12530"/>
                  <a:pt x="20645" y="12469"/>
                  <a:pt x="20935" y="12402"/>
                </a:cubicBezTo>
                <a:cubicBezTo>
                  <a:pt x="21141" y="12354"/>
                  <a:pt x="21436" y="12319"/>
                  <a:pt x="21506" y="12080"/>
                </a:cubicBezTo>
                <a:cubicBezTo>
                  <a:pt x="21573" y="11852"/>
                  <a:pt x="21478" y="11575"/>
                  <a:pt x="21406" y="11361"/>
                </a:cubicBezTo>
                <a:cubicBezTo>
                  <a:pt x="21118" y="10499"/>
                  <a:pt x="20410" y="9926"/>
                  <a:pt x="19571" y="9624"/>
                </a:cubicBezTo>
                <a:cubicBezTo>
                  <a:pt x="18926" y="9392"/>
                  <a:pt x="18330" y="9426"/>
                  <a:pt x="17661" y="94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14:25:09Z</dcterms:created>
  <dc:creator>abeason</dc:creator>
  <dc:description/>
  <dc:language>en-US</dc:language>
  <cp:lastModifiedBy>abeason</cp:lastModifiedBy>
  <dcterms:modified xsi:type="dcterms:W3CDTF">2009-06-08T14:25:21Z</dcterms:modified>
  <cp:revision>2</cp:revision>
  <dc:subject/>
  <dc:title>Slide 1</dc:title>
</cp:coreProperties>
</file>